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2680" y="4050720"/>
            <a:ext cx="842004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2680" y="405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7280" y="405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271116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9920" y="1980720"/>
            <a:ext cx="271116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6800" y="1980720"/>
            <a:ext cx="271116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2680" y="4050720"/>
            <a:ext cx="271116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9920" y="4050720"/>
            <a:ext cx="271116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6800" y="4050720"/>
            <a:ext cx="271116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2680" y="19807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962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962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3962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2680" y="405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3962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7280" y="405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980720"/>
            <a:ext cx="410868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2680" y="4050720"/>
            <a:ext cx="8420040" cy="1890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i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07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4400" indent="-247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92160" indent="-19836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389240" indent="-1987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85960" indent="-1983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85960" indent="-1983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85960" indent="-19836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495360" y="6248520"/>
            <a:ext cx="6286320" cy="304560"/>
          </a:xfrm>
          <a:prstGeom prst="parallelogram">
            <a:avLst>
              <a:gd name="adj" fmla="val 33350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81680" y="6248520"/>
            <a:ext cx="389160" cy="304560"/>
          </a:xfrm>
          <a:prstGeom prst="parallelogram">
            <a:avLst>
              <a:gd name="adj" fmla="val 3285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162920" y="6248520"/>
            <a:ext cx="2057400" cy="304560"/>
          </a:xfrm>
          <a:prstGeom prst="parallelogram">
            <a:avLst>
              <a:gd name="adj" fmla="val 3337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0480" y="6257880"/>
            <a:ext cx="2228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Interpreter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10520" y="6291360"/>
            <a:ext cx="18000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Tahoma"/>
              </a:rPr>
              <a:t>Günter Obiltschnig, © 199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60240" y="898560"/>
            <a:ext cx="8502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2687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4300" spc="-1" strike="noStrike">
                <a:solidFill>
                  <a:srgbClr val="000000"/>
                </a:solidFill>
                <a:latin typeface="Tahoma"/>
              </a:rPr>
              <a:t>An Object-Oriented Interpreter Framework for the Oberon-2 Programming Langu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3160" y="3886200"/>
            <a:ext cx="7759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ahoma"/>
              </a:rPr>
              <a:t>Günter Obiltschn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4648320"/>
            <a:ext cx="817272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ahoma"/>
              </a:rPr>
              <a:t>Diploma Thesis</a:t>
            </a:r>
            <a:br>
              <a:rPr sz="1900"/>
            </a:b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Institute for Practical Computer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(System Softwa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Johannes Kepler Universität Li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66680"/>
            <a:ext cx="609840" cy="6098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46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1" i="1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8420040" cy="358128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7000" indent="-297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OberonScript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a scripting language for the Oberon Web browser (comparable to JavaScript or VBScript)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gram analysis &amp; QA tools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ode coverage analysis, program slicing, ...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buggers</a:t>
            </a: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ebugging optimized code</a:t>
            </a:r>
            <a:endParaRPr b="1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066680"/>
            <a:ext cx="609840" cy="6098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4600" spc="-1" strike="noStrike">
                <a:solidFill>
                  <a:srgbClr val="000000"/>
                </a:solidFill>
                <a:latin typeface="Tahoma"/>
              </a:rPr>
              <a:t>OberonScript</a:t>
            </a:r>
            <a:endParaRPr b="1" i="1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tends the Oberon Web browser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mall programs or program fragments (scripts) can be embedded into HTML code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cripts are executed by the browser while the page is rendered on the screen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cripts can access form items and define handler procedures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 Security Manager is required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1066680"/>
            <a:ext cx="609840" cy="6098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4600" spc="-1" strike="noStrike">
                <a:solidFill>
                  <a:srgbClr val="000000"/>
                </a:solidFill>
                <a:latin typeface="Tahoma"/>
              </a:rPr>
              <a:t>OberonScript Example</a:t>
            </a:r>
            <a:endParaRPr b="1" i="1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905120"/>
            <a:ext cx="79250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HTML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HEAD&gt;&lt;TITLE&gt;OberonScript Example&lt;/TITLE&gt;&lt;/HEAD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BODY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SCRIPT LANGUAGE=“OberonScript”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3366ff"/>
                </a:solidFill>
                <a:latin typeface="Lucida Console"/>
              </a:rPr>
              <a:t>IMPORT Doc := WebDocument, Out;</a:t>
            </a:r>
            <a:br>
              <a:rPr sz="1400"/>
            </a:br>
            <a:r>
              <a:rPr b="0" lang="en-US" sz="1400" spc="-1" strike="noStrike">
                <a:solidFill>
                  <a:srgbClr val="3366ff"/>
                </a:solidFill>
                <a:latin typeface="Lucida Console"/>
              </a:rPr>
              <a:t>  PROCEDURE Print*;</a:t>
            </a:r>
            <a:br>
              <a:rPr sz="1400"/>
            </a:br>
            <a:r>
              <a:rPr b="0" lang="en-US" sz="1400" spc="-1" strike="noStrike">
                <a:solidFill>
                  <a:srgbClr val="3366ff"/>
                </a:solidFill>
                <a:latin typeface="Lucida Console"/>
              </a:rPr>
              <a:t>    VAR s: Doc.String;</a:t>
            </a:r>
            <a:br>
              <a:rPr sz="1400"/>
            </a:br>
            <a:r>
              <a:rPr b="0" lang="en-US" sz="1400" spc="-1" strike="noStrike">
                <a:solidFill>
                  <a:srgbClr val="3366ff"/>
                </a:solidFill>
                <a:latin typeface="Lucida Console"/>
              </a:rPr>
              <a:t>  BEGIN</a:t>
            </a:r>
            <a:br>
              <a:rPr sz="1400"/>
            </a:br>
            <a:r>
              <a:rPr b="0" lang="en-US" sz="1400" spc="-1" strike="noStrike">
                <a:solidFill>
                  <a:srgbClr val="3366ff"/>
                </a:solidFill>
                <a:latin typeface="Lucida Console"/>
              </a:rPr>
              <a:t>    Doc.GetValue(Doc.ThisText(Doc.ThisForm(0), “aText”), s);</a:t>
            </a:r>
            <a:br>
              <a:rPr sz="1400"/>
            </a:br>
            <a:r>
              <a:rPr b="0" lang="en-US" sz="1400" spc="-1" strike="noStrike">
                <a:solidFill>
                  <a:srgbClr val="3366ff"/>
                </a:solidFill>
                <a:latin typeface="Lucida Console"/>
              </a:rPr>
              <a:t>    Out.String(s); Out.Ln</a:t>
            </a:r>
            <a:br>
              <a:rPr sz="1400"/>
            </a:br>
            <a:r>
              <a:rPr b="0" lang="en-US" sz="1400" spc="-1" strike="noStrike">
                <a:solidFill>
                  <a:srgbClr val="3366ff"/>
                </a:solidFill>
                <a:latin typeface="Lucida Console"/>
              </a:rPr>
              <a:t>  END Print;</a:t>
            </a:r>
            <a:br>
              <a:rPr sz="1400"/>
            </a:br>
            <a:r>
              <a:rPr b="0" lang="en-US" sz="1400" spc="-1" strike="noStrike">
                <a:solidFill>
                  <a:srgbClr val="3366ff"/>
                </a:solidFill>
                <a:latin typeface="Lucida Console"/>
              </a:rPr>
              <a:t>  END SCRIPT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/SCRIP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FORM METHOD=GET ACTION=“”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&lt;INPUT TYPE=TEXT NAME=“aText”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&lt;A HREF=“oberon:Print”&gt;Print It!&lt;/A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/FORM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/BODY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&lt;/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1066680"/>
            <a:ext cx="609840" cy="6098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4600" spc="-1" strike="noStrike">
                <a:solidFill>
                  <a:srgbClr val="000000"/>
                </a:solidFill>
                <a:latin typeface="Tahoma"/>
              </a:rPr>
              <a:t>Code Coverage Analysis</a:t>
            </a:r>
            <a:endParaRPr b="1" i="1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Coverage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4014720" cy="3430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8680" y="3886200"/>
            <a:ext cx="33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rogram branches never reached during program execution are detected and highlighted in the 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1066680"/>
            <a:ext cx="609840" cy="6098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4600" spc="-1" strike="noStrike">
                <a:solidFill>
                  <a:srgbClr val="000000"/>
                </a:solidFill>
                <a:latin typeface="Tahoma"/>
              </a:rPr>
              <a:t>The Framework</a:t>
            </a:r>
            <a:endParaRPr b="1" i="1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Classes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2025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1066680"/>
            <a:ext cx="609840" cy="6098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4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1" i="1" lang="en-US" sz="4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tree" descr=""/>
          <p:cNvPicPr/>
          <p:nvPr/>
        </p:nvPicPr>
        <p:blipFill>
          <a:blip r:embed="rId1"/>
          <a:stretch/>
        </p:blipFill>
        <p:spPr>
          <a:xfrm>
            <a:off x="1752480" y="1919160"/>
            <a:ext cx="924120" cy="808200"/>
          </a:xfrm>
          <a:prstGeom prst="rect">
            <a:avLst/>
          </a:prstGeom>
          <a:ln w="0">
            <a:noFill/>
          </a:ln>
        </p:spPr>
      </p:pic>
      <p:pic>
        <p:nvPicPr>
          <p:cNvPr id="65" name="grid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6177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tree" descr=""/>
          <p:cNvPicPr/>
          <p:nvPr/>
        </p:nvPicPr>
        <p:blipFill>
          <a:blip r:embed="rId3"/>
          <a:stretch/>
        </p:blipFill>
        <p:spPr>
          <a:xfrm>
            <a:off x="6991200" y="1919160"/>
            <a:ext cx="924120" cy="808200"/>
          </a:xfrm>
          <a:prstGeom prst="rect">
            <a:avLst/>
          </a:prstGeom>
          <a:ln w="0">
            <a:noFill/>
          </a:ln>
        </p:spPr>
      </p:pic>
      <p:pic>
        <p:nvPicPr>
          <p:cNvPr id="67" name="grid" descr=""/>
          <p:cNvPicPr/>
          <p:nvPr/>
        </p:nvPicPr>
        <p:blipFill>
          <a:blip r:embed="rId4"/>
          <a:stretch/>
        </p:blipFill>
        <p:spPr>
          <a:xfrm>
            <a:off x="4648320" y="4572000"/>
            <a:ext cx="61740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grid" descr=""/>
          <p:cNvPicPr/>
          <p:nvPr/>
        </p:nvPicPr>
        <p:blipFill>
          <a:blip r:embed="rId5"/>
          <a:stretch/>
        </p:blipFill>
        <p:spPr>
          <a:xfrm>
            <a:off x="7010280" y="4572000"/>
            <a:ext cx="617760" cy="990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441080" y="28335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66920" y="283356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yntax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0120" y="55627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12000" y="556272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Global V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59160" y="55497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1320" y="3429000"/>
            <a:ext cx="221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3505320"/>
            <a:ext cx="26672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895480" y="4038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3800" y="4038480"/>
            <a:ext cx="190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324480" y="40384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32004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324120" y="3200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1066680"/>
            <a:ext cx="609840" cy="609840"/>
          </a:xfrm>
          <a:prstGeom prst="ellips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ctr">
            <a:noAutofit/>
          </a:bodyPr>
          <a:p>
            <a:pPr indent="0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4600" spc="-1" strike="noStrike">
                <a:solidFill>
                  <a:srgbClr val="000000"/>
                </a:solidFill>
                <a:latin typeface="Tahoma"/>
              </a:rPr>
              <a:t>Implementation </a:t>
            </a:r>
            <a:r>
              <a:rPr b="1" i="1" lang="en-US" sz="3400" spc="-1" strike="noStrike">
                <a:solidFill>
                  <a:srgbClr val="000000"/>
                </a:solidFill>
                <a:latin typeface="Tahoma"/>
              </a:rPr>
              <a:t>(cont’d.)</a:t>
            </a:r>
            <a:endParaRPr b="1" i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980720"/>
            <a:ext cx="8553240" cy="3962520"/>
          </a:xfrm>
          <a:prstGeom prst="rect">
            <a:avLst/>
          </a:prstGeom>
          <a:noFill/>
          <a:ln w="0">
            <a:noFill/>
          </a:ln>
        </p:spPr>
        <p:txBody>
          <a:bodyPr lIns="79200" rIns="79200" tIns="39600" bIns="39600" anchor="t">
            <a:normAutofit/>
          </a:bodyPr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Uses the front-end of the portable Oberon-2 compiler to generate syntax tree and symbol table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llows “mixed-mode” execution of compiled and interpreted program parts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ortable across different implementations of Oberon-System V4</a:t>
            </a:r>
            <a:endParaRPr b="1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2T19:32:08Z</dcterms:created>
  <dc:creator>Günter Obiltschnig</dc:creator>
  <dc:description/>
  <dc:language>en-US</dc:language>
  <cp:lastModifiedBy>Günter Obiltschnig</cp:lastModifiedBy>
  <cp:lastPrinted>1998-12-13T21:12:45Z</cp:lastPrinted>
  <dcterms:modified xsi:type="dcterms:W3CDTF">1999-01-17T09:50:55Z</dcterms:modified>
  <cp:revision>1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guenter.obiltschnig@csl.at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P:\Private\Diploma Thesis\html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