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4F5-8886-40BC-9922-5F2F2214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08C-6A2E-4C9A-BB95-462BC2AB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644-33FA-465E-8091-38ED46D0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9B0-3E27-4F32-9B9B-44FF9F7D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F72-8BC5-4228-9204-C700B3D1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8EB-1DD4-442B-9614-5AC24F05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04D-9DA2-48C0-A876-B07B9B7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5EB-D6C1-4DE3-94FD-DFE77E1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6858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4FE-2581-45B7-BA9A-39C29B80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0AB-881F-4EDA-B3A5-B9DBCF23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7EF-8852-4018-AB2E-86EAF03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2C7-7EA0-4EC1-8F87-80BCB03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098-8EB1-4F82-8FCE-73563A633D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560" y="533520"/>
            <a:ext cx="83664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6560" y="299736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4240" y="1149480"/>
            <a:ext cx="627228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de-AT" sz="3200" spc="-1" strike="noStrike">
                <a:solidFill>
                  <a:srgbClr val="ff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5520" y="1755720"/>
            <a:ext cx="303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anspeter Mössenbö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University of Li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68E-12E1-497C-A4B3-A2024E00E0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co/R -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Compiler Compiler /</a:t>
            </a: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Recursive Descent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2360" y="1598760"/>
            <a:ext cx="6906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enerates a scanner and a parser from an attributed gramma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as a deterministic finite automaton (DFA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cursive descent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veloped at the University of Linz (Aust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re are versions for C#, Java, C/C++, VB.NET, Delphi, Modula-2, Oberon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nu GPL open source: 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2160" y="1206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22160" y="3517920"/>
            <a:ext cx="7158960" cy="2585520"/>
            <a:chOff x="722160" y="3517920"/>
            <a:chExt cx="7158960" cy="2585520"/>
          </a:xfrm>
        </p:grpSpPr>
        <p:sp>
          <p:nvSpPr>
            <p:cNvPr id="257" name=""/>
            <p:cNvSpPr/>
            <p:nvPr/>
          </p:nvSpPr>
          <p:spPr>
            <a:xfrm>
              <a:off x="3924360" y="5232240"/>
              <a:ext cx="86364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38760" y="4597560"/>
              <a:ext cx="8636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2160" y="35179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How it wo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2800" y="4595760"/>
              <a:ext cx="8024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0000" y="4749840"/>
              <a:ext cx="406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45600" y="52308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51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78360" y="5232240"/>
              <a:ext cx="8636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1480" y="45957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76280" y="40114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38760" y="4013280"/>
              <a:ext cx="8636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49276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422240" y="4915080"/>
              <a:ext cx="5050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320" y="4927680"/>
              <a:ext cx="46188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434340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65640" y="4749840"/>
              <a:ext cx="13208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65640" y="4826160"/>
              <a:ext cx="19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56080" y="4826160"/>
              <a:ext cx="0" cy="546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56080" y="5372280"/>
              <a:ext cx="291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29040" y="5522760"/>
              <a:ext cx="18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-suppli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e.g. symbol ta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07240" y="4000680"/>
              <a:ext cx="88920" cy="156204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40680 h 1562040"/>
                <a:gd name="textAreaBottom" fmla="*/ 152136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48440" y="47750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41200" y="4595760"/>
              <a:ext cx="439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3680" y="4443480"/>
              <a:ext cx="95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t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am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CE1-5023-4A89-9CB6-5F8A1B4E21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Very Simple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3720" y="1333440"/>
            <a:ext cx="66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ssume that we want to parse one of the following two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5240" y="1749600"/>
            <a:ext cx="2995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ed 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93000" y="4280040"/>
            <a:ext cx="5427720" cy="1589760"/>
            <a:chOff x="693000" y="4280040"/>
            <a:chExt cx="5427720" cy="1589760"/>
          </a:xfrm>
        </p:grpSpPr>
        <p:sp>
          <p:nvSpPr>
            <p:cNvPr id="285" name=""/>
            <p:cNvSpPr/>
            <p:nvPr/>
          </p:nvSpPr>
          <p:spPr>
            <a:xfrm>
              <a:off x="693000" y="4280040"/>
              <a:ext cx="542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invoke Coco/R to generate a scanner and a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2640" y="4710240"/>
              <a:ext cx="4417920" cy="115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oco/R (Aug 22, 200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he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parser + scanner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065240" y="2117880"/>
            <a:ext cx="2995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93360" y="2577960"/>
            <a:ext cx="3420000" cy="1254960"/>
            <a:chOff x="693360" y="2577960"/>
            <a:chExt cx="3420000" cy="1254960"/>
          </a:xfrm>
        </p:grpSpPr>
        <p:sp>
          <p:nvSpPr>
            <p:cNvPr id="289" name=""/>
            <p:cNvSpPr/>
            <p:nvPr/>
          </p:nvSpPr>
          <p:spPr>
            <a:xfrm>
              <a:off x="693360" y="2577960"/>
              <a:ext cx="24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e write a grammar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55520" y="3525840"/>
              <a:ext cx="30578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"red" "apple" | "orang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55520" y="2577960"/>
            <a:ext cx="6909480" cy="1465560"/>
            <a:chOff x="1055520" y="2577960"/>
            <a:chExt cx="6909480" cy="1465560"/>
          </a:xfrm>
        </p:grpSpPr>
        <p:sp>
          <p:nvSpPr>
            <p:cNvPr id="292" name=""/>
            <p:cNvSpPr/>
            <p:nvPr/>
          </p:nvSpPr>
          <p:spPr>
            <a:xfrm>
              <a:off x="1055520" y="3097080"/>
              <a:ext cx="305784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"red" "apple" | "orang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15880" y="308448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6320" y="2577960"/>
              <a:ext cx="491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and embed it into a Coco/R compiler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C94-587D-4E37-820A-C91C581F24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Very Simple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7440" y="119376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We write a mai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1000" y="1662120"/>
            <a:ext cx="4946040" cy="214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mp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[] arg) 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 scanner = new Scanner(arg[0]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 parser = new Parser(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(parser.errors.count + " errors det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66720" y="3797280"/>
            <a:ext cx="4803840" cy="699120"/>
            <a:chOff x="666720" y="3797280"/>
            <a:chExt cx="4803840" cy="699120"/>
          </a:xfrm>
        </p:grpSpPr>
        <p:sp>
          <p:nvSpPr>
            <p:cNvPr id="299" name=""/>
            <p:cNvSpPr/>
            <p:nvPr/>
          </p:nvSpPr>
          <p:spPr>
            <a:xfrm>
              <a:off x="666720" y="3797280"/>
              <a:ext cx="25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We compile everything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2640" y="4189320"/>
              <a:ext cx="44179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68520" y="4838760"/>
            <a:ext cx="6435000" cy="912240"/>
            <a:chOff x="668520" y="4838760"/>
            <a:chExt cx="6435000" cy="912240"/>
          </a:xfrm>
        </p:grpSpPr>
        <p:sp>
          <p:nvSpPr>
            <p:cNvPr id="302" name=""/>
            <p:cNvSpPr/>
            <p:nvPr/>
          </p:nvSpPr>
          <p:spPr>
            <a:xfrm>
              <a:off x="668520" y="483876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... and run 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2640" y="5230800"/>
              <a:ext cx="4417920" cy="5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28560" y="5230800"/>
              <a:ext cx="9244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d ap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87512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138000" y="1967040"/>
            <a:ext cx="2256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the 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reate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rt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port number of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328-DA43-47AC-B7D2-9C079BF59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819680" y="1809720"/>
            <a:ext cx="2047680" cy="561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5160" y="1289160"/>
            <a:ext cx="3493800" cy="514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.kind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ect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if (la.kind == 3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 SynErr(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  //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a = Scanner.Scan();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ec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la.kind == n) Get(); else SynErr(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38160" y="1362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75760" y="1808280"/>
            <a:ext cx="212616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424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d"  "appl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1424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orange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91120" y="1657440"/>
            <a:ext cx="181080" cy="180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9400" y="147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581880" y="1657440"/>
            <a:ext cx="180720" cy="180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70160" y="147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990760" y="2371320"/>
            <a:ext cx="181080" cy="181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9400" y="249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66080" y="1360440"/>
            <a:ext cx="1888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oken c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turned by the sc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978-0B9F-44E2-B53B-76F93CA733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Slightly Larger 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3680" y="120636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arse simple arithmetic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5240" y="1622520"/>
            <a:ext cx="23860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alc  34 + 2 +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calc  2 + 10 + 123 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44400" y="2463840"/>
            <a:ext cx="4323240" cy="3201840"/>
            <a:chOff x="644400" y="2463840"/>
            <a:chExt cx="4323240" cy="3201840"/>
          </a:xfrm>
        </p:grpSpPr>
        <p:sp>
          <p:nvSpPr>
            <p:cNvPr id="323" name=""/>
            <p:cNvSpPr/>
            <p:nvPr/>
          </p:nvSpPr>
          <p:spPr>
            <a:xfrm>
              <a:off x="644400" y="2463840"/>
              <a:ext cx="297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co/R compiler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400" y="2894040"/>
              <a:ext cx="2212200" cy="27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= '0'..'9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GNORE '\r' + '\n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{"calc" Expr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 = Term {'+' Term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= numb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7160" y="2881440"/>
              <a:ext cx="14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029960" y="5815080"/>
            <a:ext cx="7148160" cy="784080"/>
            <a:chOff x="1029960" y="5815080"/>
            <a:chExt cx="7148160" cy="784080"/>
          </a:xfrm>
        </p:grpSpPr>
        <p:sp>
          <p:nvSpPr>
            <p:cNvPr id="327" name=""/>
            <p:cNvSpPr/>
            <p:nvPr/>
          </p:nvSpPr>
          <p:spPr>
            <a:xfrm>
              <a:off x="4501440" y="5815080"/>
              <a:ext cx="367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enerated scanner and parser wi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heck the syntactic correctness of th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9960" y="5865840"/>
              <a:ext cx="34390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671-2E24-456A-85DA-996A32A45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Now we add Semantic Process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6600" y="1281240"/>
            <a:ext cx="4381920" cy="419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alc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/*---------------------------------------------------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+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n + n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808080"/>
                </a:solidFill>
                <a:latin typeface="Arial"/>
              </a:rPr>
              <a:t>/*-------------------------------------------------------------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Convert.Int32(t.val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S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95560" y="4711680"/>
            <a:ext cx="0" cy="105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99160" y="5738760"/>
            <a:ext cx="18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imilar to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f the symb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68960" y="4965840"/>
            <a:ext cx="0" cy="7999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3040" y="5713560"/>
            <a:ext cx="213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ordinary C#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xecuted during par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58760" y="250200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is is called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attributed gramma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9B9-4DAF-4583-9882-6BAEFC5887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5800" y="1425600"/>
            <a:ext cx="2693880" cy="501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lass Pars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2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Console.WriteLine(n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in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1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la.kind == 3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n1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n + n1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out int n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ect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Convert.ToInt32(t.val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64760" y="29750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oke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99320" y="3379680"/>
            <a:ext cx="113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 ...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 ... "cal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 ... '+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9640" y="4659480"/>
            <a:ext cx="4672080" cy="1531440"/>
            <a:chOff x="4049640" y="4659480"/>
            <a:chExt cx="4672080" cy="1531440"/>
          </a:xfrm>
        </p:grpSpPr>
        <p:sp>
          <p:nvSpPr>
            <p:cNvPr id="341" name=""/>
            <p:cNvSpPr/>
            <p:nvPr/>
          </p:nvSpPr>
          <p:spPr>
            <a:xfrm>
              <a:off x="4052520" y="4659480"/>
              <a:ext cx="34390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sc Compile.cs Scanner.cs Parse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mpile Input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9640" y="5610240"/>
              <a:ext cx="23860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alc 1 + 2 +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calc 100 + 10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51840" y="5610240"/>
              <a:ext cx="569880" cy="580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2840" y="572616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02320" y="5905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21640" y="5905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102200" y="1468440"/>
            <a:ext cx="366408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cal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5E0-AE9B-4955-AC23-3980D9461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Compiler Descrip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2760" y="1812960"/>
            <a:ext cx="2562840" cy="168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600" spc="-1" strike="noStrike">
                <a:solidFill>
                  <a:srgbClr val="3333cc"/>
                </a:solidFill>
                <a:latin typeface="Arial"/>
              </a:rPr>
              <a:t>UsingClause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"COMPILER" 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600" spc="-1" strike="noStrike">
                <a:solidFill>
                  <a:srgbClr val="3333cc"/>
                </a:solidFill>
                <a:latin typeface="Arial"/>
              </a:rPr>
              <a:t>GlobalFieldsAndMethods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Scanner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Parser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"END" ident "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10160" y="1434960"/>
            <a:ext cx="2336760" cy="49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787" y="23815"/>
                </a:moveTo>
                <a:lnTo>
                  <a:pt x="-704" y="4985"/>
                </a:lnTo>
              </a:path>
              <a:path w="21600" h="21600">
                <a:moveTo>
                  <a:pt x="-704" y="0"/>
                </a:moveTo>
                <a:lnTo>
                  <a:pt x="-70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.Collectio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2502000"/>
            <a:ext cx="2336760" cy="100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13" y="547"/>
                </a:moveTo>
                <a:lnTo>
                  <a:pt x="-704" y="2461"/>
                </a:lnTo>
              </a:path>
              <a:path w="21600" h="21600">
                <a:moveTo>
                  <a:pt x="-704" y="0"/>
                </a:moveTo>
                <a:lnTo>
                  <a:pt x="-70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Add(int x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sum +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76680" y="4317840"/>
            <a:ext cx="79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denotes the start symbol of the grammar (i.e. the topmost nonterminal symb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982-2E6E-4D0E-A5F1-5B13FB58A1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36560" y="36702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5D4-C372-4FF7-BDE8-C2B943B5900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Scann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1760" y="1596960"/>
            <a:ext cx="2949840" cy="271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cannerSpecificatio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IGNORECASE"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CHARACTERS" {Set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TOKENS" {Token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["PRAGMAS" {PragmaDecl}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{CommentDecl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{WhiteSpaceDecl}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02200" y="1701720"/>
            <a:ext cx="4216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06" y="27000"/>
                </a:moveTo>
                <a:lnTo>
                  <a:pt x="-390" y="8100"/>
                </a:lnTo>
              </a:path>
              <a:path w="21600" h="21600">
                <a:moveTo>
                  <a:pt x="-390" y="0"/>
                </a:moveTo>
                <a:lnTo>
                  <a:pt x="-39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ould the generated compiler be case-sensitiv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02200" y="2184480"/>
            <a:ext cx="487656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50" y="198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haracter sets are used in the token declar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02200" y="2679840"/>
            <a:ext cx="4876560" cy="55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94" y="8836"/>
                </a:moveTo>
                <a:lnTo>
                  <a:pt x="-338" y="4418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one has to declare all structured 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i.e. terminal symbols)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02200" y="3403440"/>
            <a:ext cx="48765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69" y="-18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agmas are tokens which are not part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02200" y="3860640"/>
            <a:ext cx="4876560" cy="57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38" y="-5760"/>
                </a:moveTo>
                <a:lnTo>
                  <a:pt x="-338" y="432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ere one can declare one or several kinds of com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the language to be comp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02200" y="4584600"/>
            <a:ext cx="48765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06" y="-33300"/>
                </a:moveTo>
                <a:lnTo>
                  <a:pt x="-338" y="8100"/>
                </a:lnTo>
              </a:path>
              <a:path w="21600" h="21600">
                <a:moveTo>
                  <a:pt x="-338" y="0"/>
                </a:moveTo>
                <a:lnTo>
                  <a:pt x="-33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ich characters should be ignored (e.g. \t, \n, \r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EBF-3856-4C07-A126-93C00DD2C8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ation Pha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1040" y="1371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character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4040" y="1736640"/>
            <a:ext cx="29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2908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790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5356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952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14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09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736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38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0156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00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62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87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2520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24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8636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48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10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588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53920" y="1447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34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7560" y="144792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9600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05764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6424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87520" y="1447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4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386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48320" y="16711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1880" y="1447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70680" y="1854360"/>
            <a:ext cx="7503480" cy="1961280"/>
            <a:chOff x="670680" y="1854360"/>
            <a:chExt cx="7503480" cy="1961280"/>
          </a:xfrm>
        </p:grpSpPr>
        <p:sp>
          <p:nvSpPr>
            <p:cNvPr id="81" name=""/>
            <p:cNvSpPr/>
            <p:nvPr/>
          </p:nvSpPr>
          <p:spPr>
            <a:xfrm>
              <a:off x="2425680" y="224784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16560" y="2260440"/>
              <a:ext cx="26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lexical analysis (scann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73600" y="185436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680" y="3048120"/>
              <a:ext cx="13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toke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328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92240" y="3097080"/>
              <a:ext cx="64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assig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68320" y="3097080"/>
              <a:ext cx="7387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nu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6640" y="3097080"/>
              <a:ext cx="58032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t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01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val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59480" y="3097080"/>
              <a:ext cx="4917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pl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00560" y="3097080"/>
              <a:ext cx="551160" cy="661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(id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i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502320" y="322596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0240" y="305928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3600" y="271764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02320" y="3645000"/>
              <a:ext cx="355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9880" y="347832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70320" y="3809880"/>
            <a:ext cx="4917600" cy="2769480"/>
            <a:chOff x="670320" y="3809880"/>
            <a:chExt cx="4917600" cy="2769480"/>
          </a:xfrm>
        </p:grpSpPr>
        <p:sp>
          <p:nvSpPr>
            <p:cNvPr id="98" name=""/>
            <p:cNvSpPr/>
            <p:nvPr/>
          </p:nvSpPr>
          <p:spPr>
            <a:xfrm>
              <a:off x="3873600" y="3809880"/>
              <a:ext cx="203040" cy="343080"/>
            </a:xfrm>
            <a:prstGeom prst="downArrow">
              <a:avLst>
                <a:gd name="adj1" fmla="val 50000"/>
                <a:gd name="adj2" fmla="val 422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3600" y="4660920"/>
              <a:ext cx="203040" cy="342720"/>
            </a:xfrm>
            <a:prstGeom prst="downArrow">
              <a:avLst>
                <a:gd name="adj1" fmla="val 50000"/>
                <a:gd name="adj2" fmla="val 421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25680" y="4191120"/>
              <a:ext cx="316224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55800" y="419112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syntax analysis (pars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320" y="523224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syntax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23920" y="6272280"/>
              <a:ext cx="236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ident = number * ident +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9600" y="582768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e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72080" y="615960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2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03720" y="6095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83080" y="615960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5791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57913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57913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37240" y="5702400"/>
              <a:ext cx="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10120" y="544680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37240" y="540972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87800" y="54100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780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67160" y="5410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3696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88400" y="504036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47B-297C-46A3-9225-6902FB47D733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haracter Se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9560" y="1295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85680" y="1700280"/>
            <a:ext cx="2718360" cy="148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"0123456789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x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digit + "ABCDEF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'A' .. 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'\r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904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oDig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ANY - dig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72080" y="1916280"/>
            <a:ext cx="266652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hexadecimal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set of all upper-case let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he end-of-line charac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ny character that is not a 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90120" y="3848040"/>
            <a:ext cx="6592680" cy="1302120"/>
            <a:chOff x="690120" y="3848040"/>
            <a:chExt cx="6592680" cy="1302120"/>
          </a:xfrm>
        </p:grpSpPr>
        <p:sp>
          <p:nvSpPr>
            <p:cNvPr id="369" name=""/>
            <p:cNvSpPr/>
            <p:nvPr/>
          </p:nvSpPr>
          <p:spPr>
            <a:xfrm>
              <a:off x="690120" y="3848040"/>
              <a:ext cx="544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Valid escape sequences in character constants and str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69480" y="4203720"/>
              <a:ext cx="6313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\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ackslash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rriage retur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orm f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postroph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ew lin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uot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orizontal t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ack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2006640"/>
                  <a:tab algn="l" pos="2286000"/>
                  <a:tab algn="l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0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ll charact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v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ertical tab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\uxxx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 character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5D3-A78F-4240-8F1F-181FC09CF2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oken Decla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9120" y="1244520"/>
            <a:ext cx="5586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fine the structure of </a:t>
            </a:r>
            <a:r>
              <a:rPr b="1" i="1" lang="de-AT" sz="1800" spc="-1" strike="noStrike">
                <a:solidFill>
                  <a:srgbClr val="000000"/>
                </a:solidFill>
                <a:latin typeface="Times New Roman"/>
              </a:rPr>
              <a:t>token classes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ident, numbe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iterals such as "while" or "&gt;=" don't have to be decl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71400" y="2222640"/>
            <a:ext cx="5117400" cy="1692000"/>
            <a:chOff x="671400" y="2222640"/>
            <a:chExt cx="5117400" cy="1692000"/>
          </a:xfrm>
        </p:grpSpPr>
        <p:sp>
          <p:nvSpPr>
            <p:cNvPr id="374" name=""/>
            <p:cNvSpPr/>
            <p:nvPr/>
          </p:nvSpPr>
          <p:spPr>
            <a:xfrm>
              <a:off x="671400" y="222264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960" y="2665800"/>
              <a:ext cx="5046840" cy="1248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etter {letter | digit | '_'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0x" hexDigit hexDigit hexDigit hexDig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floa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'.' digit {digit} ['E' ['+' | '-'] digit {digit}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018840" y="2728800"/>
            <a:ext cx="2762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must b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regular EBN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ames on the right-hand side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enote character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47240" y="3174840"/>
            <a:ext cx="2670840" cy="1455480"/>
            <a:chOff x="1047240" y="3174840"/>
            <a:chExt cx="2670840" cy="1455480"/>
          </a:xfrm>
        </p:grpSpPr>
        <p:sp>
          <p:nvSpPr>
            <p:cNvPr id="378" name=""/>
            <p:cNvSpPr/>
            <p:nvPr/>
          </p:nvSpPr>
          <p:spPr>
            <a:xfrm>
              <a:off x="1047240" y="4049640"/>
              <a:ext cx="26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problem if alternatives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th the same charac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79560" y="3174840"/>
              <a:ext cx="507960" cy="50796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790280" y="3657600"/>
              <a:ext cx="203400" cy="406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80B-709E-439E-9B6D-22CF38D5E6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iteral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7400" y="133344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iteral tokens can be used without decl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4720" y="1878120"/>
            <a:ext cx="222444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whil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05960" y="3441600"/>
            <a:ext cx="3306600" cy="1841040"/>
            <a:chOff x="705960" y="3441600"/>
            <a:chExt cx="3306600" cy="1841040"/>
          </a:xfrm>
        </p:grpSpPr>
        <p:sp>
          <p:nvSpPr>
            <p:cNvPr id="385" name=""/>
            <p:cNvSpPr/>
            <p:nvPr/>
          </p:nvSpPr>
          <p:spPr>
            <a:xfrm>
              <a:off x="705960" y="3441600"/>
              <a:ext cx="33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... but one can also declare th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5080" y="3909960"/>
              <a:ext cx="2096280" cy="1372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 "whil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whil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98280" y="5548320"/>
            <a:ext cx="5158080" cy="980280"/>
            <a:chOff x="998280" y="5548320"/>
            <a:chExt cx="5158080" cy="980280"/>
          </a:xfrm>
        </p:grpSpPr>
        <p:sp>
          <p:nvSpPr>
            <p:cNvPr id="388" name=""/>
            <p:cNvSpPr/>
            <p:nvPr/>
          </p:nvSpPr>
          <p:spPr>
            <a:xfrm>
              <a:off x="998280" y="5548320"/>
              <a:ext cx="515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ometimes useful because Coco/R generates constant nam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he token numbers of all declared tok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88280" y="6221520"/>
              <a:ext cx="1855440" cy="30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_while = 17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B53-CB13-4543-B214-E45896095D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ntext-dependent Toke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6240" y="14097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17360" y="17892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loating point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1520" y="18144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17000" y="206856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teg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81520" y="209376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090480" y="1866960"/>
            <a:ext cx="1733760" cy="1089000"/>
            <a:chOff x="6090480" y="1866960"/>
            <a:chExt cx="1733760" cy="1089000"/>
          </a:xfrm>
        </p:grpSpPr>
        <p:sp>
          <p:nvSpPr>
            <p:cNvPr id="397" name=""/>
            <p:cNvSpPr/>
            <p:nvPr/>
          </p:nvSpPr>
          <p:spPr>
            <a:xfrm>
              <a:off x="662940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5280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9464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3028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5952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9516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2476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4780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959520" y="20829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90480" y="2131920"/>
              <a:ext cx="1733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ot stuck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wa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044240" y="1420920"/>
            <a:ext cx="4440240" cy="1291680"/>
            <a:chOff x="4044240" y="1420920"/>
            <a:chExt cx="4440240" cy="1291680"/>
          </a:xfrm>
        </p:grpSpPr>
        <p:sp>
          <p:nvSpPr>
            <p:cNvPr id="408" name=""/>
            <p:cNvSpPr/>
            <p:nvPr/>
          </p:nvSpPr>
          <p:spPr>
            <a:xfrm>
              <a:off x="463536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5876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3624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65840" y="1866960"/>
              <a:ext cx="164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01480" y="18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0720" y="1866960"/>
              <a:ext cx="1652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4120" y="18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800600" y="208296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3720" y="2131920"/>
              <a:ext cx="110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ecide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 a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44240" y="1420920"/>
              <a:ext cx="444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canner tries to recognize the longest possible to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96960" y="3162240"/>
            <a:ext cx="7900920" cy="1519560"/>
            <a:chOff x="696960" y="3162240"/>
            <a:chExt cx="7900920" cy="1519560"/>
          </a:xfrm>
        </p:grpSpPr>
        <p:sp>
          <p:nvSpPr>
            <p:cNvPr id="420" name=""/>
            <p:cNvSpPr/>
            <p:nvPr/>
          </p:nvSpPr>
          <p:spPr>
            <a:xfrm>
              <a:off x="696960" y="3162240"/>
              <a:ext cx="196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NTEXT cla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32840" y="3668760"/>
              <a:ext cx="3495600" cy="1013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C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CONTEXT (".."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19044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loatC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igit {digit} "."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54760" y="3822840"/>
              <a:ext cx="3543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639" y="15300"/>
                  </a:moveTo>
                  <a:lnTo>
                    <a:pt x="-465" y="4000"/>
                  </a:lnTo>
                </a:path>
                <a:path w="21600" h="21600">
                  <a:moveTo>
                    <a:pt x="-465" y="0"/>
                  </a:moveTo>
                  <a:lnTo>
                    <a:pt x="-465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cognize a digit sequence as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t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its right-hand context is "..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4BE-1E04-400F-9998-728D1F35E4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agma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480" y="1219320"/>
            <a:ext cx="385956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pecial tokens 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e.g. compiler 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n occur anywhere in th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not part of th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semantically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0840" y="4648320"/>
            <a:ext cx="253836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ypica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iler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eprocessor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ment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d-of-lin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22160" y="2666880"/>
            <a:ext cx="8151840" cy="1679040"/>
            <a:chOff x="722160" y="2666880"/>
            <a:chExt cx="8151840" cy="1679040"/>
          </a:xfrm>
        </p:grpSpPr>
        <p:sp>
          <p:nvSpPr>
            <p:cNvPr id="427" name=""/>
            <p:cNvSpPr/>
            <p:nvPr/>
          </p:nvSpPr>
          <p:spPr>
            <a:xfrm>
              <a:off x="722160" y="26668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66600" y="3097080"/>
              <a:ext cx="4107600" cy="1248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PRAG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 '$' {letter}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foreach (char ch in t.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ch == 'A'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else if (ch == 'B')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190440"/>
                  <a:tab algn="l" pos="1054080"/>
                  <a:tab algn="l" pos="1816200"/>
                  <a:tab algn="l" pos="2006640"/>
                  <a:tab algn="l" pos="2197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...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3287880"/>
              <a:ext cx="346212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never a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option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(e.g. $ABC) occu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the input, this semantic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exec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280-AD38-4240-BE60-DBA11B81C1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8560" y="1257480"/>
            <a:ext cx="547488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scribed in a special section be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sted comments cannot be described with regular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st be ignored by the 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22160" y="2502000"/>
            <a:ext cx="3552840" cy="963360"/>
            <a:chOff x="722160" y="2502000"/>
            <a:chExt cx="3552840" cy="963360"/>
          </a:xfrm>
        </p:grpSpPr>
        <p:sp>
          <p:nvSpPr>
            <p:cNvPr id="433" name=""/>
            <p:cNvSpPr/>
            <p:nvPr/>
          </p:nvSpPr>
          <p:spPr>
            <a:xfrm>
              <a:off x="722160" y="250200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9360" y="2945160"/>
              <a:ext cx="34556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MENTS FRO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/*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*/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NES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MENTS FROM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//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TO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"\r\n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72200" y="3859200"/>
            <a:ext cx="551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comments are not nested they can also be described as prag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vantage: can be semantically proc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6FA-CB56-46E0-B482-544D9BEF89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ite Space and Case Sensitivit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1800" y="1282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Whit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81000" y="1827360"/>
            <a:ext cx="2003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GNORE   '\t' + '\r' + '\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56000" y="1789200"/>
            <a:ext cx="25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lanks are ignored by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22160" y="2781360"/>
            <a:ext cx="5506920" cy="1085040"/>
            <a:chOff x="722160" y="2781360"/>
            <a:chExt cx="5506920" cy="1085040"/>
          </a:xfrm>
        </p:grpSpPr>
        <p:sp>
          <p:nvSpPr>
            <p:cNvPr id="441" name=""/>
            <p:cNvSpPr/>
            <p:nvPr/>
          </p:nvSpPr>
          <p:spPr>
            <a:xfrm>
              <a:off x="722160" y="278136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ase sensi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9000" y="3135600"/>
              <a:ext cx="51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mpilers generated by Coco/R are case-sensitive by defa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05040" y="3529080"/>
              <a:ext cx="389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be made case-insensitive by the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61080" y="3542040"/>
              <a:ext cx="13680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GNORE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975600" y="4070520"/>
            <a:ext cx="7972920" cy="2599560"/>
            <a:chOff x="975600" y="4070520"/>
            <a:chExt cx="7972920" cy="2599560"/>
          </a:xfrm>
        </p:grpSpPr>
        <p:sp>
          <p:nvSpPr>
            <p:cNvPr id="446" name=""/>
            <p:cNvSpPr/>
            <p:nvPr/>
          </p:nvSpPr>
          <p:spPr>
            <a:xfrm>
              <a:off x="975600" y="4070520"/>
              <a:ext cx="4326120" cy="259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GNORE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612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HARAC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hexDigit = digit +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'a'..'f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"0x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hexDigit hexDigit hexDigit hexDig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Stat =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"while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'(' Expr ')' Sta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37160" y="4113360"/>
              <a:ext cx="3411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ill recogn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0x00ff, 0X00ff, 0X00FF as a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ile, While, WHILE as a key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50320" y="5014800"/>
              <a:ext cx="335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ken value returned to the par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ains original ca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 rot="5400000">
            <a:off x="2361960" y="1765440"/>
            <a:ext cx="88920" cy="965160"/>
          </a:xfrm>
          <a:custGeom>
            <a:avLst/>
            <a:gdLst>
              <a:gd name="textAreaLeft" fmla="*/ 0 w 88920"/>
              <a:gd name="textAreaRight" fmla="*/ 32040 w 8892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30960" y="224640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aract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5F6-B976-4C70-BD70-29B5D99511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Generated Scann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9840" y="1393920"/>
            <a:ext cx="3000240" cy="192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Buffer buff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(string file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eam 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ublic Token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can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();</a:t>
            </a:r>
            <a:br>
              <a:rPr sz="1400"/>
            </a:b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ResetPeek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99080" y="1989000"/>
            <a:ext cx="4013280" cy="29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14" y="39443"/>
                </a:moveTo>
                <a:lnTo>
                  <a:pt x="-410" y="8452"/>
                </a:lnTo>
              </a:path>
              <a:path w="21600" h="21600">
                <a:moveTo>
                  <a:pt x="-410" y="0"/>
                </a:moveTo>
                <a:lnTo>
                  <a:pt x="-41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method: returns a token upon every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99080" y="2459160"/>
            <a:ext cx="4064040" cy="58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93" y="10800"/>
                </a:moveTo>
                <a:lnTo>
                  <a:pt x="-405" y="4226"/>
                </a:lnTo>
              </a:path>
              <a:path w="21600" h="21600">
                <a:moveTo>
                  <a:pt x="-405" y="0"/>
                </a:moveTo>
                <a:lnTo>
                  <a:pt x="-40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s ahead from the current scann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ithout removing tokens from the input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99080" y="3170160"/>
            <a:ext cx="3949560" cy="29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48" y="-14087"/>
                </a:moveTo>
                <a:lnTo>
                  <a:pt x="-417" y="8452"/>
                </a:lnTo>
              </a:path>
              <a:path w="21600" h="21600">
                <a:moveTo>
                  <a:pt x="-417" y="0"/>
                </a:moveTo>
                <a:lnTo>
                  <a:pt x="-41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ets peeking to the current scanner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7960" y="3789360"/>
            <a:ext cx="5770440" cy="15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kind (i.e. token num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position in the source text (starting at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column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line (starting at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oken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B76-D4B9-4526-83E2-2D9C3BEF11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36560" y="41022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8C3-6355-438C-BB8C-12312A1F865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Pars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5880" y="1281240"/>
            <a:ext cx="5464080" cy="60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Specification = "PRODUCTION" {Production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[FormalAttributes] '=' EbnfExpr '.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880" y="1941480"/>
            <a:ext cx="546264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bnf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 { '|' Alternative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Resolver] {El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 [ActualAttribut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bnfExpr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[' EbnfExpr ']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EbnfExpr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ANY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SYN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ring | ch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5880" y="4430880"/>
            <a:ext cx="5468760" cy="60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emActi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(."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CSharpStatement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".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CSharpPredica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5880" y="5091120"/>
            <a:ext cx="546732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ormalAttribut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&lt;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&gt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43496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ctualAttribute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&lt;' </a:t>
            </a:r>
            <a:r>
              <a:rPr b="0" i="1" lang="de-AT" sz="1400" spc="-1" strike="noStrike">
                <a:solidFill>
                  <a:srgbClr val="000000"/>
                </a:solidFill>
                <a:latin typeface="Arial"/>
              </a:rPr>
              <a:t>ArbitraryT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&gt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1BE-3673-4BD3-ACBB-DAA380C21E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mpilation Phas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5240" y="3098880"/>
            <a:ext cx="3708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0" y="30988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emantic analysis (type checking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320" y="1371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syntax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23920" y="241128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ident = number * ident + i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9600" y="19670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72080" y="229860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2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2235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3080" y="22986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930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93032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19303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7240" y="184140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0120" y="158580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37240" y="15490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187800" y="154944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8780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7160" y="1549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6960" y="14731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8400" y="11793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040" y="36194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6520" y="370692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tax tree, symbol table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75120" y="28576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75120" y="3556080"/>
            <a:ext cx="203040" cy="2030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0320" y="4064040"/>
            <a:ext cx="5273280" cy="2548080"/>
            <a:chOff x="670320" y="4064040"/>
            <a:chExt cx="5273280" cy="2548080"/>
          </a:xfrm>
        </p:grpSpPr>
        <p:sp>
          <p:nvSpPr>
            <p:cNvPr id="146" name=""/>
            <p:cNvSpPr/>
            <p:nvPr/>
          </p:nvSpPr>
          <p:spPr>
            <a:xfrm>
              <a:off x="2235240" y="43308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6040" y="433080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optim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5120" y="478800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35240" y="5029200"/>
              <a:ext cx="3708360" cy="419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7000" y="502920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imes New Roman"/>
                </a:rPr>
                <a:t>code 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5120" y="551196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0240" y="5740560"/>
              <a:ext cx="8676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nst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75120" y="4064040"/>
              <a:ext cx="203040" cy="2030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320" y="575316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800" spc="-1" strike="noStrike">
                  <a:solidFill>
                    <a:srgbClr val="000000"/>
                  </a:solidFill>
                  <a:latin typeface="Times New Roman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CB4-AD4D-4C4D-8C57-594210FB8E75}" type="slidenum">
              <a:t>3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du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4280" y="1371600"/>
            <a:ext cx="6671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an occur in any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must be exactly 1 production for every non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There must be a production for the start symbol (the grammar 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1400" y="2700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3280" y="3156120"/>
            <a:ext cx="51512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x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 [RelOp SimExpr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 {AddOp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Mulop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 | "-" Factor | "true" | "false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==" | "&lt;" | "&gt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+" | "-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*" | "/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Exp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40080" y="3859200"/>
            <a:ext cx="27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bitrary context-free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n EB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DE7-B9AA-44E1-848B-2F9AC99A29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Ac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6680" y="1219320"/>
            <a:ext cx="36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rbitrary C# code between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(.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de-AT" sz="1800" spc="-1" strike="noStrike">
                <a:solidFill>
                  <a:srgbClr val="3333cc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7320" y="1649520"/>
            <a:ext cx="3470400" cy="120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int n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 = 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,' 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++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Console.WriteLine(n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200040" y="1790640"/>
            <a:ext cx="1460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52640" y="159876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cal semantic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200040" y="2057400"/>
            <a:ext cx="1460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50120" y="186516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86760" y="2932200"/>
            <a:ext cx="71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antic actions are copied to the generated parser without being checked by Coco/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07760" y="3568680"/>
            <a:ext cx="8361000" cy="2959920"/>
            <a:chOff x="707760" y="3568680"/>
            <a:chExt cx="8361000" cy="2959920"/>
          </a:xfrm>
        </p:grpSpPr>
        <p:sp>
          <p:nvSpPr>
            <p:cNvPr id="479" name=""/>
            <p:cNvSpPr/>
            <p:nvPr/>
          </p:nvSpPr>
          <p:spPr>
            <a:xfrm>
              <a:off x="707760" y="356868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Global semantic decla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55880" y="4003560"/>
              <a:ext cx="3711600" cy="2525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using System.IO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MPILER S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tream 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void OpenStream(string path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s = File.OpenRead(path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D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ample = ...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enStream("in.txt")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ND Samp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86200" y="4521240"/>
              <a:ext cx="88920" cy="100332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5920 h 1003320"/>
                <a:gd name="textAreaBottom" fmla="*/ 97740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14800" y="5016600"/>
              <a:ext cx="81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8640" y="4811760"/>
              <a:ext cx="359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lobal semantic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become fields and methods of the pars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628720" y="4127400"/>
              <a:ext cx="229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4680" y="3935520"/>
              <a:ext cx="196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mport of namesp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723920" y="6019920"/>
              <a:ext cx="203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9000" y="5827680"/>
              <a:ext cx="401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mantic actions can access global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 well as imported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178-E3F5-4173-92D2-50C2077296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089760" y="2660760"/>
            <a:ext cx="2590560" cy="67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53000" y="2660760"/>
            <a:ext cx="2108160" cy="67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ttribut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680" y="123192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non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18080" y="2557440"/>
            <a:ext cx="240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outpu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 results of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the "call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8200" y="2658960"/>
            <a:ext cx="18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val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53360" y="2658960"/>
            <a:ext cx="19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15680" y="2963880"/>
            <a:ext cx="26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ref StringBuilder buf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53000" y="295128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ref b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08800" y="148104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ormal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07160" y="14810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ctual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320" y="3695760"/>
            <a:ext cx="8016480" cy="2702880"/>
            <a:chOff x="670320" y="3695760"/>
            <a:chExt cx="8016480" cy="2702880"/>
          </a:xfrm>
        </p:grpSpPr>
        <p:sp>
          <p:nvSpPr>
            <p:cNvPr id="500" name=""/>
            <p:cNvSpPr/>
            <p:nvPr/>
          </p:nvSpPr>
          <p:spPr>
            <a:xfrm>
              <a:off x="670320" y="369576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18800" y="4087800"/>
              <a:ext cx="1907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no explicit attribute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values are return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y the scan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46520" y="4191120"/>
              <a:ext cx="492768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69560" y="4164120"/>
              <a:ext cx="363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n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n = Convert.ToInt32(t.val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0720" y="3821040"/>
              <a:ext cx="27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adapter nonterminals necess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46520" y="4788000"/>
              <a:ext cx="4940280" cy="507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4240" y="4761000"/>
              <a:ext cx="2582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string name&gt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name = t.val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19520" y="5472000"/>
              <a:ext cx="320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has two global token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88640" y="5878440"/>
              <a:ext cx="422532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most recently recognized 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la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/ lookahead token (not yet recogniz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089760" y="1841400"/>
            <a:ext cx="259056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53000" y="1841400"/>
            <a:ext cx="210816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20960" y="1738440"/>
            <a:ext cx="250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imes New Roman"/>
              </a:rPr>
              <a:t>input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ss values from the "calle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 a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17120" y="199224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Type t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50840" y="1992240"/>
            <a:ext cx="217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= ... IdentLIs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type&gt;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417-08A9-4663-9B43-D99C9627D8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he symbol AN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0000" y="1282680"/>
            <a:ext cx="63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Denotes any token that is not an alternative of this ANY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1240" y="187308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: counting the number of occurrences of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03400" y="2282760"/>
            <a:ext cx="3079800" cy="66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 intCounter++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866960" y="2813040"/>
            <a:ext cx="25653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360" y="264636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ny token except "in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42320" y="3530520"/>
            <a:ext cx="5721120" cy="1269360"/>
            <a:chOff x="742320" y="3530520"/>
            <a:chExt cx="5721120" cy="1269360"/>
          </a:xfrm>
        </p:grpSpPr>
        <p:sp>
          <p:nvSpPr>
            <p:cNvPr id="521" name=""/>
            <p:cNvSpPr/>
            <p:nvPr/>
          </p:nvSpPr>
          <p:spPr>
            <a:xfrm>
              <a:off x="742320" y="3530520"/>
              <a:ext cx="45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 computing the length of a semantic 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03400" y="3939840"/>
              <a:ext cx="3066840" cy="860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emAction&lt;out int len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.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int beg = t.pos + 2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NY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.)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. len = t.pos - beg; .)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044800" y="4457520"/>
              <a:ext cx="23875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720" y="4290840"/>
              <a:ext cx="18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y token except ".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5D5-C759-4655-9C66-97974761D8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09960" y="914400"/>
            <a:ext cx="132084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280" y="1498680"/>
            <a:ext cx="1434960" cy="965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Frame File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623960"/>
            <a:ext cx="1245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2043000"/>
            <a:ext cx="12556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23040" y="11667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.a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4200" y="9255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09960" y="2679840"/>
            <a:ext cx="132084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74400" y="269064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32120" y="1498680"/>
            <a:ext cx="1689120" cy="96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556080" y="1676520"/>
            <a:ext cx="216000" cy="215640"/>
            <a:chOff x="3556080" y="1676520"/>
            <a:chExt cx="216000" cy="215640"/>
          </a:xfrm>
        </p:grpSpPr>
        <p:sp>
          <p:nvSpPr>
            <p:cNvPr id="536" name=""/>
            <p:cNvSpPr/>
            <p:nvPr/>
          </p:nvSpPr>
          <p:spPr>
            <a:xfrm>
              <a:off x="3556080" y="1676520"/>
              <a:ext cx="21600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70200" y="1676520"/>
              <a:ext cx="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56080" y="17776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556080" y="2095560"/>
            <a:ext cx="216000" cy="216000"/>
            <a:chOff x="3556080" y="2095560"/>
            <a:chExt cx="216000" cy="216000"/>
          </a:xfrm>
        </p:grpSpPr>
        <p:sp>
          <p:nvSpPr>
            <p:cNvPr id="540" name=""/>
            <p:cNvSpPr/>
            <p:nvPr/>
          </p:nvSpPr>
          <p:spPr>
            <a:xfrm>
              <a:off x="3556080" y="2095560"/>
              <a:ext cx="21600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70200" y="209556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56080" y="21970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146320" y="177804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46320" y="220968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1778040"/>
            <a:ext cx="138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2209680"/>
            <a:ext cx="138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670200" y="23241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70200" y="1257480"/>
            <a:ext cx="0" cy="40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625760"/>
            <a:ext cx="1320840" cy="33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51400" y="163656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19640" y="2057400"/>
            <a:ext cx="1320840" cy="33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21240" y="20685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70280" y="1433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co/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47000" y="3143160"/>
            <a:ext cx="7905240" cy="3533400"/>
            <a:chOff x="747000" y="3143160"/>
            <a:chExt cx="7905240" cy="3533400"/>
          </a:xfrm>
        </p:grpSpPr>
        <p:sp>
          <p:nvSpPr>
            <p:cNvPr id="555" name=""/>
            <p:cNvSpPr/>
            <p:nvPr/>
          </p:nvSpPr>
          <p:spPr>
            <a:xfrm>
              <a:off x="747000" y="3143160"/>
              <a:ext cx="23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canner.frame snipp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8800" y="3598920"/>
              <a:ext cx="2743920" cy="30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char EOL = '\n'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eofSym 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--&gt;decla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cann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eam s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uffer = new Buffer(s, tru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i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os = -1; line = 1;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--&gt;initi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7080" y="3573360"/>
              <a:ext cx="45651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 inserts generated parts at positions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marked by 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--&gt;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Users can edit the frame files for adapting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generated scanner and parser to their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rame files are expected to be in the same directory</a:t>
              </a:r>
              <a:br>
                <a:rPr sz="1600"/>
              </a:b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s the compiler specification (e.g.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ample.atg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3D9-7531-488A-9D72-45A872484A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terface of the Generated Pars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9240" y="1230480"/>
            <a:ext cx="5378400" cy="220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Pars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cann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the scanner of this pa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Errors 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the error message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most recently recognize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oken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/ lookahead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canner 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mEr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770040" y="3575160"/>
            <a:ext cx="5451120" cy="2505600"/>
            <a:chOff x="770040" y="3575160"/>
            <a:chExt cx="5451120" cy="2505600"/>
          </a:xfrm>
        </p:grpSpPr>
        <p:sp>
          <p:nvSpPr>
            <p:cNvPr id="561" name=""/>
            <p:cNvSpPr/>
            <p:nvPr/>
          </p:nvSpPr>
          <p:spPr>
            <a:xfrm>
              <a:off x="854640" y="4068720"/>
              <a:ext cx="5366520" cy="201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class MyCompiler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stat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string[] ar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canner scanner = new Scanner(arg[0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arser parser = new Parser(scanner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parser.Parse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ole.WriteLine(parser.errors.count + " errors detected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40" y="3575160"/>
              <a:ext cx="39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Parser invocation in the main pro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644-80C5-42BA-B2B1-2486415430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36560" y="453384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6BC-9FBD-46AD-863A-D695AEF4694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3360" y="120636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 error messages are generated auto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160" y="17906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invalid terminal symb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26720" y="2195640"/>
            <a:ext cx="10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82120" y="22208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a b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7080" y="2487600"/>
            <a:ext cx="5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83920" y="251316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27800" y="27925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rror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73840" y="281772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-- line ... col ...: b ex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94440" y="3390840"/>
            <a:ext cx="3765600" cy="1339200"/>
            <a:chOff x="694440" y="3390840"/>
            <a:chExt cx="3765600" cy="1339200"/>
          </a:xfrm>
        </p:grpSpPr>
        <p:sp>
          <p:nvSpPr>
            <p:cNvPr id="576" name=""/>
            <p:cNvSpPr/>
            <p:nvPr/>
          </p:nvSpPr>
          <p:spPr>
            <a:xfrm>
              <a:off x="694440" y="33908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r invalid alternative li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26720" y="379584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9240" y="3821040"/>
              <a:ext cx="15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(b | c | d)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27080" y="408780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83920" y="41133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27800" y="439272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76000" y="4417920"/>
              <a:ext cx="20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-- line ... col ...: invalid 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92640" y="4965840"/>
            <a:ext cx="6069600" cy="1529280"/>
            <a:chOff x="692640" y="4965840"/>
            <a:chExt cx="6069600" cy="1529280"/>
          </a:xfrm>
        </p:grpSpPr>
        <p:sp>
          <p:nvSpPr>
            <p:cNvPr id="584" name=""/>
            <p:cNvSpPr/>
            <p:nvPr/>
          </p:nvSpPr>
          <p:spPr>
            <a:xfrm>
              <a:off x="692640" y="4965840"/>
              <a:ext cx="606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rror message can be improved by rewriting the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27080" y="5370480"/>
              <a:ext cx="11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81400" y="539604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T 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b | c | 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27080" y="585324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83920" y="587844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27800" y="615780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error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75640" y="618336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-- line ... col ...: invalid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9CB-6BC4-4C13-B983-22EDC67B7349}" type="slidenum">
              <a:t>3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Error Recove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400" y="1181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e user must specify synchronization points where the parser should re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7920" y="1649520"/>
            <a:ext cx="4402080" cy="166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signator "=" Expr </a:t>
            </a:r>
            <a:r>
              <a:rPr b="1" lang="de-AT" sz="1400" spc="-1" strike="noStrike">
                <a:solidFill>
                  <a:srgbClr val="ff0000"/>
                </a:solidFill>
                <a:latin typeface="Arial"/>
              </a:rPr>
              <a:t>SYN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Expression ')' Statement ["else" Stat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 '(' Expression ')'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{Statement}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04760" y="1841400"/>
            <a:ext cx="74916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93960" y="1854360"/>
            <a:ext cx="444600" cy="266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60080" y="154764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83280" y="5359320"/>
            <a:ext cx="6505200" cy="1396080"/>
            <a:chOff x="683280" y="5359320"/>
            <a:chExt cx="6505200" cy="1396080"/>
          </a:xfrm>
        </p:grpSpPr>
        <p:sp>
          <p:nvSpPr>
            <p:cNvPr id="598" name=""/>
            <p:cNvSpPr/>
            <p:nvPr/>
          </p:nvSpPr>
          <p:spPr>
            <a:xfrm>
              <a:off x="683280" y="5359320"/>
              <a:ext cx="401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are good synchronization point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2880" y="5688000"/>
              <a:ext cx="6375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ocations in the grammar where particularly "safe" tokens are exp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of a statement: if, while, do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tart of a declaration: public, static, void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 front of a semicol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16760" y="3409920"/>
            <a:ext cx="7783560" cy="1830240"/>
            <a:chOff x="716760" y="3409920"/>
            <a:chExt cx="7783560" cy="1830240"/>
          </a:xfrm>
        </p:grpSpPr>
        <p:sp>
          <p:nvSpPr>
            <p:cNvPr id="601" name=""/>
            <p:cNvSpPr/>
            <p:nvPr/>
          </p:nvSpPr>
          <p:spPr>
            <a:xfrm>
              <a:off x="1204920" y="4506840"/>
              <a:ext cx="304308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while (la.kind </a:t>
              </a:r>
              <a:r>
                <a:rPr b="0" i="1" lang="de-AT" sz="1400" spc="-1" strike="noStrike">
                  <a:solidFill>
                    <a:srgbClr val="000000"/>
                  </a:solidFill>
                  <a:latin typeface="Arial"/>
                </a:rPr>
                <a:t>is not accepted here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la = scanner.Scan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49680" y="3693960"/>
              <a:ext cx="755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reports the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continues to the next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arser skips input symbols until it finds one that is expected at the synchronization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760" y="3409920"/>
              <a:ext cx="38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What happens if an error is detecte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5C5-A288-419B-8BD0-3D04FAD8772F}" type="slidenum">
              <a:t>38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emantic Error Handling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0720" y="132084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Must be done in semantic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19360" y="1839960"/>
            <a:ext cx="6346800" cy="946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&lt;out Type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type1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+' Term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type != type1) 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SemErr("incompatible types")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721080" y="3673440"/>
            <a:ext cx="3015360" cy="1669320"/>
            <a:chOff x="721080" y="3673440"/>
            <a:chExt cx="3015360" cy="1669320"/>
          </a:xfrm>
        </p:grpSpPr>
        <p:sp>
          <p:nvSpPr>
            <p:cNvPr id="608" name=""/>
            <p:cNvSpPr/>
            <p:nvPr/>
          </p:nvSpPr>
          <p:spPr>
            <a:xfrm>
              <a:off x="721080" y="3673440"/>
              <a:ext cx="301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AT" sz="1800" spc="-1" strike="noStrike">
                  <a:solidFill>
                    <a:srgbClr val="000000"/>
                  </a:solidFill>
                  <a:latin typeface="Times New Roman"/>
                </a:rPr>
                <a:t>SemErr</a:t>
              </a: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 method in the 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5480" y="4183200"/>
              <a:ext cx="290556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emEr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string msg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.SemErr(t.line, t.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209556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086-53A3-4D8C-9B9A-D5222AD2D0CC}" type="slidenum">
              <a:t>39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tructure of a Compile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82200" y="180180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arser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em.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714680"/>
            <a:ext cx="166356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0200" y="312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36840" y="3086280"/>
            <a:ext cx="10666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3880" y="390996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7160" y="3873600"/>
            <a:ext cx="1270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7120" y="3122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26080" y="3086280"/>
            <a:ext cx="158760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89240" y="2463840"/>
            <a:ext cx="0" cy="13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590920" y="2463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463840"/>
            <a:ext cx="83808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749840" y="3276720"/>
            <a:ext cx="87624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1200" y="3745080"/>
            <a:ext cx="18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provides token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he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87560" y="4532400"/>
            <a:ext cx="25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maintains information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eclared names and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5440" y="3745080"/>
            <a:ext cx="21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enerates machin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611360"/>
            <a:ext cx="259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"main progra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directs the whole 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8840" y="56134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49520" y="54468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040" y="2145960"/>
            <a:ext cx="7581960" cy="4107960"/>
            <a:chOff x="635040" y="2145960"/>
            <a:chExt cx="7581960" cy="4107960"/>
          </a:xfrm>
        </p:grpSpPr>
        <p:sp>
          <p:nvSpPr>
            <p:cNvPr id="175" name=""/>
            <p:cNvSpPr/>
            <p:nvPr/>
          </p:nvSpPr>
          <p:spPr>
            <a:xfrm>
              <a:off x="63504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3160" y="3098880"/>
              <a:ext cx="393840" cy="393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44800" y="2145960"/>
              <a:ext cx="1218960" cy="939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48040" y="2463480"/>
              <a:ext cx="0" cy="1359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8880" y="3301920"/>
              <a:ext cx="495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64440" y="3301920"/>
              <a:ext cx="495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0280" y="2171880"/>
              <a:ext cx="1143000" cy="90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8840" y="6083280"/>
              <a:ext cx="571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50960" y="5916600"/>
              <a:ext cx="9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data 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F4C-FECE-4DAE-83B4-87EADECEB19B}" type="slidenum">
              <a:t>4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rrors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7680" y="1687680"/>
            <a:ext cx="7340400" cy="498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0;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number of errors det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TextWriter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orStre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Console.Ou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error message 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rrMsgForm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= "-- line {0} col {1}: {2}"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0=line, 1=column, 2=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alled by the programmer (via Parser.SemErr) to report semantic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emEr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nt line, int col, string ms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rrorStream.WriteLine(errMsgFormat, line, col, ms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2280" y="116856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co/R generates a class for error message 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62840" y="3897360"/>
            <a:ext cx="6980400" cy="2438280"/>
            <a:chOff x="762840" y="3897360"/>
            <a:chExt cx="6980400" cy="2438280"/>
          </a:xfrm>
        </p:grpSpPr>
        <p:sp>
          <p:nvSpPr>
            <p:cNvPr id="614" name=""/>
            <p:cNvSpPr/>
            <p:nvPr/>
          </p:nvSpPr>
          <p:spPr>
            <a:xfrm>
              <a:off x="762840" y="3897360"/>
              <a:ext cx="4967280" cy="243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8000"/>
                  </a:solidFill>
                  <a:latin typeface="Arial"/>
                </a:rPr>
                <a:t>// called automatically by the parser to report syntax err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ublic void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SynEr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(int line, int col, int 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ring msg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witch (n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0: msg = "..."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ase 1: msg = "..."; break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rrorStream.WriteLine(errMsgFormat, line, col, msg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unt++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1080"/>
                  <a:tab algn="l" pos="361800"/>
                  <a:tab algn="l" pos="542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3568680" y="4933440"/>
              <a:ext cx="393840" cy="101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06840" y="5099040"/>
              <a:ext cx="35568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03920" y="4881600"/>
              <a:ext cx="373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yntax error messages generated by Coco/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208-9F34-416B-9BAC-583C7DC5E2C5}" type="slidenum">
              <a:t>40</a:t>
            </a:fld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36560" y="497844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6AC-87CE-4E51-A526-0C00C2B07F8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tart Symbol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7040" y="133344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ose terminal symbols with which a nonterminal symbol can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4800" y="3251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63640" y="32511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4440" y="38862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5080" y="3886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Fa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62560" y="42418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160" y="4915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irst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4360" y="49150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irst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61840" y="529596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ident, number, "(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F5C-568B-4639-8A3B-F2C40382CDA7}" type="slidenum">
              <a:t>42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Terminal Successors of Nonterminal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5240" y="133344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Those terminal symbols that can follow a nonterminal in the 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04120" y="18144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85160" y="3251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Exp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5440" y="32511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84440" y="3886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Term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4720" y="3886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+", "-", Follow(Ex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3640" y="4241880"/>
            <a:ext cx="18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84800" y="4915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ollow(Factor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4720" y="4915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"*", "/", Follow(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63640" y="529596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de-AT" sz="1800" spc="-1" strike="noStrike">
                <a:solidFill>
                  <a:srgbClr val="ff0000"/>
                </a:solidFill>
                <a:latin typeface="Times New Roman"/>
              </a:rPr>
              <a:t>"*", "/", "+", "-", ")",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50400" y="3046320"/>
            <a:ext cx="27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occur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ight-hand side of a produ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at terminal symbols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llow t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9C0-EBDA-49D7-B21F-5A89CB42A8BA}" type="slidenum">
              <a:t>43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di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4720" y="1270080"/>
            <a:ext cx="714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recursive descent parsing a grammar must be 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parseable from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 to right with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ftcanonical derivations and </a:t>
            </a:r>
            <a:r>
              <a:rPr b="1" lang="de-AT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lookahead symb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71400" y="2070000"/>
            <a:ext cx="6958080" cy="1023840"/>
            <a:chOff x="671400" y="2070000"/>
            <a:chExt cx="6958080" cy="1023840"/>
          </a:xfrm>
        </p:grpSpPr>
        <p:sp>
          <p:nvSpPr>
            <p:cNvPr id="647" name=""/>
            <p:cNvSpPr/>
            <p:nvPr/>
          </p:nvSpPr>
          <p:spPr>
            <a:xfrm>
              <a:off x="671400" y="207000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0480" y="2436840"/>
              <a:ext cx="69390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grammar is LL(1) if all its productions are LL(1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29196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production is LL(1) if all its alternatives start with different 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996480" y="3325680"/>
            <a:ext cx="1317600" cy="1335240"/>
            <a:chOff x="996480" y="3325680"/>
            <a:chExt cx="1317600" cy="1335240"/>
          </a:xfrm>
        </p:grpSpPr>
        <p:sp>
          <p:nvSpPr>
            <p:cNvPr id="650" name=""/>
            <p:cNvSpPr/>
            <p:nvPr/>
          </p:nvSpPr>
          <p:spPr>
            <a:xfrm>
              <a:off x="1086480" y="3325680"/>
              <a:ext cx="103860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|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96480" y="3846600"/>
              <a:ext cx="1317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LL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a b) = {a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c) = {c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446640" y="3325680"/>
            <a:ext cx="1368000" cy="1335240"/>
            <a:chOff x="3446640" y="3325680"/>
            <a:chExt cx="1368000" cy="1335240"/>
          </a:xfrm>
        </p:grpSpPr>
        <p:sp>
          <p:nvSpPr>
            <p:cNvPr id="653" name=""/>
            <p:cNvSpPr/>
            <p:nvPr/>
          </p:nvSpPr>
          <p:spPr>
            <a:xfrm>
              <a:off x="3538080" y="3325680"/>
              <a:ext cx="10569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a b | 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 = [a]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46640" y="3846600"/>
              <a:ext cx="13680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not LL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a b) = {a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irst(T) = {a, c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71400" y="4927680"/>
            <a:ext cx="8178840" cy="1643760"/>
            <a:chOff x="671400" y="4927680"/>
            <a:chExt cx="8178840" cy="1643760"/>
          </a:xfrm>
        </p:grpSpPr>
        <p:sp>
          <p:nvSpPr>
            <p:cNvPr id="656" name=""/>
            <p:cNvSpPr/>
            <p:nvPr/>
          </p:nvSpPr>
          <p:spPr>
            <a:xfrm>
              <a:off x="671400" y="49276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n other w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440" y="5332320"/>
              <a:ext cx="81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must always be able to select one of the alternatives by looking at the lookahead tok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86120" y="5776920"/>
              <a:ext cx="11757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(a b | T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473120" y="6006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84920" y="6234120"/>
              <a:ext cx="599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parser sees an "a" here it cannot decide which alternative to 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592-F8A4-4CC3-A8F2-70630FF62C65}" type="slidenum">
              <a:t>44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5880" y="1079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77840" y="1509840"/>
            <a:ext cx="47782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"else" Stat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008000" y="2004840"/>
            <a:ext cx="4856400" cy="1025640"/>
            <a:chOff x="1008000" y="2004840"/>
            <a:chExt cx="4856400" cy="1025640"/>
          </a:xfrm>
        </p:grpSpPr>
        <p:sp>
          <p:nvSpPr>
            <p:cNvPr id="665" name=""/>
            <p:cNvSpPr/>
            <p:nvPr/>
          </p:nvSpPr>
          <p:spPr>
            <a:xfrm>
              <a:off x="1008000" y="200484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tract common start sequ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77840" y="2297160"/>
              <a:ext cx="47865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 "else"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003320" y="2970360"/>
            <a:ext cx="4878360" cy="599040"/>
            <a:chOff x="1003320" y="2970360"/>
            <a:chExt cx="4878360" cy="599040"/>
          </a:xfrm>
        </p:grpSpPr>
        <p:sp>
          <p:nvSpPr>
            <p:cNvPr id="668" name=""/>
            <p:cNvSpPr/>
            <p:nvPr/>
          </p:nvSpPr>
          <p:spPr>
            <a:xfrm>
              <a:off x="1003320" y="297036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 or in EB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2000" y="3262320"/>
              <a:ext cx="48196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"else" Statem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93360" y="3759120"/>
            <a:ext cx="6887880" cy="1125360"/>
            <a:chOff x="693360" y="3759120"/>
            <a:chExt cx="6887880" cy="1125360"/>
          </a:xfrm>
        </p:grpSpPr>
        <p:sp>
          <p:nvSpPr>
            <p:cNvPr id="671" name=""/>
            <p:cNvSpPr/>
            <p:nvPr/>
          </p:nvSpPr>
          <p:spPr>
            <a:xfrm>
              <a:off x="693360" y="3759120"/>
              <a:ext cx="688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ometimes nonterminal symbols must be inlined before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77840" y="4151160"/>
              <a:ext cx="478476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ActualParameters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"."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004400" y="4862520"/>
            <a:ext cx="4870800" cy="812160"/>
            <a:chOff x="1004400" y="4862520"/>
            <a:chExt cx="4870800" cy="812160"/>
          </a:xfrm>
        </p:grpSpPr>
        <p:sp>
          <p:nvSpPr>
            <p:cNvPr id="674" name=""/>
            <p:cNvSpPr/>
            <p:nvPr/>
          </p:nvSpPr>
          <p:spPr>
            <a:xfrm>
              <a:off x="1004400" y="4862520"/>
              <a:ext cx="26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 Designator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77840" y="5154480"/>
              <a:ext cx="47973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dent {"." ident}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314964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[ActualParameters] ")"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005120" y="5629320"/>
            <a:ext cx="4843080" cy="1025280"/>
            <a:chOff x="1005120" y="5629320"/>
            <a:chExt cx="4843080" cy="1025280"/>
          </a:xfrm>
        </p:grpSpPr>
        <p:sp>
          <p:nvSpPr>
            <p:cNvPr id="677" name=""/>
            <p:cNvSpPr/>
            <p:nvPr/>
          </p:nvSpPr>
          <p:spPr>
            <a:xfrm>
              <a:off x="1005120" y="562932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n factor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77840" y="5921280"/>
              <a:ext cx="47703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"." ident}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(" [ActualParameters]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2560"/>
                  <a:tab algn="l" pos="1143000"/>
                  <a:tab algn="l" pos="1625760"/>
                  <a:tab algn="l" pos="1816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DAA-738A-4B0F-A28A-D3E25B71D0C4}" type="slidenum">
              <a:t>45</a:t>
            </a:fld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ow to Remove Left Recurs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9680" y="125748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Left recursion is always an LL(1) conflict and must be eli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89000" y="2004840"/>
            <a:ext cx="298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List = ident | IdentList ","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9120" y="16495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02360" y="5405400"/>
            <a:ext cx="3336120" cy="713520"/>
            <a:chOff x="702360" y="5405400"/>
            <a:chExt cx="3336120" cy="713520"/>
          </a:xfrm>
        </p:grpSpPr>
        <p:sp>
          <p:nvSpPr>
            <p:cNvPr id="684" name=""/>
            <p:cNvSpPr/>
            <p:nvPr/>
          </p:nvSpPr>
          <p:spPr>
            <a:xfrm>
              <a:off x="702360" y="5405400"/>
              <a:ext cx="30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an always be replaced by it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03400" y="5811840"/>
              <a:ext cx="293508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= ident {","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387320" y="197964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(both alternatives start with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701280" y="2589120"/>
            <a:ext cx="3655440" cy="1139040"/>
            <a:chOff x="701280" y="2589120"/>
            <a:chExt cx="3655440" cy="1139040"/>
          </a:xfrm>
        </p:grpSpPr>
        <p:sp>
          <p:nvSpPr>
            <p:cNvPr id="688" name=""/>
            <p:cNvSpPr/>
            <p:nvPr/>
          </p:nvSpPr>
          <p:spPr>
            <a:xfrm>
              <a:off x="701280" y="2589120"/>
              <a:ext cx="27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enerates the following phr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98520" y="2982960"/>
              <a:ext cx="85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247840" y="3276720"/>
              <a:ext cx="16200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3276720"/>
              <a:ext cx="16200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86400" y="34210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33200" y="342108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949400" y="3714840"/>
            <a:ext cx="3708000" cy="537120"/>
            <a:chOff x="1949400" y="3714840"/>
            <a:chExt cx="3708000" cy="537120"/>
          </a:xfrm>
        </p:grpSpPr>
        <p:sp>
          <p:nvSpPr>
            <p:cNvPr id="695" name=""/>
            <p:cNvSpPr/>
            <p:nvPr/>
          </p:nvSpPr>
          <p:spPr>
            <a:xfrm flipH="1">
              <a:off x="2886120" y="371484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33760" y="371484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49400" y="394488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67880" y="3944880"/>
              <a:ext cx="21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012760" y="4267080"/>
            <a:ext cx="5021280" cy="546840"/>
            <a:chOff x="2012760" y="4267080"/>
            <a:chExt cx="5021280" cy="546840"/>
          </a:xfrm>
        </p:grpSpPr>
        <p:sp>
          <p:nvSpPr>
            <p:cNvPr id="700" name=""/>
            <p:cNvSpPr/>
            <p:nvPr/>
          </p:nvSpPr>
          <p:spPr>
            <a:xfrm flipH="1">
              <a:off x="3533760" y="426708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81400" y="4267080"/>
              <a:ext cx="1620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12760" y="4506840"/>
              <a:ext cx="189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8520" y="4506840"/>
              <a:ext cx="28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List "," ident "," ident "," i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C4A-AFA5-434F-93F7-BCEB57812A95}" type="slidenum">
              <a:t>46</a:t>
            </a:fld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7040" y="1359000"/>
            <a:ext cx="52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BNF options and iterations are hidden a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104840" y="4311720"/>
            <a:ext cx="4318200" cy="609480"/>
            <a:chOff x="1104840" y="4311720"/>
            <a:chExt cx="4318200" cy="609480"/>
          </a:xfrm>
        </p:grpSpPr>
        <p:sp>
          <p:nvSpPr>
            <p:cNvPr id="707" name=""/>
            <p:cNvSpPr/>
            <p:nvPr/>
          </p:nvSpPr>
          <p:spPr>
            <a:xfrm>
              <a:off x="1104840" y="431172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05920" y="4317840"/>
              <a:ext cx="414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[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83240" y="1860480"/>
            <a:ext cx="70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[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re arbitrary EBNF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162576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{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| 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09920" y="2863800"/>
            <a:ext cx="4713120" cy="1104840"/>
            <a:chOff x="709920" y="2863800"/>
            <a:chExt cx="4713120" cy="1104840"/>
          </a:xfrm>
        </p:grpSpPr>
        <p:sp>
          <p:nvSpPr>
            <p:cNvPr id="711" name=""/>
            <p:cNvSpPr/>
            <p:nvPr/>
          </p:nvSpPr>
          <p:spPr>
            <a:xfrm>
              <a:off x="1104840" y="3359160"/>
              <a:ext cx="4318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07360" y="3365280"/>
              <a:ext cx="39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[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41911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 = {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0" lang="de-A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 must be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920" y="28638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59D-C156-4DAD-A4CD-B207FCF8CFC7}" type="slidenum">
              <a:t>47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Removing Hidden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8360" y="1293840"/>
            <a:ext cx="20628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ame = [ident "."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42680" y="1649520"/>
            <a:ext cx="42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here is the conflict and how can it be remov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94040" y="2106720"/>
            <a:ext cx="2628360" cy="756720"/>
            <a:chOff x="1094040" y="2106720"/>
            <a:chExt cx="2628360" cy="756720"/>
          </a:xfrm>
        </p:grpSpPr>
        <p:sp>
          <p:nvSpPr>
            <p:cNvPr id="718" name=""/>
            <p:cNvSpPr/>
            <p:nvPr/>
          </p:nvSpPr>
          <p:spPr>
            <a:xfrm>
              <a:off x="1133280" y="2106720"/>
              <a:ext cx="20628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ame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94040" y="2526120"/>
              <a:ext cx="26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s this production LL(1) now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097640" y="28764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e have to check if First("." ident) </a:t>
            </a:r>
            <a:r>
              <a:rPr b="0" lang="de-AT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Follow(Name) =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42680" y="3719520"/>
            <a:ext cx="4210200" cy="946800"/>
            <a:chOff x="742680" y="3719520"/>
            <a:chExt cx="4210200" cy="946800"/>
          </a:xfrm>
        </p:grpSpPr>
        <p:sp>
          <p:nvSpPr>
            <p:cNvPr id="722" name=""/>
            <p:cNvSpPr/>
            <p:nvPr/>
          </p:nvSpPr>
          <p:spPr>
            <a:xfrm>
              <a:off x="825480" y="3719520"/>
              <a:ext cx="29865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eclarations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clarations = D {";" D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2680" y="4329000"/>
              <a:ext cx="421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here is the conflict and how can it be remov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072080" y="4748040"/>
            <a:ext cx="3491280" cy="967680"/>
            <a:chOff x="1072080" y="4748040"/>
            <a:chExt cx="3491280" cy="967680"/>
          </a:xfrm>
        </p:grpSpPr>
        <p:sp>
          <p:nvSpPr>
            <p:cNvPr id="725" name=""/>
            <p:cNvSpPr/>
            <p:nvPr/>
          </p:nvSpPr>
          <p:spPr>
            <a:xfrm>
              <a:off x="1092960" y="474804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line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Declaration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56320" y="5078520"/>
              <a:ext cx="2648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{";" D} ";"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72080" y="5378400"/>
              <a:ext cx="34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;" D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";" Statements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101240" y="5802480"/>
            <a:ext cx="5200920" cy="662760"/>
            <a:chOff x="1101240" y="5802480"/>
            <a:chExt cx="5200920" cy="662760"/>
          </a:xfrm>
        </p:grpSpPr>
        <p:sp>
          <p:nvSpPr>
            <p:cNvPr id="729" name=""/>
            <p:cNvSpPr/>
            <p:nvPr/>
          </p:nvSpPr>
          <p:spPr>
            <a:xfrm>
              <a:off x="1156320" y="5802480"/>
              <a:ext cx="264816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 = D ";" {D ";"} Statemen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01240" y="6127920"/>
              <a:ext cx="52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still have to check if First(D ";"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irst(Statements) = 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851040" y="1981080"/>
            <a:ext cx="6705360" cy="13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51040" y="4724280"/>
            <a:ext cx="6705360" cy="18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08F-24CE-41AF-A23E-B54271B2483D}" type="slidenum">
              <a:t>48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Dangling Els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8120" y="12193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If statement in C# or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11600" y="1687680"/>
            <a:ext cx="4680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"(" Expr ")" Statement ["else" Statem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08120" y="2489040"/>
            <a:ext cx="4978440" cy="839160"/>
            <a:chOff x="708120" y="2489040"/>
            <a:chExt cx="4978440" cy="839160"/>
          </a:xfrm>
        </p:grpSpPr>
        <p:sp>
          <p:nvSpPr>
            <p:cNvPr id="737" name=""/>
            <p:cNvSpPr/>
            <p:nvPr/>
          </p:nvSpPr>
          <p:spPr>
            <a:xfrm>
              <a:off x="708120" y="248904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his is an LL(1) conflic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85320" y="2990880"/>
              <a:ext cx="470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irst("else" Statement) 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Follow(Statement) = {"else"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07040" y="3619440"/>
            <a:ext cx="7459920" cy="2451960"/>
            <a:chOff x="707040" y="3619440"/>
            <a:chExt cx="7459920" cy="2451960"/>
          </a:xfrm>
        </p:grpSpPr>
        <p:sp>
          <p:nvSpPr>
            <p:cNvPr id="740" name=""/>
            <p:cNvSpPr/>
            <p:nvPr/>
          </p:nvSpPr>
          <p:spPr>
            <a:xfrm>
              <a:off x="707040" y="3619440"/>
              <a:ext cx="496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It is even an ambiguity which cannot be remo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51280" y="498960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2520720" y="4399920"/>
              <a:ext cx="127080" cy="11304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29160 h 1130400"/>
                <a:gd name="textAreaBottom" fmla="*/ 1101240 h 11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53080" y="45957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2603520" y="3225240"/>
              <a:ext cx="114120" cy="27050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70200 h 2705040"/>
                <a:gd name="textAreaBottom" fmla="*/ 2634840 h 27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16440" y="42022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5400000">
              <a:off x="2952720" y="4349520"/>
              <a:ext cx="126720" cy="1994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51840 h 1994040"/>
                <a:gd name="textAreaBottom" fmla="*/ 194220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22880" y="539604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2577960" y="435492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80160" y="576432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20120" y="4786200"/>
              <a:ext cx="324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can build 2 different syntax tre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EAE-220A-45F7-B2C0-C8D2F36BB1F2}" type="slidenum">
              <a:t>49</a:t>
            </a:fld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36560" y="279396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534-4951-46C3-BC44-BC6110DAD12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an We Ignore LL(1) Conflicts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2200" y="123192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An LL(1) conflict is only a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08840" y="1623960"/>
            <a:ext cx="40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he parser selects the first matching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50480" y="2131920"/>
            <a:ext cx="9504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 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94040" y="2286000"/>
            <a:ext cx="41904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86160" y="2119320"/>
            <a:ext cx="50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the lookahead token is </a:t>
            </a: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the parser selects this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051360" y="5052960"/>
            <a:ext cx="3358800" cy="1467360"/>
            <a:chOff x="3051360" y="5052960"/>
            <a:chExt cx="3358800" cy="1467360"/>
          </a:xfrm>
        </p:grpSpPr>
        <p:sp>
          <p:nvSpPr>
            <p:cNvPr id="758" name=""/>
            <p:cNvSpPr/>
            <p:nvPr/>
          </p:nvSpPr>
          <p:spPr>
            <a:xfrm>
              <a:off x="3411720" y="5052960"/>
              <a:ext cx="29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if (expr1) if (expr2) stat1; else stat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5400000">
              <a:off x="5213160" y="4411800"/>
              <a:ext cx="127080" cy="199368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51840 h 1993680"/>
                <a:gd name="textAreaBottom" fmla="*/ 1941840 h 19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83680" y="54594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 rot="5400000">
              <a:off x="4838400" y="4418280"/>
              <a:ext cx="127080" cy="2743200"/>
            </a:xfrm>
            <a:custGeom>
              <a:avLst/>
              <a:gdLst>
                <a:gd name="textAreaLeft" fmla="*/ 0 w 127080"/>
                <a:gd name="textAreaRight" fmla="*/ 45720 w 1270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40600" y="582768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51360" y="6183000"/>
              <a:ext cx="29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Luckily this is what we want he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96240" y="2971800"/>
            <a:ext cx="6007320" cy="2016000"/>
            <a:chOff x="696240" y="2971800"/>
            <a:chExt cx="6007320" cy="2016000"/>
          </a:xfrm>
        </p:grpSpPr>
        <p:sp>
          <p:nvSpPr>
            <p:cNvPr id="765" name=""/>
            <p:cNvSpPr/>
            <p:nvPr/>
          </p:nvSpPr>
          <p:spPr>
            <a:xfrm>
              <a:off x="1036080" y="3414600"/>
              <a:ext cx="478116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ement [ "else" Statement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364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292640" y="3657600"/>
              <a:ext cx="0" cy="419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54240" y="4163760"/>
              <a:ext cx="364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f the lookahead token is "else"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he parser starts parsing the optio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.e. the "else" belongs to the innermost "if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6240" y="2971800"/>
              <a:ext cx="25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: Dangling E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FB3-FD15-4591-8808-EF6249A67F5C}" type="slidenum">
              <a:t>50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000" spc="-1" strike="noStrike">
                <a:solidFill>
                  <a:srgbClr val="3333cc"/>
                </a:solidFill>
                <a:latin typeface="Times New Roman"/>
              </a:rPr>
              <a:t>Coco/R finds LL(1) Conflicts automatically</a:t>
            </a:r>
            <a:endParaRPr b="0" i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0400" y="1649520"/>
            <a:ext cx="481932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Stat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Qualident '=' number ';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'(' ident ')'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'(' ')'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Qual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ident '.'] id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05408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360" y="12319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3640" y="3911760"/>
            <a:ext cx="6855120" cy="2404080"/>
            <a:chOff x="683640" y="3911760"/>
            <a:chExt cx="6855120" cy="2404080"/>
          </a:xfrm>
        </p:grpSpPr>
        <p:sp>
          <p:nvSpPr>
            <p:cNvPr id="773" name=""/>
            <p:cNvSpPr/>
            <p:nvPr/>
          </p:nvSpPr>
          <p:spPr>
            <a:xfrm>
              <a:off x="683640" y="3911760"/>
              <a:ext cx="41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Coco/R produces the following warn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3920" y="4303800"/>
              <a:ext cx="6774840" cy="2012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&gt;coco Sampl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oco/R (Aug 22, 200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he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Sample dele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Statement: ident is start of several alterna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Statement: "else" is start &amp; successor of deletable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LL1 warning in Qualident: ident is start &amp; successor of deletable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parser + scanner gene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05408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0 errors det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B38-4367-4CCD-A7B2-1BE7F041F2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roblems with LL(1) Conflic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2640" y="1282680"/>
            <a:ext cx="64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me conflicts are hard to remove by grammar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6200" y="1763640"/>
            <a:ext cx="43603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 {'+'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ype cas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ested express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97480" y="2082960"/>
            <a:ext cx="88920" cy="304560"/>
          </a:xfrm>
          <a:custGeom>
            <a:avLst/>
            <a:gdLst>
              <a:gd name="textAreaLeft" fmla="*/ 0 w 88920"/>
              <a:gd name="textAreaRight" fmla="*/ 32040 w 88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54080" y="1928880"/>
            <a:ext cx="2672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oth alternatives can star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95160" y="3111480"/>
            <a:ext cx="7673400" cy="1163520"/>
            <a:chOff x="695160" y="3111480"/>
            <a:chExt cx="7673400" cy="1163520"/>
          </a:xfrm>
        </p:grpSpPr>
        <p:sp>
          <p:nvSpPr>
            <p:cNvPr id="781" name=""/>
            <p:cNvSpPr/>
            <p:nvPr/>
          </p:nvSpPr>
          <p:spPr>
            <a:xfrm>
              <a:off x="695160" y="3111480"/>
              <a:ext cx="416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ransformations can corrupt read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05120" y="3541680"/>
              <a:ext cx="30398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using" [ident '='] Qualid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Qualid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{'.' iden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27200" y="3541680"/>
              <a:ext cx="314136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using" 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{'.' ident} ';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=' Qualid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1816200"/>
                  <a:tab algn="l" pos="2006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43400" y="3720960"/>
              <a:ext cx="520560" cy="190800"/>
            </a:xfrm>
            <a:prstGeom prst="rightArrow">
              <a:avLst>
                <a:gd name="adj1" fmla="val 50000"/>
                <a:gd name="adj2" fmla="val 682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94080" y="4584600"/>
            <a:ext cx="4415760" cy="950400"/>
            <a:chOff x="694080" y="4584600"/>
            <a:chExt cx="4415760" cy="950400"/>
          </a:xfrm>
        </p:grpSpPr>
        <p:sp>
          <p:nvSpPr>
            <p:cNvPr id="786" name=""/>
            <p:cNvSpPr/>
            <p:nvPr/>
          </p:nvSpPr>
          <p:spPr>
            <a:xfrm>
              <a:off x="694080" y="4584600"/>
              <a:ext cx="441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emantic actions may prevent factor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96480" y="5014800"/>
              <a:ext cx="360324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x = 1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',' 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x++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 ':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Foo(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{',' ident 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Bar(); .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}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92280" y="594360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00"/>
                </a:solidFill>
                <a:latin typeface="Times New Roman"/>
              </a:rPr>
              <a:t>=&gt; Coco/R offers a special mechanism to resolve LL(1) confl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3A3-7191-4984-B14C-D5E759D96D7E}" type="slidenum">
              <a:t>52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LL(1) Conflict Resolver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280" y="1662120"/>
            <a:ext cx="42163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BNF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 { '|' Alternative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 Element {Elemen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"IF" '(' </a:t>
            </a:r>
            <a:r>
              <a:rPr b="0" i="1" lang="de-AT" sz="1400" spc="-1" strike="noStrike">
                <a:solidFill>
                  <a:srgbClr val="ff0000"/>
                </a:solidFill>
                <a:latin typeface="Arial"/>
              </a:rPr>
              <a:t>ArbitraryCSharpPredicat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 ')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2120" y="1244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671760" y="4978440"/>
            <a:ext cx="7314840" cy="1564200"/>
            <a:chOff x="671760" y="4978440"/>
            <a:chExt cx="7314840" cy="1564200"/>
          </a:xfrm>
        </p:grpSpPr>
        <p:sp>
          <p:nvSpPr>
            <p:cNvPr id="793" name=""/>
            <p:cNvSpPr/>
            <p:nvPr/>
          </p:nvSpPr>
          <p:spPr>
            <a:xfrm>
              <a:off x="671760" y="497844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oken na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4640" y="5383080"/>
              <a:ext cx="2687400" cy="115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letter {letter | 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digit {digit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ssig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'=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78880" y="5383080"/>
              <a:ext cx="200772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EOF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iden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numbe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onst int  _assign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 3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68680" y="6070680"/>
              <a:ext cx="2133720" cy="228600"/>
            </a:xfrm>
            <a:prstGeom prst="rightArrow">
              <a:avLst>
                <a:gd name="adj1" fmla="val 61111"/>
                <a:gd name="adj2" fmla="val 12224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44920" y="5281560"/>
              <a:ext cx="2003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Coco/R generat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llowing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for tokens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71400" y="2565360"/>
            <a:ext cx="3291120" cy="683280"/>
            <a:chOff x="671400" y="2565360"/>
            <a:chExt cx="3291120" cy="683280"/>
          </a:xfrm>
        </p:grpSpPr>
        <p:sp>
          <p:nvSpPr>
            <p:cNvPr id="799" name=""/>
            <p:cNvSpPr/>
            <p:nvPr/>
          </p:nvSpPr>
          <p:spPr>
            <a:xfrm>
              <a:off x="671400" y="25653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6520" y="2941560"/>
              <a:ext cx="318600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= "using" [ident '='] Qualident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684720" y="2944800"/>
            <a:ext cx="6763320" cy="1810080"/>
            <a:chOff x="684720" y="2944800"/>
            <a:chExt cx="6763320" cy="1810080"/>
          </a:xfrm>
        </p:grpSpPr>
        <p:sp>
          <p:nvSpPr>
            <p:cNvPr id="802" name=""/>
            <p:cNvSpPr/>
            <p:nvPr/>
          </p:nvSpPr>
          <p:spPr>
            <a:xfrm>
              <a:off x="755280" y="2944800"/>
              <a:ext cx="42602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52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Using = "using" [ 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IsAlias())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 ident '='] Qualident ';'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4720" y="3440160"/>
              <a:ext cx="637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We have to write the following method (in the global semantic declaratio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3280" y="3808440"/>
              <a:ext cx="4235400" cy="946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Alias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next = scanner.Peek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la.kind == _ident &amp;&amp; next.kind == _assig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97680" y="3745080"/>
              <a:ext cx="22503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f the input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=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de-AT" sz="16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if the input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. iden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482-34C6-4D9A-B842-12EA3CD8F6E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2560" y="125748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a multi-symbol look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96480" y="1827360"/>
            <a:ext cx="3603240" cy="52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 = 1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++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: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Foo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Bar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763520" y="192888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L(1)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25560" y="26020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96480" y="2944800"/>
            <a:ext cx="360324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IF (FollowedByColon(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 = 1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x++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: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Foo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',' ident 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Bar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26640" y="384660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solu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00800" y="4189320"/>
            <a:ext cx="3967920" cy="15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ollowedByColo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 x = l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hile (x.kind == _ident || x.kind == _comma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x = scanner.Peek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urn x.kind == _col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9D8-7794-466C-8CFF-8E8AF8D8BEC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1120" y="1257480"/>
            <a:ext cx="54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Conflict resolution by exploiting semantic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13040" y="192888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LL(1)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06200" y="1763640"/>
            <a:ext cx="436032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ident ')' 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type cas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/* nested expressio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|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925560" y="2855880"/>
            <a:ext cx="7049880" cy="3440160"/>
            <a:chOff x="925560" y="2855880"/>
            <a:chExt cx="7049880" cy="3440160"/>
          </a:xfrm>
        </p:grpSpPr>
        <p:sp>
          <p:nvSpPr>
            <p:cNvPr id="819" name=""/>
            <p:cNvSpPr/>
            <p:nvPr/>
          </p:nvSpPr>
          <p:spPr>
            <a:xfrm>
              <a:off x="925560" y="285588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6640" y="436716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solution 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14480" y="4710240"/>
              <a:ext cx="434016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</a:t>
              </a: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IsCas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oken next = scanner.Peek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f (la.kind == _lpar &amp;&amp; next.kind == _ident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Obj obj = SymTab.Find(next.va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turn obj != null &amp;&amp; obj.kind == 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 else return fals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06200" y="3198960"/>
              <a:ext cx="4360320" cy="946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IF (IsCast(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(' ident ')' 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type cast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(' Expr ')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/* nested expression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1680"/>
                  <a:tab algn="l" pos="76212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| numb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42200" y="5040360"/>
              <a:ext cx="243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eturns true if '(' is fo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by a declared type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E52-9130-4AF5-B1E0-D1461EA205ED}" type="slidenum">
              <a:t>55</a:t>
            </a:fld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736560" y="5410080"/>
            <a:ext cx="7137360" cy="419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7120" y="1568520"/>
            <a:ext cx="6544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ase Study -- The Programming Language </a:t>
            </a:r>
            <a:r>
              <a:rPr b="0" i="1" lang="de-AT" sz="2400" spc="-1" strike="noStrike">
                <a:solidFill>
                  <a:srgbClr val="ff0000"/>
                </a:solidFill>
                <a:latin typeface="Times New Roman"/>
              </a:rPr>
              <a:t>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F35-FFF2-4DCC-BC2F-03A1DB40675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 Simple Taste Progra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0720" y="1235160"/>
            <a:ext cx="3564000" cy="411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progra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Te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compute the sum of 1..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Up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gt; 0) { sum = sum + i; i = i - 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ri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8000"/>
                </a:solidFill>
                <a:latin typeface="Arial"/>
              </a:rPr>
              <a:t>// the program start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whi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i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umU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51200" y="119232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ingle 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51560" y="209376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ethods without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49040" y="1547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48680" y="3643200"/>
            <a:ext cx="12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i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55B-B585-4993-A657-C1AC76E4681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ntax of Tas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3280" y="1535040"/>
            <a:ext cx="51368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rogram" ident "{"  {VarDecl} {ProcDecl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c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 ident "(" ")" "{" { VarDecl | Stat} "}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 ident {"," ident} ";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nt" | "bool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0320" y="1168560"/>
            <a:ext cx="28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grams and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71760" y="2641680"/>
            <a:ext cx="5238360" cy="1939680"/>
            <a:chOff x="671760" y="2641680"/>
            <a:chExt cx="5238360" cy="1939680"/>
          </a:xfrm>
        </p:grpSpPr>
        <p:sp>
          <p:nvSpPr>
            <p:cNvPr id="837" name=""/>
            <p:cNvSpPr/>
            <p:nvPr/>
          </p:nvSpPr>
          <p:spPr>
            <a:xfrm>
              <a:off x="671760" y="264168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t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3280" y="2995560"/>
              <a:ext cx="513684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=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"(" ")"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 "(" Expr ")" Stat ["else" Sta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hile" "(" Expr ")" S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read" ident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write" Expr ";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{" { Stat | VarDecl } "}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72120" y="4707000"/>
            <a:ext cx="5252400" cy="1939680"/>
            <a:chOff x="672120" y="4707000"/>
            <a:chExt cx="5252400" cy="1939680"/>
          </a:xfrm>
        </p:grpSpPr>
        <p:sp>
          <p:nvSpPr>
            <p:cNvPr id="840" name=""/>
            <p:cNvSpPr/>
            <p:nvPr/>
          </p:nvSpPr>
          <p:spPr>
            <a:xfrm>
              <a:off x="672120" y="470700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Expr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3280" y="5060880"/>
              <a:ext cx="5151240" cy="15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imExpr [RelOp SimExpr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imExp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 {AddOp Term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 {Mulop Factor}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Factor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dent | number | "-" Factor | "true" | "false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=" | "&lt;" | "&gt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Add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+" | "-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MulOp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*" | "/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2C8-7675-4DD1-838A-43BF5D41F73E}" type="slidenum">
              <a:t>58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416400" y="1943280"/>
            <a:ext cx="137160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16400" y="2959200"/>
            <a:ext cx="1371600" cy="622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Architecture or the Taste V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1040" y="1587600"/>
            <a:ext cx="1371600" cy="17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54160" y="12430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glob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416400" y="1587600"/>
            <a:ext cx="1371600" cy="28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9160" y="1243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416400" y="17654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528720" y="159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16400" y="1943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45000" y="2068560"/>
            <a:ext cx="91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local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all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16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16400" y="2768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16400" y="295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37000" y="258912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return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38080" y="277956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bp of the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37440" y="3084480"/>
            <a:ext cx="92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local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current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164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13000" y="2959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81080" y="2766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13000" y="3886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17720" y="36939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35360" y="28702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991040" y="1955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788000" y="195588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16400" y="35812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79840" y="364320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expression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73720" y="1587600"/>
            <a:ext cx="1371600" cy="2870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40560" y="12430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273720" y="2146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273720" y="2984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70680" y="29844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94080" y="27925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rog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70680" y="25146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8760" y="232236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5400000">
            <a:off x="2761920" y="2812680"/>
            <a:ext cx="114120" cy="3962520"/>
          </a:xfrm>
          <a:custGeom>
            <a:avLst/>
            <a:gdLst>
              <a:gd name="textAreaLeft" fmla="*/ 0 w 114120"/>
              <a:gd name="textAreaRight" fmla="*/ 41040 w 1141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5400000">
            <a:off x="6946920" y="3911400"/>
            <a:ext cx="114120" cy="1765440"/>
          </a:xfrm>
          <a:custGeom>
            <a:avLst/>
            <a:gdLst>
              <a:gd name="textAreaLeft" fmla="*/ 0 w 114120"/>
              <a:gd name="textAreaRight" fmla="*/ 41040 w 114120"/>
              <a:gd name="textAreaTop" fmla="*/ 45720 h 1765440"/>
              <a:gd name="textAreaBottom" fmla="*/ 1719720 h 17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120760" y="483696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ord-add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11880" y="4836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te-add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28720" y="1776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2FC-C0ED-4682-9763-C8A8D8FF143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What is a grammar?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120" y="14097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49320" y="1471680"/>
            <a:ext cx="50803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ement = "if" "(" Condition ")" Statement ["else" Statement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35120" y="2413080"/>
            <a:ext cx="7383960" cy="3180600"/>
            <a:chOff x="735120" y="2413080"/>
            <a:chExt cx="7383960" cy="3180600"/>
          </a:xfrm>
        </p:grpSpPr>
        <p:sp>
          <p:nvSpPr>
            <p:cNvPr id="191" name=""/>
            <p:cNvSpPr/>
            <p:nvPr/>
          </p:nvSpPr>
          <p:spPr>
            <a:xfrm>
              <a:off x="735120" y="2413080"/>
              <a:ext cx="18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Four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7640" y="2995560"/>
              <a:ext cx="167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21320" y="299556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ato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80320" y="302112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if", "&gt;=", ident, number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7280" y="3782880"/>
              <a:ext cx="200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nonterminal symb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21680" y="3782880"/>
              <a:ext cx="159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re decom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nto smaller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80680" y="3808440"/>
              <a:ext cx="259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, Condition, Type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200" y="451944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prod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20600" y="4519440"/>
              <a:ext cx="184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rules how to decom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pose nontermi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79240" y="4545000"/>
              <a:ext cx="3039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Statement = Designator "=" Expr ";"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Designator = ident ["." ident]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6920" y="52563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ff0000"/>
                  </a:solidFill>
                  <a:latin typeface="Times New Roman"/>
                </a:rPr>
                <a:t>start 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1320" y="525636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topmost non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90400" y="528156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CSha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A91-C3EB-45E9-A7A9-A7F653953929}" type="slidenum">
              <a:t>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711360" y="1359000"/>
            <a:ext cx="1295280" cy="5270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Instructions of the Taste VM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42320" y="1382760"/>
            <a:ext cx="73753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constan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stack[bp+a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oad 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globals[a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 loc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ack[bp+a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tore global variabl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lobals[a]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ubtrac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 +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op() * 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Pop(); Push(Pop() /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G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ega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-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Q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equa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==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les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&gt;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T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heck if great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&lt;Pop()) Push(1); else Push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FJMP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Jump if fals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if (Pop() == 0) 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ad integ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x = ReadInt(); Push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 integ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riteInt(Pop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all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pc+2); pc =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Return from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c = Pop(); if (pc == 0) 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Enter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Push(bp); bp = top; top +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17146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EAV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eave method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op = bp; bp = P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654-DBF0-412F-8A82-0EE09D1E737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ample Transl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3640" y="1320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86240" y="1852560"/>
            <a:ext cx="2891880" cy="137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void Fo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nt a, b, m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 a; read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 &gt; b) max = a; else max = 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e m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379040" y="13208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492080" y="1870200"/>
            <a:ext cx="1325160" cy="394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T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19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JMP 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5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28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JMP  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4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O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37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OAD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0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1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42: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53160" y="367020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32520" y="36702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89080" y="45338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42926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429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702400" y="49784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B01-45C8-4BF3-A4AB-950A926E7D8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canner Specific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1200" y="1484280"/>
            <a:ext cx="3455640" cy="342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PILER T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letter = 'A'..'Z' + 'a'..'z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igit = '0'..'9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  = letter {letter | 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 = digit {digit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ENTS FROM "/*" TO "*/" N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MMENTS FROM "//" TO '\r' '\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GNORE '\r' + '\n' + '\t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ND Ta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B21-B63C-459E-8D69-E1E7EB70B4A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ymbol Table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9680" y="1255680"/>
            <a:ext cx="4527000" cy="199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op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Parser parser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, int kind, int typ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string name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pen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loseSco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82360" y="1255680"/>
            <a:ext cx="1981440" cy="201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ring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ki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d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locals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Obj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96600" y="3746520"/>
            <a:ext cx="5678640" cy="2706120"/>
            <a:chOff x="696600" y="3746520"/>
            <a:chExt cx="5678640" cy="2706120"/>
          </a:xfrm>
        </p:grpSpPr>
        <p:sp>
          <p:nvSpPr>
            <p:cNvPr id="902" name=""/>
            <p:cNvSpPr/>
            <p:nvPr/>
          </p:nvSpPr>
          <p:spPr>
            <a:xfrm>
              <a:off x="696600" y="374652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ample symbol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94880" y="4227480"/>
              <a:ext cx="1284120" cy="222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program P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bool b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void Foo(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int c, 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4340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92360" y="4456080"/>
              <a:ext cx="22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a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3072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79320" y="445608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b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918040" y="4432320"/>
              <a:ext cx="457200" cy="355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0360" y="445608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Foo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38560" y="4432320"/>
              <a:ext cx="457200" cy="3556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00600" y="45975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00880" y="459756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95760" y="469908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30320" y="44686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43400" y="5194440"/>
              <a:ext cx="457200" cy="355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92360" y="5218200"/>
              <a:ext cx="22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30720" y="5194440"/>
              <a:ext cx="457200" cy="355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79320" y="521820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"d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38560" y="5194440"/>
              <a:ext cx="457200" cy="355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0600" y="535932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695760" y="54608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30320" y="523080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lo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3454560" y="478764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22560" y="5194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06880" y="5065560"/>
              <a:ext cx="66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Times New Roman"/>
                </a:rPr>
                <a:t>top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00A-096D-4A16-B0C5-ACFB089971D0}" type="slidenum">
              <a:t>63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Code Generator Clas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8760" y="1370160"/>
            <a:ext cx="3312360" cy="221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i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gStar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op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m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op, int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int adr, int val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18D-57A0-4E22-8CDF-5C294A09BB3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Declarat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6480" y="1387440"/>
            <a:ext cx="4076280" cy="162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progra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OpenScope(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ProcDecl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}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CloseScope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22520" y="3063960"/>
            <a:ext cx="4862520" cy="10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Var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string name; int typ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Insert(name, VA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',' 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ab.Insert(name, VAR, typ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';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35120" y="4156200"/>
            <a:ext cx="7691400" cy="220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ProcDecl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tring name; Obj obj; int adr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voi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&lt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Insert(name, PROC, UNDEF); obj.adr = gen.p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name == "Main") gen.progStart = gen.pc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ab.OpenScope(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')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ENTER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 VarDecl | Stat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}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LEAVE); gen.Emit(R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tab.topScope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ab.CloseScope(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657400" y="3063960"/>
            <a:ext cx="2758680" cy="105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UNDEF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 "int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I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 "bool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89680" y="1395360"/>
            <a:ext cx="2344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ymbolTabl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a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odeGenera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ge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52F-E4B0-4922-8690-B0B35CFD194C}" type="slidenum">
              <a:t>65</a:t>
            </a:fld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Expression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60320" y="1197000"/>
            <a:ext cx="7110360" cy="124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type1) SemErr("incompatible type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0320" y="2479680"/>
            <a:ext cx="711828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im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Add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 || type1 != 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0320" y="3965400"/>
            <a:ext cx="712800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1, op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ulOp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&lt;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out type1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 || type1 != 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op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56000" y="5451480"/>
            <a:ext cx="7130520" cy="1243080"/>
            <a:chOff x="756000" y="5451480"/>
            <a:chExt cx="7130520" cy="1243080"/>
          </a:xfrm>
        </p:grpSpPr>
        <p:sp>
          <p:nvSpPr>
            <p:cNvPr id="939" name=""/>
            <p:cNvSpPr/>
            <p:nvPr/>
          </p:nvSpPr>
          <p:spPr>
            <a:xfrm>
              <a:off x="756000" y="5451480"/>
              <a:ext cx="242820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Rel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"=="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EQU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&lt;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LS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&gt;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GTR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86364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07240" y="5451480"/>
              <a:ext cx="232668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Add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+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PLU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-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MINU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59840" y="5451480"/>
              <a:ext cx="2326680" cy="1243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Arial"/>
                </a:rPr>
                <a:t>MulOp</a:t>
              </a:r>
              <a:r>
                <a:rPr b="0" lang="de-AT" sz="1400" spc="-1" strike="noStrike">
                  <a:solidFill>
                    <a:srgbClr val="ff0000"/>
                  </a:solidFill>
                  <a:latin typeface="Arial"/>
                </a:rPr>
                <a:t>&lt;out int 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UNDEF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*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TIMES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'/'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3333cc"/>
                  </a:solidFill>
                  <a:latin typeface="Arial"/>
                </a:rPr>
                <a:t>(. op = SLASH; 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AT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90440"/>
                  <a:tab algn="l" pos="380880"/>
                  <a:tab algn="l" pos="762120"/>
                  <a:tab algn="l" pos="228600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A25-7359-48ED-825D-94CEB6E5BFF3}" type="slidenum">
              <a:t>66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Factor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0320" y="1324080"/>
            <a:ext cx="6653160" cy="411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in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n; Obj obj; string name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 = UNDEF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 type = obj.typ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== VAR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LOAD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LOAD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} else SemErr("variable expected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n = Convert.ToInt32(t.val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n); type = IN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-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SemErr("integer type expected"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type = I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NEG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tru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1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fa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ONST, 0); type = BOOL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0320" y="5514840"/>
            <a:ext cx="6653160" cy="47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string 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 name = t.val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CE5-150E-4992-9383-912B20112F2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Stat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0320" y="1324080"/>
            <a:ext cx="7338960" cy="520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; string name; Obj obj; int adr, adr2, loopstar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=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!= VAR) SemErr("can only assign to variables"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obj.type) SemErr("incompatible type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STO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STO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')'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kind != PROC) SemErr("object is not a procedur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CALL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rea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dent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nam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obj = tab.Find(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type != INT) 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REA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obj.level == 0) gen.Emit(STOG, obj.ad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else gen.Emit(STO, obj.adr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rit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;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INT) SemErr("integer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WRITE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{' { Stat | VarDecl } '}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CA1-EE18-47FD-9EF7-FD58B9409CB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Parser Specification -- Statements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0320" y="1324080"/>
            <a:ext cx="7338960" cy="414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nt type; string name; Obj obj; int adr, adr2, loopstart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if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BOOL) SemErr("boolean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FJMP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els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JMP, 0); adr2 = gen.pc -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adr = adr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"while"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loopstart = gen.pc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'(' Expr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&lt;out type&gt;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')'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if (type != BOOL) SemErr("boolean type expect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FJMP, 0); adr = gen.pc - 2; 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ta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(.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Emit(JMP, loopstart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2095560"/>
                <a:tab algn="l" pos="22860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3333cc"/>
                </a:solidFill>
                <a:latin typeface="Arial"/>
              </a:rPr>
              <a:t>gen.Patch(adr, gen.pc); .)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7CE-A540-4C22-9E63-8EB79CA2B9A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43160" y="2629080"/>
            <a:ext cx="5267160" cy="428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BNF Notation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6960" y="1244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Extended Backus-Naur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for writing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98800" y="1255680"/>
            <a:ext cx="37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John Backus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developed the first Fortra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400" spc="-1" strike="noStrike">
                <a:solidFill>
                  <a:srgbClr val="000000"/>
                </a:solidFill>
                <a:latin typeface="Times New Roman"/>
              </a:rPr>
              <a:t>Peter Naur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: edited the Algol60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86360" y="2670120"/>
            <a:ext cx="516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tement    =    "write"    ident    ","    Expression    ";" 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69720" y="21733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0840" y="199224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39480" y="1992240"/>
            <a:ext cx="10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non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26700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6728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266800" y="2448000"/>
            <a:ext cx="8604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86480" y="2448000"/>
            <a:ext cx="8568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7600" y="199224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termin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895040" y="2657520"/>
            <a:ext cx="88920" cy="904680"/>
          </a:xfrm>
          <a:custGeom>
            <a:avLst/>
            <a:gdLst>
              <a:gd name="textAreaLeft" fmla="*/ 0 w 88920"/>
              <a:gd name="textAreaRight" fmla="*/ 32040 w 88920"/>
              <a:gd name="textAreaTop" fmla="*/ 23400 h 904680"/>
              <a:gd name="textAreaBottom" fmla="*/ 881280 h 90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4585680" y="1452240"/>
            <a:ext cx="79560" cy="3305160"/>
          </a:xfrm>
          <a:custGeom>
            <a:avLst/>
            <a:gdLst>
              <a:gd name="textAreaLeft" fmla="*/ 0 w 79560"/>
              <a:gd name="textAreaRight" fmla="*/ 28800 w 79560"/>
              <a:gd name="textAreaTop" fmla="*/ 86040 h 3305160"/>
              <a:gd name="textAreaBottom" fmla="*/ 3219120 h 330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82040" y="311616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left-hand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6000" y="311616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right-hand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6960" y="2178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96960" y="4673520"/>
            <a:ext cx="7041240" cy="1718280"/>
            <a:chOff x="696960" y="4673520"/>
            <a:chExt cx="7041240" cy="1718280"/>
          </a:xfrm>
        </p:grpSpPr>
        <p:sp>
          <p:nvSpPr>
            <p:cNvPr id="223" name=""/>
            <p:cNvSpPr/>
            <p:nvPr/>
          </p:nvSpPr>
          <p:spPr>
            <a:xfrm>
              <a:off x="696960" y="467352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Meta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2160" y="5164200"/>
              <a:ext cx="52668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de-AT" sz="16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19440" y="5164200"/>
              <a:ext cx="19105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separate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groups alterna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optional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terative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6080" y="5172120"/>
              <a:ext cx="29221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| b | c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  or  b  or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a (b | c) 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[a] 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ab |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{a}b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A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 b | ab | aab | aaab |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00680" y="3605040"/>
            <a:ext cx="43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y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terminal symbols start with lower-case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nonterminal symbols start with upper-case le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CE9-4C08-4ECD-AF71-23567B69BA69}" type="slidenum">
              <a:t>7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Main Program of Taste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920" y="1268280"/>
            <a:ext cx="5520960" cy="371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ublic static void 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(string[] 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arg.Length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Scanner scanner = new Scanner(arg[0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 parser = new Parser(scann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tab = new SymbolTable(pars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arser.gen = new CodeGen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ff0000"/>
                </a:solidFill>
                <a:latin typeface="Arial"/>
              </a:rPr>
              <a:t>parser.Par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if (parser.errors.count == 0) parser.gen.Interpret("Taste.I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onsole.WriteLine("-- No source file specified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683640" y="5181480"/>
            <a:ext cx="6493680" cy="1214280"/>
            <a:chOff x="683640" y="5181480"/>
            <a:chExt cx="6493680" cy="1214280"/>
          </a:xfrm>
        </p:grpSpPr>
        <p:sp>
          <p:nvSpPr>
            <p:cNvPr id="952" name=""/>
            <p:cNvSpPr/>
            <p:nvPr/>
          </p:nvSpPr>
          <p:spPr>
            <a:xfrm>
              <a:off x="683640" y="518148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Building the whole t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6440" y="5662440"/>
              <a:ext cx="6410880" cy="73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coco Taste.a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csc Taste.cs Scanner.cs Parser.cs SymbolTable.cs CodeGenerator.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ffffff"/>
                  </a:solidFill>
                  <a:latin typeface="Arial"/>
                </a:rPr>
                <a:t>c:&gt; Taste Sample.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E81-32B7-4146-A6ED-01128294838B}" type="slidenum">
              <a:t>70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26840" y="1319040"/>
            <a:ext cx="73998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generates a scanner and a recursive descent parser from an attributed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LL(1) conflicts can be handled with resolver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Grammars for C# and Java are available in Coco/R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is open source software (Gnu GPL)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http://ssw.jku.at/Coc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co/R has been used by us to build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white-box test tool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profiler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static program analyzer for C#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metrics tool for Java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ompilers for domain-specific languages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a log file analyze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Many companies and projects use Coco/R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harpDevelop: a C# IDE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icsharpcode.ne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Software Tomography: Static Analysis Tool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software-tomography.com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Sharp2Html: HTML viewer for C# sources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www.charp2html.net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currently 39000 hits for Coco/R in Goo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972-3AB3-4D0A-A8D4-2C331F1F6FB2}" type="slidenum">
              <a:t>71</a:t>
            </a:fld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3333cc"/>
                </a:solidFill>
                <a:latin typeface="Times New Roman"/>
              </a:rPr>
              <a:t>Example: </a:t>
            </a:r>
            <a:r>
              <a:rPr b="0" i="1" lang="de-AT" sz="2400" spc="-1" strike="noStrike">
                <a:solidFill>
                  <a:srgbClr val="3333cc"/>
                </a:solidFill>
                <a:latin typeface="Times New Roman"/>
              </a:rPr>
              <a:t>Grammar for Arithmetic Expressions</a:t>
            </a:r>
            <a:endParaRPr b="0" i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6960" y="1371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29320" y="1789200"/>
            <a:ext cx="34056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["+" | "-"] Term {("+" | "-") Term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Factor {("*" | "/") Factor}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= ident | number | "(" Expr ")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6265800" y="1446120"/>
            <a:ext cx="2276640" cy="1247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958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259680" y="2668680"/>
            <a:ext cx="1552320" cy="1038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357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6278400" y="3706920"/>
            <a:ext cx="2428920" cy="1019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739120" y="20559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Ex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00960" y="326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5000" y="43164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96600" y="2882880"/>
            <a:ext cx="4145400" cy="1573920"/>
            <a:chOff x="696600" y="2882880"/>
            <a:chExt cx="4145400" cy="1573920"/>
          </a:xfrm>
        </p:grpSpPr>
        <p:sp>
          <p:nvSpPr>
            <p:cNvPr id="241" name=""/>
            <p:cNvSpPr/>
            <p:nvPr/>
          </p:nvSpPr>
          <p:spPr>
            <a:xfrm>
              <a:off x="696600" y="2882880"/>
              <a:ext cx="194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2120" y="3287880"/>
              <a:ext cx="15264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simple T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terminal class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96760" y="3287880"/>
              <a:ext cx="214524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"+", "-", "*", "/", "(", ")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just 1 instance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ident, 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de-AT" sz="1600" spc="-1" strike="noStrike">
                  <a:solidFill>
                    <a:srgbClr val="3333cc"/>
                  </a:solidFill>
                  <a:latin typeface="Times New Roman"/>
                </a:rPr>
                <a:t>multiple instances</a:t>
              </a: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96960" y="4699080"/>
            <a:ext cx="2270160" cy="716760"/>
            <a:chOff x="696960" y="4699080"/>
            <a:chExt cx="2270160" cy="716760"/>
          </a:xfrm>
        </p:grpSpPr>
        <p:sp>
          <p:nvSpPr>
            <p:cNvPr id="245" name=""/>
            <p:cNvSpPr/>
            <p:nvPr/>
          </p:nvSpPr>
          <p:spPr>
            <a:xfrm>
              <a:off x="696960" y="469908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Nonterminal symb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1760" y="507852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, Term,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96960" y="5638680"/>
            <a:ext cx="1432080" cy="716760"/>
            <a:chOff x="696960" y="5638680"/>
            <a:chExt cx="1432080" cy="716760"/>
          </a:xfrm>
        </p:grpSpPr>
        <p:sp>
          <p:nvSpPr>
            <p:cNvPr id="248" name=""/>
            <p:cNvSpPr/>
            <p:nvPr/>
          </p:nvSpPr>
          <p:spPr>
            <a:xfrm>
              <a:off x="696960" y="5638680"/>
              <a:ext cx="143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Times New Roman"/>
                </a:rPr>
                <a:t>Start 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27440" y="60181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imes New Roman"/>
                </a:rPr>
                <a:t>Ex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675-C452-4DE3-AD01-81E4467B45FC}" type="slidenum">
              <a:t>8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36560" y="3213000"/>
            <a:ext cx="7137360" cy="419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960" y="1568520"/>
            <a:ext cx="59659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Times New Roman"/>
              </a:rPr>
              <a:t>Generating Compilers with Coco/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Gram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Times New Roman"/>
              </a:rPr>
              <a:t>Coco/R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cann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Pars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L(1)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808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512-2C68-444D-BC95-AC5B12A248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9:13Z</dcterms:created>
  <dc:creator>Mössenböck</dc:creator>
  <dc:description/>
  <dc:language>en-US</dc:language>
  <cp:lastModifiedBy>Hanspeter Mössenböck</cp:lastModifiedBy>
  <cp:lastPrinted>2001-09-28T08:52:55Z</cp:lastPrinted>
  <dcterms:modified xsi:type="dcterms:W3CDTF">2007-10-17T13:57:52Z</dcterms:modified>
  <cp:revision>468</cp:revision>
  <dc:subject/>
  <dc:title>Javascript-Anweisungen</dc:title>
</cp:coreProperties>
</file>