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DEA-F30A-4906-91ED-63B1321D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497-9E0C-4F5B-BEA4-6EDD66B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DCC-BF65-4C6E-9995-54054E05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CE6-AEF3-4B35-9554-41AD20C4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A60-DCBD-4FB9-87D0-5CAE721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488-FDAC-413E-9A40-0766365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206-180E-46C0-A1E7-77BB3F2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46C-3E26-4FC2-9147-6274D78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056-2FCD-4301-B997-88F112B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5D8-29C4-4E63-A513-D3C9F78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ED2-CD2A-4C1A-8A08-AD4BD80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2D7-FB89-4AF6-BDD0-99B283C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FE0-9688-475E-8909-93F16BE453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4840" y="250200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E01-A964-411D-BA70-0276E966BB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mplementation of an LR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660720" y="128124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arbitrary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656760" y="269064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ction entr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2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69600" y="3414600"/>
            <a:ext cx="1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8680" y="3094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6200000">
            <a:off x="7607160" y="3009600"/>
            <a:ext cx="88920" cy="647640"/>
          </a:xfrm>
          <a:custGeom>
            <a:avLst/>
            <a:gdLst>
              <a:gd name="textAreaLeft" fmla="*/ 0 w 88920"/>
              <a:gd name="textAreaRight" fmla="*/ 32040 w 88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86320" y="3094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327800" y="3809880"/>
            <a:ext cx="6606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69960" y="3808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87200" y="38084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78200" y="3808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90520" y="4125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303760" y="412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8400" y="3809880"/>
            <a:ext cx="6602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27800" y="3416400"/>
            <a:ext cx="6606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87560" y="3414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278200" y="3414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988400" y="3416400"/>
            <a:ext cx="6602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8280360" y="3009600"/>
            <a:ext cx="88920" cy="647640"/>
          </a:xfrm>
          <a:custGeom>
            <a:avLst/>
            <a:gdLst>
              <a:gd name="textAreaLeft" fmla="*/ 0 w 88920"/>
              <a:gd name="textAreaRight" fmla="*/ 32040 w 88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2080" y="1251000"/>
            <a:ext cx="5970960" cy="521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ort[,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ion = { {...}, {...}, ...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tate transi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[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gth = { ... 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oduction leng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[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ftSide = { ... 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eft side NTS of every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urren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xt input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, n,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earStac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0; sym =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sh(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ction[state, sym]; op = a / 256; n = a % 25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op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hift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n; sym = Next(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redu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reduc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int i = 0; i &lt; length[n]; i++) Po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ction[Top(), leftSide[n]]; n = a % 256;  // shift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n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accep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retur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throw new Exception();  // error handling is still mi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B3E-A10D-498D-9FA2-928D5D5898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104840" y="29336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6C5-6151-4206-8B9E-BE8F1F1F28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(0) and LR(1)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1760" y="1231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488600" y="1268280"/>
            <a:ext cx="28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able from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ght-canonical der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31760" y="2195640"/>
            <a:ext cx="37911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LR(0),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no reduce state that has also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hift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every reduce state it is only possibl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reduce according to a singl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600880" y="1290600"/>
            <a:ext cx="3043440" cy="2867760"/>
            <a:chOff x="5600880" y="1290600"/>
            <a:chExt cx="3043440" cy="2867760"/>
          </a:xfrm>
        </p:grpSpPr>
        <p:sp>
          <p:nvSpPr>
            <p:cNvPr id="1031" name=""/>
            <p:cNvSpPr/>
            <p:nvPr/>
          </p:nvSpPr>
          <p:spPr>
            <a:xfrm>
              <a:off x="5600880" y="227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74320" y="230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72200" y="1346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46000" y="13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70600" y="135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31800" y="13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00800" y="146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38320" y="129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85960" y="13921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70600" y="193032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931800" y="19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86680" y="157464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86680" y="204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3796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15000" y="146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77720" y="129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15000" y="146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9920" y="226044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31160" y="22813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17680" y="17604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7220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46000" y="277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286680" y="25020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47520" y="258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150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7772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35268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33400" y="33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15000" y="345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77720" y="32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715000" y="250200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69360" y="1930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43160" y="196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112160" y="20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7452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280360" y="1930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15640" y="195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10560" y="20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4772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11880" y="17478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7060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44400" y="277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134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7648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985080" y="21585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3320" y="2408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69360" y="2743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04280" y="2763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992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3672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84360" y="277668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8668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4752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7060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44400" y="338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13400" y="3467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76120" y="329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6936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43160" y="33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99200" y="3467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236720" y="329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83280" y="33861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06320" y="3589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643720" y="3821040"/>
              <a:ext cx="24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is not LR(0)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71760" y="4089240"/>
            <a:ext cx="4749840" cy="2132640"/>
            <a:chOff x="671760" y="4089240"/>
            <a:chExt cx="4749840" cy="2132640"/>
          </a:xfrm>
        </p:grpSpPr>
        <p:sp>
          <p:nvSpPr>
            <p:cNvPr id="1096" name=""/>
            <p:cNvSpPr/>
            <p:nvPr/>
          </p:nvSpPr>
          <p:spPr>
            <a:xfrm>
              <a:off x="671760" y="4089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88600" y="4125960"/>
              <a:ext cx="2855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able from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ft to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ght-canonical deri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okahead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29960" y="5052960"/>
              <a:ext cx="4391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R(1), if in every state a si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okahead token is sufficient to dec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ther to do a shift or a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ording to which production one should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5BD-23A5-48D4-92C7-5923A4AC03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9920" y="12574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okahead 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52040" y="1598760"/>
            <a:ext cx="713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set of LR(1)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smaller tables than LR(1) grammars, because states with the same actions bu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fferent lookahead tokens can be merg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709560" y="2514600"/>
            <a:ext cx="3243240" cy="386640"/>
            <a:chOff x="709560" y="2514600"/>
            <a:chExt cx="3243240" cy="386640"/>
          </a:xfrm>
        </p:grpSpPr>
        <p:sp>
          <p:nvSpPr>
            <p:cNvPr id="1103" name=""/>
            <p:cNvSpPr/>
            <p:nvPr/>
          </p:nvSpPr>
          <p:spPr>
            <a:xfrm>
              <a:off x="709560" y="25146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5720" y="2563920"/>
              <a:ext cx="21970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 = v | E "+" v | "(" E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849920" y="3174840"/>
            <a:ext cx="3362400" cy="2603520"/>
            <a:chOff x="4849920" y="3174840"/>
            <a:chExt cx="3362400" cy="2603520"/>
          </a:xfrm>
        </p:grpSpPr>
        <p:sp>
          <p:nvSpPr>
            <p:cNvPr id="1106" name=""/>
            <p:cNvSpPr/>
            <p:nvPr/>
          </p:nvSpPr>
          <p:spPr>
            <a:xfrm>
              <a:off x="4849920" y="317484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65840" y="3759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39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89440" y="3772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50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19640" y="387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57520" y="370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05520" y="3805200"/>
              <a:ext cx="61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64240" y="443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3804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92560" y="45464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57880" y="4351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18040" y="4546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5556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75240" y="443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4904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29400" y="4546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086600" y="4444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4780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02680" y="447840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(E)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89720" y="46609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39040" y="4719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6424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3804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79960" y="52196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57160" y="5024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18040" y="5219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56280" y="502452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7524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4904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29400" y="5219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660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4780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402320" y="5151600"/>
              <a:ext cx="8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4320" y="502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54680" y="4338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79960" y="3987720"/>
              <a:ext cx="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78360" y="5334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11960" y="5549760"/>
              <a:ext cx="520560" cy="2286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635800" y="55706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6" name=""/>
            <p:cNvCxnSpPr>
              <a:stCxn id="1114" idx="5"/>
              <a:endCxn id="1114" idx="3"/>
            </p:cNvCxnSpPr>
            <p:nvPr/>
          </p:nvCxnSpPr>
          <p:spPr>
            <a:xfrm rot="5400000">
              <a:off x="5776920" y="4547160"/>
              <a:ext cx="2520" cy="162720"/>
            </a:xfrm>
            <a:prstGeom prst="curvedConnector5">
              <a:avLst>
                <a:gd name="adj1" fmla="val 12383333"/>
                <a:gd name="adj2" fmla="val 49889"/>
                <a:gd name="adj3" fmla="val 123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7" name=""/>
            <p:cNvSpPr/>
            <p:nvPr/>
          </p:nvSpPr>
          <p:spPr>
            <a:xfrm>
              <a:off x="5865840" y="4681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5778360" y="40003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839920" y="41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709560" y="3174840"/>
            <a:ext cx="3312360" cy="3213360"/>
            <a:chOff x="709560" y="3174840"/>
            <a:chExt cx="3312360" cy="3213360"/>
          </a:xfrm>
        </p:grpSpPr>
        <p:sp>
          <p:nvSpPr>
            <p:cNvPr id="1151" name=""/>
            <p:cNvSpPr/>
            <p:nvPr/>
          </p:nvSpPr>
          <p:spPr>
            <a:xfrm>
              <a:off x="709560" y="317484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5480" y="3759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9928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49440" y="3772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10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079640" y="387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17160" y="370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64800" y="3805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23880" y="4711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9768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52560" y="48261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17520" y="4630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49440" y="4229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1064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865880" y="4237200"/>
              <a:ext cx="53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50960" y="444492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4826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915560" y="4630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235240" y="4711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30904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489040" y="4826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46240" y="4724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0744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62320" y="475776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(E)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35240" y="51944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309040" y="522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89040" y="530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46240" y="5207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07440" y="522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62680" y="52401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49360" y="494028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12520" y="45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98680" y="4935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2388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97680" y="574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39960" y="582948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16800" y="563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78040" y="5829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15920" y="5634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3524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09040" y="574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89040" y="5829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46240" y="572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68920" y="5748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61960" y="5761080"/>
              <a:ext cx="75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14320" y="563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14320" y="5126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14680" y="461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39960" y="398772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38360" y="5943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71600" y="6159600"/>
              <a:ext cx="520560" cy="2286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95800" y="61801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09680" y="3772080"/>
              <a:ext cx="30492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502000" y="3759120"/>
              <a:ext cx="11412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78320" y="3452760"/>
              <a:ext cx="133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is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6" name=""/>
            <p:cNvCxnSpPr>
              <a:stCxn id="1159" idx="5"/>
              <a:endCxn id="1159" idx="3"/>
            </p:cNvCxnSpPr>
            <p:nvPr/>
          </p:nvCxnSpPr>
          <p:spPr>
            <a:xfrm rot="5400000">
              <a:off x="1636920" y="4826520"/>
              <a:ext cx="2520" cy="162720"/>
            </a:xfrm>
            <a:prstGeom prst="curvedConnector5">
              <a:avLst>
                <a:gd name="adj1" fmla="val 11583333"/>
                <a:gd name="adj2" fmla="val 49889"/>
                <a:gd name="adj3" fmla="val 115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7" name=""/>
            <p:cNvSpPr/>
            <p:nvPr/>
          </p:nvSpPr>
          <p:spPr>
            <a:xfrm>
              <a:off x="1725480" y="4973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460520" y="3632040"/>
            <a:ext cx="3984480" cy="2977560"/>
            <a:chOff x="1460520" y="3632040"/>
            <a:chExt cx="3984480" cy="2977560"/>
          </a:xfrm>
        </p:grpSpPr>
        <p:sp>
          <p:nvSpPr>
            <p:cNvPr id="1209" name=""/>
            <p:cNvSpPr/>
            <p:nvPr/>
          </p:nvSpPr>
          <p:spPr>
            <a:xfrm>
              <a:off x="2141640" y="6272280"/>
              <a:ext cx="330336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rgeable states:   (1,5)   (6,9)   (7,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60520" y="3632040"/>
              <a:ext cx="406440" cy="9273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33720" y="5092560"/>
              <a:ext cx="444240" cy="939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19520" y="5092560"/>
              <a:ext cx="444240" cy="939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543-81FE-424C-8405-472914BB89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 Parsing Versus Recursive Desc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0280" y="1282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52760" y="1649520"/>
            <a:ext cx="7119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LR(1) is more powerful than LL(1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left-recursive produc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productions with the same terminal start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more compact than recursive descent parser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ut the tables need much memory, t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arsers are universal algorithms that can be parameterized with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arsers allow better 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0280" y="38098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50960" y="4176720"/>
            <a:ext cx="63802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LR(1) tables are difficult to build for large grammars (one needs too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slightly slower than RD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processing is more complicated for LR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more difficult to 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51320" y="5776920"/>
            <a:ext cx="704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only pay off for complex langu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imple languages (e.g. command languages) recursive descent parsers are bet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49A-9340-4BBE-941E-D58C30B7F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104840" y="336564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48D-39B6-4801-A60D-54943721BC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96960" y="127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011960" y="1700280"/>
            <a:ext cx="92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3555000" y="1270080"/>
            <a:ext cx="4467600" cy="965880"/>
            <a:chOff x="3555000" y="1270080"/>
            <a:chExt cx="4467600" cy="965880"/>
          </a:xfrm>
        </p:grpSpPr>
        <p:sp>
          <p:nvSpPr>
            <p:cNvPr id="1226" name=""/>
            <p:cNvSpPr/>
            <p:nvPr/>
          </p:nvSpPr>
          <p:spPr>
            <a:xfrm>
              <a:off x="3555000" y="1270080"/>
              <a:ext cx="446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parser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denoted by a point)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moves throu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prod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68200" y="192888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3868200" y="2360520"/>
            <a:ext cx="102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b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868200" y="1992240"/>
            <a:ext cx="4467600" cy="580680"/>
            <a:chOff x="3868200" y="1992240"/>
            <a:chExt cx="4467600" cy="580680"/>
          </a:xfrm>
        </p:grpSpPr>
        <p:sp>
          <p:nvSpPr>
            <p:cNvPr id="1230" name=""/>
            <p:cNvSpPr/>
            <p:nvPr/>
          </p:nvSpPr>
          <p:spPr>
            <a:xfrm>
              <a:off x="3868200" y="214488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77160" y="1992240"/>
              <a:ext cx="315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parser is in front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t is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beginning of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4863960" y="22986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696600" y="3149640"/>
            <a:ext cx="4734000" cy="2107080"/>
            <a:chOff x="696600" y="3149640"/>
            <a:chExt cx="4734000" cy="2107080"/>
          </a:xfrm>
        </p:grpSpPr>
        <p:sp>
          <p:nvSpPr>
            <p:cNvPr id="1234" name=""/>
            <p:cNvSpPr/>
            <p:nvPr/>
          </p:nvSpPr>
          <p:spPr>
            <a:xfrm>
              <a:off x="696600" y="314964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 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38880" y="354168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ing snapsh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06200" y="3941640"/>
              <a:ext cx="13676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/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35240" y="42418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5240" y="4381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27480" y="4189320"/>
              <a:ext cx="3003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this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processed part of the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cessed part of the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79560" y="46101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01720" y="485136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36840" y="510552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79560" y="424188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01720" y="424188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36840" y="4241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942480" y="5492880"/>
            <a:ext cx="60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344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hift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int is not at the end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3344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duce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int is at the end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916600" y="3149640"/>
            <a:ext cx="3080880" cy="1366560"/>
            <a:chOff x="5916600" y="3149640"/>
            <a:chExt cx="3080880" cy="1366560"/>
          </a:xfrm>
        </p:grpSpPr>
        <p:sp>
          <p:nvSpPr>
            <p:cNvPr id="1248" name=""/>
            <p:cNvSpPr/>
            <p:nvPr/>
          </p:nvSpPr>
          <p:spPr>
            <a:xfrm>
              <a:off x="5916600" y="314964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rol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8280" y="3529080"/>
              <a:ext cx="271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ymbol after the point,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43960" y="3935520"/>
              <a:ext cx="305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/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 symbol =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/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 symbol =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191-FBB8-42ED-922A-7AB9340F9E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tate as a Set of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3280" y="12826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08840" y="16747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resented by a set of items on which the parser works at this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16440" y="2131920"/>
            <a:ext cx="15235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16040" y="3287880"/>
            <a:ext cx="548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-down parsers always work on jus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tom-up parsers can work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ultiple productions in paralle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05280" y="4176720"/>
            <a:ext cx="1002240" cy="520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2349000" y="4176720"/>
            <a:ext cx="1954080" cy="520200"/>
            <a:chOff x="2349000" y="4176720"/>
            <a:chExt cx="1954080" cy="520200"/>
          </a:xfrm>
        </p:grpSpPr>
        <p:sp>
          <p:nvSpPr>
            <p:cNvPr id="1258" name=""/>
            <p:cNvSpPr/>
            <p:nvPr/>
          </p:nvSpPr>
          <p:spPr>
            <a:xfrm>
              <a:off x="3300840" y="4176720"/>
              <a:ext cx="1002240" cy="5202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62320" y="4521240"/>
              <a:ext cx="79992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349000" y="421488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4457160" y="3859200"/>
            <a:ext cx="4492800" cy="1310760"/>
            <a:chOff x="4457160" y="3859200"/>
            <a:chExt cx="4492800" cy="1310760"/>
          </a:xfrm>
        </p:grpSpPr>
        <p:sp>
          <p:nvSpPr>
            <p:cNvPr id="1262" name=""/>
            <p:cNvSpPr/>
            <p:nvPr/>
          </p:nvSpPr>
          <p:spPr>
            <a:xfrm>
              <a:off x="5447160" y="4176720"/>
              <a:ext cx="1002240" cy="5202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70480" y="4521240"/>
              <a:ext cx="79992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57160" y="421488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94920" y="3859200"/>
              <a:ext cx="2255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at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has to dec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avor of one of the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s (based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okahead tok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22160" y="5167440"/>
            <a:ext cx="59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tom-up parsers are therefore more powerful than top-down pars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16C-EAD7-4E61-B9E6-591A821361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Kernel and Closure of a Sta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21440" y="13208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92960" y="1763640"/>
            <a:ext cx="768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ose items of a state which do not start with a point (except in the start symbol prod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364760" y="2233440"/>
            <a:ext cx="1282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c 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91160" y="2678040"/>
            <a:ext cx="47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other items of a state can be derived from its ker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22160" y="3225960"/>
            <a:ext cx="5120640" cy="2808720"/>
            <a:chOff x="722160" y="3225960"/>
            <a:chExt cx="5120640" cy="2808720"/>
          </a:xfrm>
        </p:grpSpPr>
        <p:sp>
          <p:nvSpPr>
            <p:cNvPr id="1273" name=""/>
            <p:cNvSpPr/>
            <p:nvPr/>
          </p:nvSpPr>
          <p:spPr>
            <a:xfrm>
              <a:off x="1168560" y="5105520"/>
              <a:ext cx="1409400" cy="25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68560" y="5359320"/>
              <a:ext cx="1409400" cy="470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2160" y="32259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134360" y="3668760"/>
              <a:ext cx="40525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tate has an item of the for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 =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. Y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/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 all items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Y = . 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/ First(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the stat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while (new items were adde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152720" y="5091120"/>
              <a:ext cx="143460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91160" y="47610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91720" y="50529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27480" y="5130720"/>
              <a:ext cx="88920" cy="6987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8000 h 698760"/>
                <a:gd name="textAreaBottom" fmla="*/ 680760 h 69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466440" y="529416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10760" y="4875120"/>
              <a:ext cx="932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46A-E9F5-4332-A096-8601BB6F7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Computing the Closur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8840" y="12556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25920" y="1577880"/>
            <a:ext cx="90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5408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89040" y="125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2488680" y="1941480"/>
            <a:ext cx="1948680" cy="990720"/>
            <a:chOff x="2488680" y="1941480"/>
            <a:chExt cx="1948680" cy="990720"/>
          </a:xfrm>
        </p:grpSpPr>
        <p:sp>
          <p:nvSpPr>
            <p:cNvPr id="1289" name=""/>
            <p:cNvSpPr/>
            <p:nvPr/>
          </p:nvSpPr>
          <p:spPr>
            <a:xfrm>
              <a:off x="2727720" y="2263680"/>
              <a:ext cx="14346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88680" y="194148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2489040" y="3059280"/>
            <a:ext cx="1969920" cy="1373760"/>
            <a:chOff x="2489040" y="3059280"/>
            <a:chExt cx="1969920" cy="1373760"/>
          </a:xfrm>
        </p:grpSpPr>
        <p:sp>
          <p:nvSpPr>
            <p:cNvPr id="1292" name=""/>
            <p:cNvSpPr/>
            <p:nvPr/>
          </p:nvSpPr>
          <p:spPr>
            <a:xfrm>
              <a:off x="2727720" y="3381480"/>
              <a:ext cx="143460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89040" y="305928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2486880" y="4545000"/>
            <a:ext cx="4176720" cy="1691280"/>
            <a:chOff x="2486880" y="4545000"/>
            <a:chExt cx="4176720" cy="1691280"/>
          </a:xfrm>
        </p:grpSpPr>
        <p:sp>
          <p:nvSpPr>
            <p:cNvPr id="1295" name=""/>
            <p:cNvSpPr/>
            <p:nvPr/>
          </p:nvSpPr>
          <p:spPr>
            <a:xfrm>
              <a:off x="2727360" y="5184720"/>
              <a:ext cx="1533600" cy="1051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6880" y="4545000"/>
              <a:ext cx="41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 (because of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 / #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17840" y="5181480"/>
              <a:ext cx="127080" cy="10414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7000 h 1041480"/>
                <a:gd name="textAreaBottom" fmla="*/ 1014480 h 10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20520" y="5535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303-EC10-4DE2-8EDD-C7721DEBE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ow a Bottom-up Parser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1257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280" y="1776240"/>
            <a:ext cx="1445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|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|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1712880"/>
            <a:ext cx="34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 LL(1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not be used for top-down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no problem for bottom-up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06680" y="5091120"/>
            <a:ext cx="1478880" cy="1445400"/>
            <a:chOff x="6106680" y="5091120"/>
            <a:chExt cx="1478880" cy="1445400"/>
          </a:xfrm>
        </p:grpSpPr>
        <p:sp>
          <p:nvSpPr>
            <p:cNvPr id="50" name=""/>
            <p:cNvSpPr/>
            <p:nvPr/>
          </p:nvSpPr>
          <p:spPr>
            <a:xfrm>
              <a:off x="61066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60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43896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28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7057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321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850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985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782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3896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15960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2518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5182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07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31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992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6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17220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0572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172200" y="5816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42636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380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426360" y="540972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18240" y="5397120"/>
              <a:ext cx="0" cy="50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26360" y="5397480"/>
              <a:ext cx="1091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251840" y="5397120"/>
              <a:ext cx="0" cy="50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934320" y="529596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81760" y="509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04680" y="5510160"/>
            <a:ext cx="1478880" cy="1026360"/>
            <a:chOff x="3604680" y="5510160"/>
            <a:chExt cx="1478880" cy="1026360"/>
          </a:xfrm>
        </p:grpSpPr>
        <p:sp>
          <p:nvSpPr>
            <p:cNvPr id="79" name=""/>
            <p:cNvSpPr/>
            <p:nvPr/>
          </p:nvSpPr>
          <p:spPr>
            <a:xfrm>
              <a:off x="36046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40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93696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508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2037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301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830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9692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62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3696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5760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498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016600" y="61336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5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511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972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4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7020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0372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670200" y="5816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2436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180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91600" y="5510160"/>
            <a:ext cx="1471320" cy="1026360"/>
            <a:chOff x="1191600" y="5510160"/>
            <a:chExt cx="1471320" cy="1026360"/>
          </a:xfrm>
        </p:grpSpPr>
        <p:sp>
          <p:nvSpPr>
            <p:cNvPr id="102" name=""/>
            <p:cNvSpPr/>
            <p:nvPr/>
          </p:nvSpPr>
          <p:spPr>
            <a:xfrm>
              <a:off x="11916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09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238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3772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7906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170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7000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38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32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2445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336760" y="61336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19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80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420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25748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79064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57120" y="5816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51128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5872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42960" y="3681360"/>
            <a:ext cx="1471320" cy="1026360"/>
            <a:chOff x="6042960" y="3681360"/>
            <a:chExt cx="1471320" cy="1026360"/>
          </a:xfrm>
        </p:grpSpPr>
        <p:sp>
          <p:nvSpPr>
            <p:cNvPr id="123" name=""/>
            <p:cNvSpPr/>
            <p:nvPr/>
          </p:nvSpPr>
          <p:spPr>
            <a:xfrm>
              <a:off x="60429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3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375240" y="44064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890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64200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84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921360" y="44064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52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145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5240" y="44067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09588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4368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944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08840" y="39877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642000" y="39877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108480" y="39877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362640" y="388620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008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66520" y="4087800"/>
            <a:ext cx="1471320" cy="619920"/>
            <a:chOff x="3566520" y="4087800"/>
            <a:chExt cx="1471320" cy="619920"/>
          </a:xfrm>
        </p:grpSpPr>
        <p:sp>
          <p:nvSpPr>
            <p:cNvPr id="142" name=""/>
            <p:cNvSpPr/>
            <p:nvPr/>
          </p:nvSpPr>
          <p:spPr>
            <a:xfrm>
              <a:off x="35665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458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98800" y="440640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26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165560" y="43048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920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444920" y="440640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587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81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8800" y="4406760"/>
              <a:ext cx="546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1944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688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300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1840" y="2741760"/>
            <a:ext cx="3103920" cy="1965960"/>
            <a:chOff x="681840" y="2741760"/>
            <a:chExt cx="3103920" cy="1965960"/>
          </a:xfrm>
        </p:grpSpPr>
        <p:sp>
          <p:nvSpPr>
            <p:cNvPr id="156" name=""/>
            <p:cNvSpPr/>
            <p:nvPr/>
          </p:nvSpPr>
          <p:spPr>
            <a:xfrm>
              <a:off x="909360" y="2741760"/>
              <a:ext cx="16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: 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b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1840" y="3327480"/>
              <a:ext cx="31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 is built bottom-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16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09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77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170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38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32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244520" y="43048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196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65D-E0BC-446F-9885-60BB0D3C2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ccessor Sta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84360" y="13460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ucc(s, s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014120" y="1763640"/>
            <a:ext cx="67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tate in which we get from stat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 doing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 sy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control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09560" y="2286000"/>
            <a:ext cx="2881080" cy="1143000"/>
            <a:chOff x="709560" y="2286000"/>
            <a:chExt cx="2881080" cy="1143000"/>
          </a:xfrm>
        </p:grpSpPr>
        <p:sp>
          <p:nvSpPr>
            <p:cNvPr id="1303" name=""/>
            <p:cNvSpPr/>
            <p:nvPr/>
          </p:nvSpPr>
          <p:spPr>
            <a:xfrm>
              <a:off x="709560" y="22860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013040" y="2665440"/>
              <a:ext cx="257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1013040" y="4532400"/>
            <a:ext cx="25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013040" y="3630600"/>
            <a:ext cx="7897680" cy="849600"/>
            <a:chOff x="1013040" y="3630600"/>
            <a:chExt cx="7897680" cy="849600"/>
          </a:xfrm>
        </p:grpSpPr>
        <p:sp>
          <p:nvSpPr>
            <p:cNvPr id="1307" name=""/>
            <p:cNvSpPr/>
            <p:nvPr/>
          </p:nvSpPr>
          <p:spPr>
            <a:xfrm>
              <a:off x="1013040" y="3630600"/>
              <a:ext cx="25682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33360" y="3656160"/>
              <a:ext cx="4977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ains all item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that hav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s their control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oint has been moved acro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are the productions that are worked on from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711720" y="5611680"/>
            <a:ext cx="69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cc(s, sym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only the kernel of the new state; we still have to compute its 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F08-746E-4795-B086-B44346F411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3480" y="1446120"/>
            <a:ext cx="7121160" cy="3357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tend the grammar by a pseudo production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reate state 0 with the kernel S' = . S #  // the only kernel with the point at the begi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not all states visite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next unvisited 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ute the closure of 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all items of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item 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#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ccep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reate new state s1 = Succ(s, y) if it does not exist y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hift y, 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duce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, (X =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693360" y="3352680"/>
            <a:ext cx="8031600" cy="3099600"/>
            <a:chOff x="693360" y="3352680"/>
            <a:chExt cx="8031600" cy="3099600"/>
          </a:xfrm>
        </p:grpSpPr>
        <p:sp>
          <p:nvSpPr>
            <p:cNvPr id="1313" name=""/>
            <p:cNvSpPr/>
            <p:nvPr/>
          </p:nvSpPr>
          <p:spPr>
            <a:xfrm>
              <a:off x="693360" y="5180040"/>
              <a:ext cx="55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 checking for existing states only the kernels are consider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out successor symbols,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69360" y="3352680"/>
              <a:ext cx="1155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724960" y="3352680"/>
              <a:ext cx="0" cy="2108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171840" y="5460840"/>
              <a:ext cx="2552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61000" y="6132600"/>
              <a:ext cx="1148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80080" y="58276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i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02400" y="6132600"/>
              <a:ext cx="1108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62320" y="58276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513160" y="6107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31680" y="6114960"/>
              <a:ext cx="2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08680" y="6132600"/>
              <a:ext cx="120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443-8C1A-4612-A667-CEFC713E1F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4532400" y="1311120"/>
            <a:ext cx="13338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2335320" y="2324160"/>
            <a:ext cx="3595680" cy="480240"/>
            <a:chOff x="2335320" y="2324160"/>
            <a:chExt cx="3595680" cy="480240"/>
          </a:xfrm>
        </p:grpSpPr>
        <p:sp>
          <p:nvSpPr>
            <p:cNvPr id="1327" name=""/>
            <p:cNvSpPr/>
            <p:nvPr/>
          </p:nvSpPr>
          <p:spPr>
            <a:xfrm>
              <a:off x="2335320" y="2327400"/>
              <a:ext cx="3518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76440" y="23241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335320" y="2768760"/>
            <a:ext cx="3595680" cy="671400"/>
            <a:chOff x="2335320" y="2768760"/>
            <a:chExt cx="3595680" cy="671400"/>
          </a:xfrm>
        </p:grpSpPr>
        <p:sp>
          <p:nvSpPr>
            <p:cNvPr id="1330" name=""/>
            <p:cNvSpPr/>
            <p:nvPr/>
          </p:nvSpPr>
          <p:spPr>
            <a:xfrm>
              <a:off x="2335320" y="2771640"/>
              <a:ext cx="351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76440" y="2768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2333160" y="3394080"/>
            <a:ext cx="3737880" cy="860040"/>
            <a:chOff x="2333160" y="3394080"/>
            <a:chExt cx="3737880" cy="860040"/>
          </a:xfrm>
        </p:grpSpPr>
        <p:sp>
          <p:nvSpPr>
            <p:cNvPr id="1333" name=""/>
            <p:cNvSpPr/>
            <p:nvPr/>
          </p:nvSpPr>
          <p:spPr>
            <a:xfrm>
              <a:off x="2333160" y="3394080"/>
              <a:ext cx="373788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S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 (!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76440" y="34034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2335320" y="4194000"/>
            <a:ext cx="3595680" cy="285480"/>
            <a:chOff x="2335320" y="4194000"/>
            <a:chExt cx="3595680" cy="285480"/>
          </a:xfrm>
        </p:grpSpPr>
        <p:sp>
          <p:nvSpPr>
            <p:cNvPr id="1336" name=""/>
            <p:cNvSpPr/>
            <p:nvPr/>
          </p:nvSpPr>
          <p:spPr>
            <a:xfrm>
              <a:off x="2335320" y="419400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476440" y="420372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2335320" y="4410000"/>
            <a:ext cx="3595680" cy="477000"/>
            <a:chOff x="2335320" y="4410000"/>
            <a:chExt cx="3595680" cy="477000"/>
          </a:xfrm>
        </p:grpSpPr>
        <p:sp>
          <p:nvSpPr>
            <p:cNvPr id="1339" name=""/>
            <p:cNvSpPr/>
            <p:nvPr/>
          </p:nvSpPr>
          <p:spPr>
            <a:xfrm>
              <a:off x="2335320" y="4410000"/>
              <a:ext cx="3518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76440" y="443232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335320" y="4816440"/>
            <a:ext cx="3595680" cy="285480"/>
            <a:chOff x="2335320" y="4816440"/>
            <a:chExt cx="3595680" cy="285480"/>
          </a:xfrm>
        </p:grpSpPr>
        <p:sp>
          <p:nvSpPr>
            <p:cNvPr id="1342" name=""/>
            <p:cNvSpPr/>
            <p:nvPr/>
          </p:nvSpPr>
          <p:spPr>
            <a:xfrm>
              <a:off x="2335320" y="481644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76440" y="4838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2334960" y="5032440"/>
            <a:ext cx="3617280" cy="668520"/>
            <a:chOff x="2334960" y="5032440"/>
            <a:chExt cx="3617280" cy="668520"/>
          </a:xfrm>
        </p:grpSpPr>
        <p:sp>
          <p:nvSpPr>
            <p:cNvPr id="1345" name=""/>
            <p:cNvSpPr/>
            <p:nvPr/>
          </p:nvSpPr>
          <p:spPr>
            <a:xfrm>
              <a:off x="2334960" y="5032440"/>
              <a:ext cx="3617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476440" y="5054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335320" y="5641920"/>
            <a:ext cx="3595680" cy="285480"/>
            <a:chOff x="2335320" y="5641920"/>
            <a:chExt cx="3595680" cy="285480"/>
          </a:xfrm>
        </p:grpSpPr>
        <p:sp>
          <p:nvSpPr>
            <p:cNvPr id="1348" name=""/>
            <p:cNvSpPr/>
            <p:nvPr/>
          </p:nvSpPr>
          <p:spPr>
            <a:xfrm>
              <a:off x="2335320" y="56419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76440" y="56516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2334960" y="5857920"/>
            <a:ext cx="3617280" cy="285480"/>
            <a:chOff x="2334960" y="5857920"/>
            <a:chExt cx="3617280" cy="285480"/>
          </a:xfrm>
        </p:grpSpPr>
        <p:sp>
          <p:nvSpPr>
            <p:cNvPr id="1351" name=""/>
            <p:cNvSpPr/>
            <p:nvPr/>
          </p:nvSpPr>
          <p:spPr>
            <a:xfrm>
              <a:off x="2334960" y="5857920"/>
              <a:ext cx="3617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76440" y="58802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2335320" y="6086520"/>
            <a:ext cx="3595680" cy="285480"/>
            <a:chOff x="2335320" y="6086520"/>
            <a:chExt cx="3595680" cy="285480"/>
          </a:xfrm>
        </p:grpSpPr>
        <p:sp>
          <p:nvSpPr>
            <p:cNvPr id="1354" name=""/>
            <p:cNvSpPr/>
            <p:nvPr/>
          </p:nvSpPr>
          <p:spPr>
            <a:xfrm>
              <a:off x="2335320" y="60865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76440" y="609588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2335320" y="6315120"/>
            <a:ext cx="3595680" cy="285480"/>
            <a:chOff x="2335320" y="6315120"/>
            <a:chExt cx="3595680" cy="285480"/>
          </a:xfrm>
        </p:grpSpPr>
        <p:sp>
          <p:nvSpPr>
            <p:cNvPr id="1357" name=""/>
            <p:cNvSpPr/>
            <p:nvPr/>
          </p:nvSpPr>
          <p:spPr>
            <a:xfrm>
              <a:off x="2476440" y="632448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35320" y="63151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b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708840" y="12556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32080" y="1311120"/>
            <a:ext cx="1287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333880" y="1501920"/>
            <a:ext cx="19144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6DF-90B1-4D72-B3B3-EE02D7D317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2766960" y="1311120"/>
            <a:ext cx="13338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69880" y="2327400"/>
            <a:ext cx="351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1360" y="23241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69880" y="2771640"/>
            <a:ext cx="3518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11360" y="2768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69880" y="3394080"/>
            <a:ext cx="35182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11360" y="34034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9880" y="419400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11360" y="420372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69880" y="4410000"/>
            <a:ext cx="351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 a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11360" y="443232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9880" y="481644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11360" y="4838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69520" y="5032440"/>
            <a:ext cx="3617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1360" y="5054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9880" y="56419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11360" y="56516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69520" y="5857920"/>
            <a:ext cx="361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1360" y="58802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69880" y="60865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11360" y="609588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11360" y="632448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69880" y="63151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b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67000" y="1311120"/>
            <a:ext cx="1287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68440" y="1501920"/>
            <a:ext cx="19144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01680" y="128268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e transition tabl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r t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36240" y="1725480"/>
            <a:ext cx="3427920" cy="293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15080" y="19940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45200" y="1816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56480" y="1816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1AF-78F8-44C6-9D77-9645FC4AEC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Table as a Li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95880" y="1344600"/>
            <a:ext cx="342792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74720" y="1612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104840" y="1434960"/>
            <a:ext cx="0" cy="27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616120" y="1434960"/>
            <a:ext cx="0" cy="27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174680" y="434196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actions for NT symbols can never occ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2666880" y="4177800"/>
            <a:ext cx="114480" cy="203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75400" y="1268280"/>
            <a:ext cx="2884320" cy="493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S actions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TS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7040" y="5268960"/>
            <a:ext cx="47059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actions in every state are checked sequenti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ast T action in every state is *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r *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lookahead tokens are not check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ctions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as wrong this is detected at the nex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sts are more compact but slower than 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21160" y="5384880"/>
            <a:ext cx="0" cy="11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5321160" y="5499000"/>
            <a:ext cx="3049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317-53DE-47F1-A1CD-A9DDF0637C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s Versus LR(1) Tab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5400" y="1268280"/>
            <a:ext cx="71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(1) is slightly more powerful than LALR(1), but its tables are about 10 times lar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709560" y="1816200"/>
            <a:ext cx="7835040" cy="2242800"/>
            <a:chOff x="709560" y="1816200"/>
            <a:chExt cx="7835040" cy="2242800"/>
          </a:xfrm>
        </p:grpSpPr>
        <p:sp>
          <p:nvSpPr>
            <p:cNvPr id="1408" name=""/>
            <p:cNvSpPr/>
            <p:nvPr/>
          </p:nvSpPr>
          <p:spPr>
            <a:xfrm>
              <a:off x="709560" y="181620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4320" y="2208240"/>
              <a:ext cx="6669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s are never mer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LR(1) if none of the states has one of the following conflic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29160" y="2855880"/>
              <a:ext cx="181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082320" y="288144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96240" y="2855880"/>
              <a:ext cx="424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cannot decide with 1 symbol looka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ther to shift or to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928800" y="3490920"/>
              <a:ext cx="20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83760" y="3516480"/>
              <a:ext cx="85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96240" y="3478320"/>
              <a:ext cx="424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cannot decide with 1 symbol looka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ording to which production it should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09920" y="4521240"/>
            <a:ext cx="6747840" cy="1753560"/>
            <a:chOff x="709920" y="4521240"/>
            <a:chExt cx="6747840" cy="1753560"/>
          </a:xfrm>
        </p:grpSpPr>
        <p:sp>
          <p:nvSpPr>
            <p:cNvPr id="1417" name=""/>
            <p:cNvSpPr/>
            <p:nvPr/>
          </p:nvSpPr>
          <p:spPr>
            <a:xfrm>
              <a:off x="709920" y="452124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5400" y="4913280"/>
              <a:ext cx="673236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s can be merged if their kernels (without successor symbols) are identical</a:t>
              </a:r>
              <a:br>
                <a:rPr sz="1600"/>
              </a:b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LALR(1) if there is no reduce-reduce conflict after merg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shift-reduce conflicts cannot arise; why?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61000" y="5281560"/>
              <a:ext cx="1148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02400" y="5281560"/>
              <a:ext cx="1108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13160" y="525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31680" y="5264280"/>
              <a:ext cx="2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008680" y="5281560"/>
              <a:ext cx="120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E8E-860B-4AE3-AC1C-6C5AC9C6CD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LR(1) Grammar which is not LALR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1800" y="12430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33760" y="1585800"/>
            <a:ext cx="91224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x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x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B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14600" y="129852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3414600" y="2682720"/>
            <a:ext cx="3849840" cy="860040"/>
            <a:chOff x="3414600" y="2682720"/>
            <a:chExt cx="3849840" cy="860040"/>
          </a:xfrm>
        </p:grpSpPr>
        <p:sp>
          <p:nvSpPr>
            <p:cNvPr id="1429" name=""/>
            <p:cNvSpPr/>
            <p:nvPr/>
          </p:nvSpPr>
          <p:spPr>
            <a:xfrm>
              <a:off x="3414600" y="2682720"/>
              <a:ext cx="351828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x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x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556080" y="269244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3412440" y="3495600"/>
            <a:ext cx="3951000" cy="477000"/>
            <a:chOff x="3412440" y="3495600"/>
            <a:chExt cx="3951000" cy="477000"/>
          </a:xfrm>
        </p:grpSpPr>
        <p:sp>
          <p:nvSpPr>
            <p:cNvPr id="1432" name=""/>
            <p:cNvSpPr/>
            <p:nvPr/>
          </p:nvSpPr>
          <p:spPr>
            <a:xfrm>
              <a:off x="3412440" y="349560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56080" y="350532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3412440" y="3940200"/>
            <a:ext cx="3951000" cy="1009440"/>
            <a:chOff x="3412440" y="3940200"/>
            <a:chExt cx="3951000" cy="1009440"/>
          </a:xfrm>
        </p:grpSpPr>
        <p:sp>
          <p:nvSpPr>
            <p:cNvPr id="1435" name=""/>
            <p:cNvSpPr/>
            <p:nvPr/>
          </p:nvSpPr>
          <p:spPr>
            <a:xfrm>
              <a:off x="3413160" y="3940200"/>
              <a:ext cx="712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56080" y="394956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12440" y="423216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56080" y="424188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13160" y="4664160"/>
              <a:ext cx="712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556080" y="467352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3412440" y="5154480"/>
            <a:ext cx="5221080" cy="1103400"/>
            <a:chOff x="3412440" y="5154480"/>
            <a:chExt cx="5221080" cy="1103400"/>
          </a:xfrm>
        </p:grpSpPr>
        <p:sp>
          <p:nvSpPr>
            <p:cNvPr id="1442" name=""/>
            <p:cNvSpPr/>
            <p:nvPr/>
          </p:nvSpPr>
          <p:spPr>
            <a:xfrm>
              <a:off x="3469320" y="5154480"/>
              <a:ext cx="516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Merging states 2 and 6 would lead to the following situ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2440" y="562932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16720" y="5676840"/>
              <a:ext cx="88920" cy="3812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57840" y="5433840"/>
              <a:ext cx="88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duc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flic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18760" y="3449520"/>
            <a:ext cx="2465640" cy="2740320"/>
            <a:chOff x="518760" y="3449520"/>
            <a:chExt cx="2465640" cy="2740320"/>
          </a:xfrm>
        </p:grpSpPr>
        <p:sp>
          <p:nvSpPr>
            <p:cNvPr id="1447" name=""/>
            <p:cNvSpPr/>
            <p:nvPr/>
          </p:nvSpPr>
          <p:spPr>
            <a:xfrm>
              <a:off x="6350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88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333440" y="4064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407240" y="409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2120" y="417816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26360" y="398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87600" y="417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724760" y="398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044800" y="40766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334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072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63640" y="4699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26720" y="45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87600" y="469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725120" y="4503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04480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860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98600" y="469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75580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23160" y="45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49160" y="364500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47920" y="51436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5120" y="4948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04480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1860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9860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5580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2316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47920" y="4826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333440" y="549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394640" y="551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49160" y="4826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5040" y="549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96240" y="551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33440" y="3530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407240" y="35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20" y="36450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26360" y="3449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87600" y="364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24760" y="344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44800" y="3543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5520" y="4935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8680" y="5202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8760" y="5824440"/>
              <a:ext cx="48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17160" y="5824440"/>
              <a:ext cx="48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703-56D7-4809-960E-F3703B25B4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LR(1) Tabl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Simple LR(1)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08480" y="1230480"/>
            <a:ext cx="5145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R(1) parsing is less powerful than LALR(1)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R(1) tables are simpler to generate than LALR(1)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09560" y="2120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LR(1)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945720" y="2635200"/>
            <a:ext cx="23522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hift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duce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314880" y="28065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888000" y="262728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successors are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3314880" y="31114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78280" y="2940120"/>
            <a:ext cx="44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 Follow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, i.e.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successor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AF5-434A-4B0C-84CF-AFAE4542ED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LALR(1) Grammar, which is not SLR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1800" y="12430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4120" y="1585800"/>
            <a:ext cx="9212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b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41760" y="1336680"/>
            <a:ext cx="2857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2739600" y="2149560"/>
            <a:ext cx="3299760" cy="668520"/>
            <a:chOff x="2739600" y="2149560"/>
            <a:chExt cx="3299760" cy="668520"/>
          </a:xfrm>
        </p:grpSpPr>
        <p:sp>
          <p:nvSpPr>
            <p:cNvPr id="1505" name=""/>
            <p:cNvSpPr/>
            <p:nvPr/>
          </p:nvSpPr>
          <p:spPr>
            <a:xfrm>
              <a:off x="2946240" y="2158920"/>
              <a:ext cx="26290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39600" y="2149560"/>
              <a:ext cx="3299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736560" y="276696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(S) = {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(A) = {a, b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083280" y="2081160"/>
            <a:ext cx="2209680" cy="824040"/>
            <a:chOff x="6083280" y="2081160"/>
            <a:chExt cx="2209680" cy="824040"/>
          </a:xfrm>
        </p:grpSpPr>
        <p:sp>
          <p:nvSpPr>
            <p:cNvPr id="1509" name=""/>
            <p:cNvSpPr/>
            <p:nvPr/>
          </p:nvSpPr>
          <p:spPr>
            <a:xfrm>
              <a:off x="6083280" y="2197080"/>
              <a:ext cx="88920" cy="4064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0440 h 406440"/>
                <a:gd name="textAreaBottom" fmla="*/ 396000 h 40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12240" y="2081160"/>
              <a:ext cx="198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hift-reduce conflic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ch would not ar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LALR(1) t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57640" y="3873600"/>
            <a:ext cx="7836480" cy="2286000"/>
            <a:chOff x="557640" y="3873600"/>
            <a:chExt cx="7836480" cy="2286000"/>
          </a:xfrm>
        </p:grpSpPr>
        <p:sp>
          <p:nvSpPr>
            <p:cNvPr id="1512" name=""/>
            <p:cNvSpPr/>
            <p:nvPr/>
          </p:nvSpPr>
          <p:spPr>
            <a:xfrm>
              <a:off x="5575320" y="459756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33440" y="459756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50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088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4072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3640" y="4699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2636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562040" y="4699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81368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0968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5143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801080" y="4973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0968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2834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6384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2104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8840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47920" y="48261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9160" y="482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96440" y="506268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bA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28348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94840" y="5075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20840" y="5435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464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49160" y="5549760"/>
              <a:ext cx="5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26360" y="536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549440" y="55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74000" y="535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06640" y="5448240"/>
              <a:ext cx="571320" cy="21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440" y="54561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32084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9464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49160" y="6045120"/>
              <a:ext cx="5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26360" y="5862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4944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674000" y="585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00664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08044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85440" y="46180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a,b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282400" y="593892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A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013400" y="4376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</a:t>
              </a: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,b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7640" y="38736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7692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9507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6491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105520" y="469908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6824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03920" y="4699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05556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5156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89440" y="5143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42960" y="4973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5156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2536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0572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16292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3028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89440" y="48261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91040" y="482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437960" y="506268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bA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2536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236720" y="5075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62720" y="5435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6365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991040" y="55497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68240" y="536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791320" y="55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15880" y="535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48520" y="5448240"/>
              <a:ext cx="571320" cy="21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84960" y="54561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6272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6365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91040" y="604512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268240" y="5862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913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15880" y="585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485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3223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27680" y="461808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b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24280" y="593892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A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54560" y="4376880"/>
              <a:ext cx="76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</a:t>
              </a: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99520" y="38736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065-4F61-4653-A914-6A81463B15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/>
          <p:nvPr/>
        </p:nvSpPr>
        <p:spPr>
          <a:xfrm>
            <a:off x="1104840" y="382284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C60-5233-470E-B165-8CF02F3D25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ing a Stack for Par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" y="2525760"/>
            <a:ext cx="30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3280" y="2830680"/>
            <a:ext cx="8156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 (i.e. read next token and push it on the st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 (not reduce, because that would lead to a dead end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 b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ntence recognized (stack contains the start symbol; input is emp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8280" y="1471680"/>
            <a:ext cx="1445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|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|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2240" y="11541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7840" y="11541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55400" y="15098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51280" y="14842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# ... eof tok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75A-5AD3-4935-B904-EFF69E96F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Back of the Envelope Calcul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2160" y="1384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sumption (e.g. C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055520" y="1801800"/>
            <a:ext cx="246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40960" y="227952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71440" y="227160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80 x 2'500 = 700'000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54440" y="2728800"/>
            <a:ext cx="175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tes /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540960" y="273672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870720" y="27288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700'000 x 4 = 2'800'000 bytes = 2.8 M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0560" y="363060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e table size can be reduced by 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DA3-8EF2-4213-926D-91FACF8819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bining Shift and Reduce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924120" y="1268280"/>
            <a:ext cx="176652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03320" y="15368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333440" y="135900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844720" y="135900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86080" y="3086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59520" y="3119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155600" y="32004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191240" y="3017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7146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839240" y="30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171880" y="3086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45320" y="3119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46920" y="309420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=aab /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988920" y="306864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327480" y="1268280"/>
            <a:ext cx="5113440" cy="2413800"/>
            <a:chOff x="3327480" y="1268280"/>
            <a:chExt cx="5113440" cy="2413800"/>
          </a:xfrm>
        </p:grpSpPr>
        <p:sp>
          <p:nvSpPr>
            <p:cNvPr id="1622" name=""/>
            <p:cNvSpPr/>
            <p:nvPr/>
          </p:nvSpPr>
          <p:spPr>
            <a:xfrm>
              <a:off x="4403880" y="1268280"/>
              <a:ext cx="176652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483080" y="1536840"/>
              <a:ext cx="19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813200" y="13590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324480" y="13590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76600" y="2563920"/>
              <a:ext cx="486432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eads to a 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which onl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ction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the same production occur,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be replaced with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be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327480" y="187956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783360" y="3975120"/>
            <a:ext cx="4876560" cy="2667960"/>
            <a:chOff x="783360" y="3975120"/>
            <a:chExt cx="4876560" cy="2667960"/>
          </a:xfrm>
        </p:grpSpPr>
        <p:sp>
          <p:nvSpPr>
            <p:cNvPr id="1629" name=""/>
            <p:cNvSpPr/>
            <p:nvPr/>
          </p:nvSpPr>
          <p:spPr>
            <a:xfrm>
              <a:off x="783360" y="39751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dification in the parsing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56600" y="4417920"/>
              <a:ext cx="4603320" cy="2225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hift:   // shift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 = n; sym = Next(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hiftred:  // shiftred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int i = 0; i &lt; length[n]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 i++) Pop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ction[Top(), leftSide[n]]; n = a % 256;  // shift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 = n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4E5-9508-437F-8992-04AF1B8A79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rging Row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98920" y="1217520"/>
            <a:ext cx="189468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977760" y="1486080"/>
            <a:ext cx="193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08240" y="1308240"/>
            <a:ext cx="0" cy="11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819520" y="1308240"/>
            <a:ext cx="0" cy="11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127120" y="4102200"/>
            <a:ext cx="3957120" cy="2241720"/>
            <a:chOff x="5127120" y="4102200"/>
            <a:chExt cx="3957120" cy="2241720"/>
          </a:xfrm>
        </p:grpSpPr>
        <p:sp>
          <p:nvSpPr>
            <p:cNvPr id="1637" name=""/>
            <p:cNvSpPr/>
            <p:nvPr/>
          </p:nvSpPr>
          <p:spPr>
            <a:xfrm>
              <a:off x="5127120" y="4102200"/>
              <a:ext cx="39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difications in the parsing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30080" y="4545000"/>
              <a:ext cx="265428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itArray[] vali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ort[] pt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ction[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ptr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sym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p = a / 256; n = a % 256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!valid[state][sym]) op = erro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882360" y="1217520"/>
            <a:ext cx="5658120" cy="1924920"/>
            <a:chOff x="882360" y="1217520"/>
            <a:chExt cx="5658120" cy="1924920"/>
          </a:xfrm>
        </p:grpSpPr>
        <p:sp>
          <p:nvSpPr>
            <p:cNvPr id="1640" name=""/>
            <p:cNvSpPr/>
            <p:nvPr/>
          </p:nvSpPr>
          <p:spPr>
            <a:xfrm>
              <a:off x="882360" y="2805120"/>
              <a:ext cx="480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ows whose actions are not in conflict can be mer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531320" y="1217520"/>
              <a:ext cx="18946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10160" y="1486080"/>
              <a:ext cx="19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940280" y="130824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451560" y="130824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137120" y="1531800"/>
              <a:ext cx="279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56000" y="156204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432320" y="21463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32320" y="2311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4635360" y="1638360"/>
              <a:ext cx="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44920" y="16383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251160" y="1892160"/>
              <a:ext cx="584280" cy="228600"/>
            </a:xfrm>
            <a:prstGeom prst="rightArrow">
              <a:avLst>
                <a:gd name="adj1" fmla="val 50000"/>
                <a:gd name="adj2" fmla="val 638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244040" y="1255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6000" y="1727280"/>
              <a:ext cx="1904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56000" y="189216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6000" y="205740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356000" y="2222640"/>
              <a:ext cx="1904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356000" y="238752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073760" y="2284560"/>
              <a:ext cx="33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882000" y="4430880"/>
            <a:ext cx="3882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 and NT actions should be merg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pendently (more chances for merg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ame technique can also be used to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rge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rther compaction is possible, bu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s more and more expens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887760" y="1230480"/>
            <a:ext cx="7633800" cy="2511000"/>
            <a:chOff x="887760" y="1230480"/>
            <a:chExt cx="7633800" cy="2511000"/>
          </a:xfrm>
        </p:grpSpPr>
        <p:sp>
          <p:nvSpPr>
            <p:cNvPr id="1661" name=""/>
            <p:cNvSpPr/>
            <p:nvPr/>
          </p:nvSpPr>
          <p:spPr>
            <a:xfrm>
              <a:off x="6994800" y="1230480"/>
              <a:ext cx="138564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74000" y="1498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04120" y="132084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81880" y="132084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51760" y="247500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87760" y="3110040"/>
              <a:ext cx="5824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eds a pointer array in order to address the correct row in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eds a bit matrix that tells which actions are valid in every st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D41-BF4A-48F8-9A27-243467E8E6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3200" y="1193760"/>
            <a:ext cx="52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riginal t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6 columns x 12 rows x 2 bytes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4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013400" y="1560600"/>
            <a:ext cx="342792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92240" y="1828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22360" y="165096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933640" y="165096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75000" y="436896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bining shift and 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6 columns x 8 rows x 2 bytes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013400" y="4748040"/>
            <a:ext cx="33883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092240" y="5016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2236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93364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75F-927B-49BA-8D96-080DA576DE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71400" y="12445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fter combining shift and 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013400" y="1623960"/>
            <a:ext cx="33883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092240" y="18921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422360" y="171468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933640" y="171468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74640" y="3772080"/>
            <a:ext cx="6561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rging row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3 columns * 6 rows * 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2 * 8 rows * 2 bytes + 8 * 1 byte = 36 + 32 + 8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13040" y="4735440"/>
            <a:ext cx="20854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,3,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,7,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92240" y="50036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625760" y="48261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137040" y="48261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66160" y="4735440"/>
            <a:ext cx="20548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,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645000" y="500364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178160" y="4826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689440" y="4826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234120" y="4748040"/>
            <a:ext cx="133380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311880" y="501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64200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716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561320" y="439272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151520" y="439272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41280" y="43927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4C3-3C20-4EAE-B1C5-93EC7A5B5B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1104840" y="425448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293-5056-49D3-908F-C2DA3DD001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09920" y="124452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e only allowed at the end of a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i.e. when reduc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754200" y="1738440"/>
            <a:ext cx="7745760" cy="1581840"/>
            <a:chOff x="754200" y="1738440"/>
            <a:chExt cx="7745760" cy="1581840"/>
          </a:xfrm>
        </p:grpSpPr>
        <p:sp>
          <p:nvSpPr>
            <p:cNvPr id="1706" name=""/>
            <p:cNvSpPr/>
            <p:nvPr/>
          </p:nvSpPr>
          <p:spPr>
            <a:xfrm>
              <a:off x="755280" y="1738440"/>
              <a:ext cx="39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s in the middle of 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54200" y="244944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implemented as follow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159200" y="2119320"/>
              <a:ext cx="1323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(. ... .)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166760" y="2792520"/>
              <a:ext cx="13050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Y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(. ...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714040" y="2982960"/>
              <a:ext cx="57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mpty production; when it is reduced the semantic action is exec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2184120" y="3162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752400" y="3632040"/>
            <a:ext cx="4255920" cy="1176480"/>
            <a:chOff x="752400" y="3632040"/>
            <a:chExt cx="4255920" cy="1176480"/>
          </a:xfrm>
        </p:grpSpPr>
        <p:sp>
          <p:nvSpPr>
            <p:cNvPr id="1713" name=""/>
            <p:cNvSpPr/>
            <p:nvPr/>
          </p:nvSpPr>
          <p:spPr>
            <a:xfrm>
              <a:off x="752400" y="3632040"/>
              <a:ext cx="42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this can destroy the LALR(1)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166760" y="4075200"/>
              <a:ext cx="14828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(. ... .) b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28800" y="4049640"/>
              <a:ext cx="137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FG w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ALR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8080" y="4075200"/>
            <a:ext cx="8254800" cy="2629440"/>
            <a:chOff x="748080" y="4075200"/>
            <a:chExt cx="8254800" cy="2629440"/>
          </a:xfrm>
        </p:grpSpPr>
        <p:sp>
          <p:nvSpPr>
            <p:cNvPr id="1717" name=""/>
            <p:cNvSpPr/>
            <p:nvPr/>
          </p:nvSpPr>
          <p:spPr>
            <a:xfrm>
              <a:off x="4076640" y="4267080"/>
              <a:ext cx="711360" cy="241560"/>
            </a:xfrm>
            <a:prstGeom prst="rightArrow">
              <a:avLst>
                <a:gd name="adj1" fmla="val 50000"/>
                <a:gd name="adj2" fmla="val 736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167440" y="4075200"/>
              <a:ext cx="14824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Y b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(. ...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48080" y="491328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able gen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2560" y="5299200"/>
              <a:ext cx="37605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c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Y b d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Y=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+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521240" y="5321160"/>
              <a:ext cx="88920" cy="4320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652640" y="5357880"/>
              <a:ext cx="190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hift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651200" y="5637240"/>
              <a:ext cx="435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as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the parser cannot work on both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parallel any more, but must decide on one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productions (i.e. whether to execut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 or not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5C6-6742-40D7-B435-C23054B7FF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07400" y="1332000"/>
            <a:ext cx="719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ymbol h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utput attribute (possibly an object with multiple fiel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a symbol has been recognized its attribute is pushed on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mantics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735120" y="2260440"/>
            <a:ext cx="6197400" cy="1442160"/>
            <a:chOff x="735120" y="2260440"/>
            <a:chExt cx="6197400" cy="1442160"/>
          </a:xfrm>
        </p:grpSpPr>
        <p:sp>
          <p:nvSpPr>
            <p:cNvPr id="1727" name=""/>
            <p:cNvSpPr/>
            <p:nvPr/>
          </p:nvSpPr>
          <p:spPr>
            <a:xfrm>
              <a:off x="735120" y="2260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05480" y="2843280"/>
              <a:ext cx="172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     = Term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78080" y="296388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66920" y="296388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08360" y="3274920"/>
              <a:ext cx="59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     = Expr     "+" 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ush(pop() + pop(); .)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x = x + 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37808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1616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3056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1004400" y="3706920"/>
            <a:ext cx="5894640" cy="834120"/>
            <a:chOff x="1004400" y="3706920"/>
            <a:chExt cx="5894640" cy="834120"/>
          </a:xfrm>
        </p:grpSpPr>
        <p:sp>
          <p:nvSpPr>
            <p:cNvPr id="1736" name=""/>
            <p:cNvSpPr/>
            <p:nvPr/>
          </p:nvSpPr>
          <p:spPr>
            <a:xfrm>
              <a:off x="1004400" y="3706920"/>
              <a:ext cx="18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     = Factor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67000" y="3827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406600" y="3827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08360" y="4113360"/>
              <a:ext cx="58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     = Term     "*" 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ush(pop() * pop(); .)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x = x * 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6700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3064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32100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1001880" y="4557600"/>
            <a:ext cx="4874760" cy="834120"/>
            <a:chOff x="1001880" y="4557600"/>
            <a:chExt cx="4874760" cy="834120"/>
          </a:xfrm>
        </p:grpSpPr>
        <p:sp>
          <p:nvSpPr>
            <p:cNvPr id="1744" name=""/>
            <p:cNvSpPr/>
            <p:nvPr/>
          </p:nvSpPr>
          <p:spPr>
            <a:xfrm>
              <a:off x="1002240" y="4557600"/>
              <a:ext cx="48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     = con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 = pop(); push(t.val);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542960" y="467820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44760" y="467820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01880" y="496404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     = "(" Expr    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42960" y="508464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84440" y="508464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EC8-6203-4DE2-8343-9D1255B26F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odifications in the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70680" y="12574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11880" y="1712880"/>
            <a:ext cx="2232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ftSi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193760" y="1790640"/>
            <a:ext cx="0" cy="14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977760" y="1981080"/>
            <a:ext cx="210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442760" y="1257480"/>
            <a:ext cx="4589640" cy="2661840"/>
            <a:chOff x="4442760" y="1257480"/>
            <a:chExt cx="4589640" cy="2661840"/>
          </a:xfrm>
        </p:grpSpPr>
        <p:sp>
          <p:nvSpPr>
            <p:cNvPr id="1756" name=""/>
            <p:cNvSpPr/>
            <p:nvPr/>
          </p:nvSpPr>
          <p:spPr>
            <a:xfrm>
              <a:off x="4442760" y="125748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s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15840" y="1674720"/>
              <a:ext cx="3978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mAc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 Push(Pop() + Pop()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2: Push(Pop() * Pop()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3: Token t = Pop(); Push(t.val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67240" y="3338640"/>
              <a:ext cx="456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riables occurring in multiple semantic action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 declared global (problems with recursive NT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443120" y="4229280"/>
            <a:ext cx="3510720" cy="2216160"/>
            <a:chOff x="4443120" y="4229280"/>
            <a:chExt cx="3510720" cy="2216160"/>
          </a:xfrm>
        </p:grpSpPr>
        <p:sp>
          <p:nvSpPr>
            <p:cNvPr id="1760" name=""/>
            <p:cNvSpPr/>
            <p:nvPr/>
          </p:nvSpPr>
          <p:spPr>
            <a:xfrm>
              <a:off x="4443120" y="422928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18000" y="4646520"/>
              <a:ext cx="343584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reduce:  // red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sem[n] != 0) SemAction(sem[n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int i = 0; i &lt; length[n]; i++) Pop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4F3-A62D-47BF-BC6F-27FFCC460A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put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34760" y="1332000"/>
            <a:ext cx="56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implemented as semantic actions with attribut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81800" y="1808280"/>
            <a:ext cx="13348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a Y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=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25400" y="251316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056960" y="2919240"/>
            <a:ext cx="1814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a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w = v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Y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  =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29000" y="3567240"/>
            <a:ext cx="49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is can destroy the LALR(1) property as we have 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721440" y="4317840"/>
            <a:ext cx="6854040" cy="1330560"/>
            <a:chOff x="721440" y="4317840"/>
            <a:chExt cx="6854040" cy="1330560"/>
          </a:xfrm>
        </p:grpSpPr>
        <p:sp>
          <p:nvSpPr>
            <p:cNvPr id="1769" name=""/>
            <p:cNvSpPr/>
            <p:nvPr/>
          </p:nvSpPr>
          <p:spPr>
            <a:xfrm>
              <a:off x="721440" y="431784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r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38000" y="4773600"/>
              <a:ext cx="68374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practice LALR(1) parsers build a syntax tree (this can be implemented easil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output attributes and semantic actions at the end of production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processing is then done on the syntax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02B-5326-4FE1-AEB6-39E4961DBC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ing a Stack for Parsing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320" y="1295280"/>
            <a:ext cx="37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at does the parser need to kn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6680" y="1636560"/>
            <a:ext cx="589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the stack end contain something that can be reduc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which NTS should it be reduc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parser shift or reduce in order not to get into a dead 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0240" y="1790640"/>
            <a:ext cx="69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3680" y="17636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261120" y="1485360"/>
            <a:ext cx="127080" cy="381240"/>
          </a:xfrm>
          <a:custGeom>
            <a:avLst/>
            <a:gdLst>
              <a:gd name="textAreaLeft" fmla="*/ 0 w 127080"/>
              <a:gd name="textAreaRight" fmla="*/ 45720 w 1270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96320" y="1357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90520" y="17254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1040" y="2793960"/>
            <a:ext cx="5866200" cy="1497600"/>
            <a:chOff x="671040" y="2793960"/>
            <a:chExt cx="5866200" cy="1497600"/>
          </a:xfrm>
        </p:grpSpPr>
        <p:sp>
          <p:nvSpPr>
            <p:cNvPr id="183" name=""/>
            <p:cNvSpPr/>
            <p:nvPr/>
          </p:nvSpPr>
          <p:spPr>
            <a:xfrm>
              <a:off x="671040" y="279396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parsing 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57240" y="3224160"/>
              <a:ext cx="5580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ad and push next input token (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the end of a stack to a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ntence recognized (only i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 #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ne of the above actions is possible (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error handl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46640" y="4722840"/>
            <a:ext cx="7199640" cy="1774440"/>
            <a:chOff x="746640" y="4722840"/>
            <a:chExt cx="7199640" cy="1774440"/>
          </a:xfrm>
        </p:grpSpPr>
        <p:sp>
          <p:nvSpPr>
            <p:cNvPr id="186" name=""/>
            <p:cNvSpPr/>
            <p:nvPr/>
          </p:nvSpPr>
          <p:spPr>
            <a:xfrm>
              <a:off x="746640" y="4722840"/>
              <a:ext cx="66819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ottom-up parsers are therefore ca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 pars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R parser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y recognize sentences from </a:t>
              </a: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ft to right using </a:t>
              </a: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ght-canonical deri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49320" y="5916600"/>
              <a:ext cx="45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ight-canonical derivation = left-canonical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leftmost simple phrase (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hand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496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432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2108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044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720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656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527880" y="60829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5320" y="587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357-FED1-4FDA-BDF5-BC6A0D66C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1104840" y="468648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C06-5B8B-4308-8E42-0C039787D4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82920" y="12952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ituation when an error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130760" y="1738440"/>
            <a:ext cx="15753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rot="5400000">
            <a:off x="1472760" y="1778040"/>
            <a:ext cx="88920" cy="622440"/>
          </a:xfrm>
          <a:custGeom>
            <a:avLst/>
            <a:gdLst>
              <a:gd name="textAreaLeft" fmla="*/ 0 w 88920"/>
              <a:gd name="textAreaRight" fmla="*/ 32040 w 88920"/>
              <a:gd name="textAreaTop" fmla="*/ 16200 h 622440"/>
              <a:gd name="textAreaBottom" fmla="*/ 606240 h 6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rot="5400000">
            <a:off x="2266560" y="1797120"/>
            <a:ext cx="88920" cy="584280"/>
          </a:xfrm>
          <a:custGeom>
            <a:avLst/>
            <a:gdLst>
              <a:gd name="textAreaLeft" fmla="*/ 0 w 88920"/>
              <a:gd name="textAreaRight" fmla="*/ 32040 w 889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218240" y="20937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043000" y="20937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689400" y="2692440"/>
            <a:ext cx="5004360" cy="1232640"/>
            <a:chOff x="689400" y="2692440"/>
            <a:chExt cx="5004360" cy="1232640"/>
          </a:xfrm>
        </p:grpSpPr>
        <p:sp>
          <p:nvSpPr>
            <p:cNvPr id="1782" name=""/>
            <p:cNvSpPr/>
            <p:nvPr/>
          </p:nvSpPr>
          <p:spPr>
            <a:xfrm>
              <a:off x="689400" y="2692440"/>
              <a:ext cx="50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Goal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synchronize the stack and the input so that we hav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7520" y="3160800"/>
              <a:ext cx="150552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s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3720" y="3554280"/>
              <a:ext cx="1930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accepted in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722160" y="4241880"/>
            <a:ext cx="2300400" cy="1080000"/>
            <a:chOff x="722160" y="4241880"/>
            <a:chExt cx="2300400" cy="1080000"/>
          </a:xfrm>
        </p:grpSpPr>
        <p:sp>
          <p:nvSpPr>
            <p:cNvPr id="1786" name=""/>
            <p:cNvSpPr/>
            <p:nvPr/>
          </p:nvSpPr>
          <p:spPr>
            <a:xfrm>
              <a:off x="722160" y="42418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1760" y="4697280"/>
              <a:ext cx="184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 or pop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7008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48608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8912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892160" y="5118120"/>
              <a:ext cx="11448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286000" y="51181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502000" y="51181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05040" y="51181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908440" y="51181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017440" y="50148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1066680" y="5040360"/>
            <a:ext cx="1955880" cy="510120"/>
            <a:chOff x="1066680" y="5040360"/>
            <a:chExt cx="1955880" cy="510120"/>
          </a:xfrm>
        </p:grpSpPr>
        <p:sp>
          <p:nvSpPr>
            <p:cNvPr id="1798" name=""/>
            <p:cNvSpPr/>
            <p:nvPr/>
          </p:nvSpPr>
          <p:spPr>
            <a:xfrm>
              <a:off x="1270080" y="53467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86080" y="53467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9120" y="534672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92160" y="53467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286000" y="53467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502000" y="53467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05040" y="53467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908440" y="53467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17440" y="5243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066680" y="5346720"/>
              <a:ext cx="11448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39960" y="5040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760" y="5040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70400" y="5675400"/>
            <a:ext cx="5107680" cy="611640"/>
            <a:chOff x="770400" y="5675400"/>
            <a:chExt cx="5107680" cy="611640"/>
          </a:xfrm>
        </p:grpSpPr>
        <p:sp>
          <p:nvSpPr>
            <p:cNvPr id="1811" name=""/>
            <p:cNvSpPr/>
            <p:nvPr/>
          </p:nvSpPr>
          <p:spPr>
            <a:xfrm>
              <a:off x="770400" y="5675400"/>
              <a:ext cx="510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or delete tokens at the beginning of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270080" y="60832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486080" y="60832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89120" y="6083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92160" y="60832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286000" y="60832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02000" y="60832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05040" y="60832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908440" y="60832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17440" y="59799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66680" y="6083280"/>
              <a:ext cx="11448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1066680" y="6005520"/>
            <a:ext cx="1752840" cy="523080"/>
            <a:chOff x="1066680" y="6005520"/>
            <a:chExt cx="1752840" cy="523080"/>
          </a:xfrm>
        </p:grpSpPr>
        <p:sp>
          <p:nvSpPr>
            <p:cNvPr id="1823" name=""/>
            <p:cNvSpPr/>
            <p:nvPr/>
          </p:nvSpPr>
          <p:spPr>
            <a:xfrm>
              <a:off x="1270080" y="63244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86080" y="63244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89120" y="63244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92160" y="63244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286000" y="6324480"/>
              <a:ext cx="114480" cy="114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02000" y="63244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05040" y="63244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017440" y="622152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66680" y="6324480"/>
              <a:ext cx="11448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208600" y="6005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614680" y="6005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794-4739-41FA-837B-9AED7A4E34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lgorith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95520" y="1371600"/>
            <a:ext cx="24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arch escape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26720" y="1725480"/>
            <a:ext cx="659844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ith a virtual inpu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which drives the parser from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rror stat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to a final state as quickly as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le parsing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llect all tokens which are valid in the traversed stat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695880" y="3060720"/>
            <a:ext cx="6903000" cy="724680"/>
            <a:chOff x="695880" y="3060720"/>
            <a:chExt cx="6903000" cy="724680"/>
          </a:xfrm>
        </p:grpSpPr>
        <p:sp>
          <p:nvSpPr>
            <p:cNvPr id="1838" name=""/>
            <p:cNvSpPr/>
            <p:nvPr/>
          </p:nvSpPr>
          <p:spPr>
            <a:xfrm>
              <a:off x="695880" y="3060720"/>
              <a:ext cx="25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lete invalid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028880" y="3414600"/>
              <a:ext cx="657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 tokens from the inpu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until a toke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ccurs, which is an anch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97320" y="4013280"/>
            <a:ext cx="7562880" cy="1052280"/>
            <a:chOff x="697320" y="4013280"/>
            <a:chExt cx="7562880" cy="1052280"/>
          </a:xfrm>
        </p:grpSpPr>
        <p:sp>
          <p:nvSpPr>
            <p:cNvPr id="1841" name=""/>
            <p:cNvSpPr/>
            <p:nvPr/>
          </p:nvSpPr>
          <p:spPr>
            <a:xfrm>
              <a:off x="697320" y="4013280"/>
              <a:ext cx="25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041120" y="4367160"/>
              <a:ext cx="72190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rive the parser from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until it gets into a state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which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accep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all "read" virtual tokens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to the input in front of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AC0-B193-4E76-A9EA-E07A710DEA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7472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4852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7312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54692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003320" y="1701720"/>
            <a:ext cx="444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166040" y="1506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727280" y="17017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864440" y="1506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18448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5828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438280" y="1701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895480" y="1600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563560" y="1506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6928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184920" y="1620720"/>
            <a:ext cx="5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47312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546920" y="220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88840" y="228600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166040" y="209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727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864440" y="209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58280" y="220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438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184480" y="2184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563560" y="209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917800" y="220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067480" y="243360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89548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4964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74200" y="209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629160" y="220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60684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09960" y="217980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473120" y="275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546920" y="2789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88840" y="28702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166040" y="2674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727280" y="287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864440" y="267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184480" y="2768760"/>
            <a:ext cx="571320" cy="253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321280" y="2801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298600" y="125748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562840" y="1062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969280" y="117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895480" y="1143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149640" y="1257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274200" y="1062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680640" y="117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606840" y="1143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909960" y="115092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2298600" y="12571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88840" y="181620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99520" y="15732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647320" y="1598760"/>
            <a:ext cx="727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784440" y="3301920"/>
            <a:ext cx="2397600" cy="1816920"/>
            <a:chOff x="784440" y="3301920"/>
            <a:chExt cx="2397600" cy="1816920"/>
          </a:xfrm>
        </p:grpSpPr>
        <p:sp>
          <p:nvSpPr>
            <p:cNvPr id="1899" name=""/>
            <p:cNvSpPr/>
            <p:nvPr/>
          </p:nvSpPr>
          <p:spPr>
            <a:xfrm>
              <a:off x="1067400" y="365616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irtual inp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612520" y="36813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66320" y="398628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311560" y="4038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853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11560" y="430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85360" y="433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11560" y="4572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85360" y="4605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311560" y="4838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385360" y="48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12880" y="401148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,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614680" y="4278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14320" y="4532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14680" y="4811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84440" y="330192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arch escape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85160" y="5143680"/>
            <a:ext cx="2693160" cy="1203120"/>
            <a:chOff x="785160" y="5143680"/>
            <a:chExt cx="2693160" cy="1203120"/>
          </a:xfrm>
        </p:grpSpPr>
        <p:sp>
          <p:nvSpPr>
            <p:cNvPr id="1916" name=""/>
            <p:cNvSpPr/>
            <p:nvPr/>
          </p:nvSpPr>
          <p:spPr>
            <a:xfrm>
              <a:off x="785160" y="5143680"/>
              <a:ext cx="22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lete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66320" y="5522760"/>
              <a:ext cx="241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hing is skipped beca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ext input toke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already an anc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4405680" y="3314880"/>
            <a:ext cx="3587760" cy="1135800"/>
            <a:chOff x="4405680" y="3314880"/>
            <a:chExt cx="3587760" cy="1135800"/>
          </a:xfrm>
        </p:grpSpPr>
        <p:sp>
          <p:nvSpPr>
            <p:cNvPr id="1919" name=""/>
            <p:cNvSpPr/>
            <p:nvPr/>
          </p:nvSpPr>
          <p:spPr>
            <a:xfrm>
              <a:off x="4405680" y="331488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719240" y="3719520"/>
              <a:ext cx="327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n order to get to       and      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896160" y="3784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6996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569360" y="3784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643160" y="3817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16360" y="4113360"/>
              <a:ext cx="31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      the parser can continue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29200" y="41781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03000" y="421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4404960" y="5156280"/>
            <a:ext cx="1750320" cy="737280"/>
            <a:chOff x="4404960" y="5156280"/>
            <a:chExt cx="1750320" cy="737280"/>
          </a:xfrm>
        </p:grpSpPr>
        <p:sp>
          <p:nvSpPr>
            <p:cNvPr id="1929" name=""/>
            <p:cNvSpPr/>
            <p:nvPr/>
          </p:nvSpPr>
          <p:spPr>
            <a:xfrm>
              <a:off x="4770000" y="5586480"/>
              <a:ext cx="8773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04960" y="5156280"/>
              <a:ext cx="175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rrected 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BFB-2C29-4469-BEF4-52CED5F1DA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Mess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94080" y="143496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y simply report what was inserted or 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57080" y="196704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deleted from the 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29400" y="2398680"/>
            <a:ext cx="2492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a b c" de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56000" y="3033720"/>
            <a:ext cx="40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inserted into the 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29760" y="3465360"/>
            <a:ext cx="2384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x y" ins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9240" y="4138560"/>
            <a:ext cx="57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deleted and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inser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225440" y="4570560"/>
            <a:ext cx="3239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a b c" replaced by "x 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96F-FB2C-49A6-8B6A-437F207259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nother 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With a Parser Simulation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372400" y="1230480"/>
            <a:ext cx="414720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78136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29264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881760" y="125568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neous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119360" y="1649520"/>
            <a:ext cx="877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90320" y="4710240"/>
            <a:ext cx="27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- erro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722160" y="4102200"/>
            <a:ext cx="2468160" cy="666000"/>
            <a:chOff x="722160" y="4102200"/>
            <a:chExt cx="2468160" cy="666000"/>
          </a:xfrm>
        </p:grpSpPr>
        <p:sp>
          <p:nvSpPr>
            <p:cNvPr id="1950" name=""/>
            <p:cNvSpPr/>
            <p:nvPr/>
          </p:nvSpPr>
          <p:spPr>
            <a:xfrm>
              <a:off x="722160" y="41022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of par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35840" y="44308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82760" y="443088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0560" y="44308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3932640" y="4710240"/>
            <a:ext cx="3155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 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, 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b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, 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81652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03040" y="2843280"/>
            <a:ext cx="196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tate h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guide symbol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will explain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 this is comp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 flipV="1">
            <a:off x="6184440" y="2514240"/>
            <a:ext cx="368280" cy="368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4173840" y="4102200"/>
            <a:ext cx="4066920" cy="666000"/>
            <a:chOff x="4173840" y="4102200"/>
            <a:chExt cx="4066920" cy="666000"/>
          </a:xfrm>
        </p:grpSpPr>
        <p:sp>
          <p:nvSpPr>
            <p:cNvPr id="1959" name=""/>
            <p:cNvSpPr/>
            <p:nvPr/>
          </p:nvSpPr>
          <p:spPr>
            <a:xfrm>
              <a:off x="4173840" y="4102200"/>
              <a:ext cx="40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arch escape route and collect anch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177440" y="44308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824360" y="443088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u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47160" y="44308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246360" y="4430880"/>
              <a:ext cx="83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nch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6221880" y="6183360"/>
            <a:ext cx="173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s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64F-5159-43FB-AB49-9722521250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372400" y="1230480"/>
            <a:ext cx="414720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78136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29264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33960" y="37846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kip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1652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49080" y="4113360"/>
            <a:ext cx="423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hing is skipped because the next input toke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lready in the anchor set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04640" y="5408640"/>
            <a:ext cx="27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 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, 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633600" y="4826160"/>
            <a:ext cx="2919600" cy="640440"/>
            <a:chOff x="633600" y="4826160"/>
            <a:chExt cx="2919600" cy="640440"/>
          </a:xfrm>
        </p:grpSpPr>
        <p:sp>
          <p:nvSpPr>
            <p:cNvPr id="1977" name=""/>
            <p:cNvSpPr/>
            <p:nvPr/>
          </p:nvSpPr>
          <p:spPr>
            <a:xfrm>
              <a:off x="633600" y="48261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46920" y="5129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93840" y="512928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u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16640" y="51292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717280" y="512928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er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636480" y="642456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we can continue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3124080" y="5396040"/>
            <a:ext cx="4536000" cy="337320"/>
            <a:chOff x="3124080" y="5396040"/>
            <a:chExt cx="4536000" cy="337320"/>
          </a:xfrm>
        </p:grpSpPr>
        <p:sp>
          <p:nvSpPr>
            <p:cNvPr id="1984" name=""/>
            <p:cNvSpPr/>
            <p:nvPr/>
          </p:nvSpPr>
          <p:spPr>
            <a:xfrm>
              <a:off x="3382560" y="5396040"/>
              <a:ext cx="42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uses a token to be inserted, no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3124080" y="5575320"/>
              <a:ext cx="2541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882120" y="125568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121160" y="1649520"/>
            <a:ext cx="578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894000" y="209376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nch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119360" y="2424240"/>
            <a:ext cx="798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a, b, #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299-C079-4D80-95CB-50C5D9FE6C0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372400" y="1230480"/>
            <a:ext cx="414720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78136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29264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1652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20280" y="403848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2120" y="4646520"/>
            <a:ext cx="2734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, 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, 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, 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46920" y="43671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293840" y="43671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411640" y="436716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112280" y="4051440"/>
            <a:ext cx="2532600" cy="1715040"/>
            <a:chOff x="4112280" y="4051440"/>
            <a:chExt cx="2532600" cy="1715040"/>
          </a:xfrm>
        </p:grpSpPr>
        <p:sp>
          <p:nvSpPr>
            <p:cNvPr id="2004" name=""/>
            <p:cNvSpPr/>
            <p:nvPr/>
          </p:nvSpPr>
          <p:spPr>
            <a:xfrm>
              <a:off x="4113000" y="4051440"/>
              <a:ext cx="175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rrected 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349160" y="4456080"/>
              <a:ext cx="11761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112280" y="500364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42680" y="5459400"/>
              <a:ext cx="23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... col ...: "b b" inse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6882120" y="125568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121160" y="1649520"/>
            <a:ext cx="578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C40-511D-48C2-9D81-32A5822B69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uting the Guide Symbol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46280" y="1459080"/>
            <a:ext cx="69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der the productions so that the first production of every NTS is non-recur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as short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316880" y="2170080"/>
            <a:ext cx="10112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505600" y="2360520"/>
            <a:ext cx="41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recursive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2234880" y="252720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04160" y="2805120"/>
            <a:ext cx="39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nger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234880" y="297180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504160" y="3211560"/>
            <a:ext cx="39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nger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234880" y="337824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752040" y="3871800"/>
            <a:ext cx="7301880" cy="1780200"/>
            <a:chOff x="752040" y="3871800"/>
            <a:chExt cx="7301880" cy="1780200"/>
          </a:xfrm>
        </p:grpSpPr>
        <p:sp>
          <p:nvSpPr>
            <p:cNvPr id="2020" name=""/>
            <p:cNvSpPr/>
            <p:nvPr/>
          </p:nvSpPr>
          <p:spPr>
            <a:xfrm>
              <a:off x="752040" y="3871800"/>
              <a:ext cx="730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ute the LALR(1) tables in the normal w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first generated T action in every state determines the guide symbol for this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16000" y="4722840"/>
              <a:ext cx="1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50760" y="4600440"/>
              <a:ext cx="35182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36880" y="4570560"/>
              <a:ext cx="16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uide symbol 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4470120" y="473724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53A-E09E-448B-AFBF-36F212D444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Assessment of this Error Handling Technique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29000" y="1674720"/>
            <a:ext cx="46760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ways terminates (# is always an anch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onl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rrors but even "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rrect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 them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ut the correction is not always what we wa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good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2DB-1799-46A8-938B-9D23129479C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Parser as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2880" y="29336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6680" y="2967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84200" y="20066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58000" y="203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82960" y="2019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43800" y="203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2800" y="212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0320" y="19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97960" y="205272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296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380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8680" y="223524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98680" y="270504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032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7000" y="212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90080" y="19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21207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31920" y="292104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43160" y="294156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29680" y="242100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84200" y="3403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8000" y="3436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498680" y="31622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5952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9008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84200" y="4013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5400" y="403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89720" y="394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927000" y="316224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8136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55160" y="2624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24160" y="270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688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7640" y="2611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22560" y="270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5972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6640" y="262404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82960" y="3403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56760" y="3436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576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848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97080" y="2819520"/>
            <a:ext cx="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45320" y="3068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81360" y="34034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6280" y="3424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1156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872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96360" y="343692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98680" y="3632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5952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82960" y="4013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56760" y="40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5760" y="412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8120" y="3957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81360" y="4013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5160" y="403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11560" y="412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8720" y="3957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5280" y="404640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" y="12826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ush-down automa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1800" y="4572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3720" y="4938840"/>
            <a:ext cx="139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637380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plain BNF allow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800960" y="1282680"/>
            <a:ext cx="3577320" cy="4988160"/>
            <a:chOff x="4800960" y="1282680"/>
            <a:chExt cx="3577320" cy="4988160"/>
          </a:xfrm>
        </p:grpSpPr>
        <p:sp>
          <p:nvSpPr>
            <p:cNvPr id="264" name=""/>
            <p:cNvSpPr/>
            <p:nvPr/>
          </p:nvSpPr>
          <p:spPr>
            <a:xfrm>
              <a:off x="4800960" y="1282680"/>
              <a:ext cx="34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e transition table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parsing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0360" y="2106720"/>
              <a:ext cx="3427920" cy="29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23749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9320" y="2197080"/>
              <a:ext cx="0" cy="27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70600" y="2197080"/>
              <a:ext cx="0" cy="27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6032160" y="1498320"/>
              <a:ext cx="76320" cy="1181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0600 h 1181160"/>
                <a:gd name="textAreaBottom" fmla="*/ 11505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7556400" y="1498320"/>
              <a:ext cx="76320" cy="1181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0600 h 1181160"/>
                <a:gd name="textAreaBottom" fmla="*/ 11505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53240" y="172548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26360" y="17254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17320" y="5446800"/>
              <a:ext cx="33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to sta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acording to production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318320" y="424980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D43-778C-4DE6-B479-9BB7951F60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ing with Shift-Reduce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480" y="1535040"/>
            <a:ext cx="342792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7320" y="180324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17440" y="162576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9080" y="162576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8920" y="4938840"/>
            <a:ext cx="139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1000" y="1143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45360" y="150984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4280" y="1819440"/>
            <a:ext cx="284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39240" y="2212920"/>
            <a:ext cx="39312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 (shift with A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 9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 (B=b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 (S=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 (A=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 (B=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 (S=S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20880" y="2009880"/>
            <a:ext cx="5325840" cy="4756320"/>
            <a:chOff x="3620880" y="2009880"/>
            <a:chExt cx="5325840" cy="4756320"/>
          </a:xfrm>
        </p:grpSpPr>
        <p:sp>
          <p:nvSpPr>
            <p:cNvPr id="286" name=""/>
            <p:cNvSpPr/>
            <p:nvPr/>
          </p:nvSpPr>
          <p:spPr>
            <a:xfrm>
              <a:off x="3620880" y="5637240"/>
              <a:ext cx="426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according to production 3 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9520" y="5942160"/>
              <a:ext cx="4687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p 1 state (because the right-hand side has length 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the left-hand side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into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is always followed by a shift with a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2840" y="2009880"/>
              <a:ext cx="3306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762120"/>
                  <a:tab algn="l" pos="952560"/>
                  <a:tab algn="l" pos="124452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 a b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 (A=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97F-ED9D-4A02-AB04-11FE2D1ED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4872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600" y="1243080"/>
            <a:ext cx="1175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2880" y="4125960"/>
            <a:ext cx="3526200" cy="2643120"/>
            <a:chOff x="812880" y="4125960"/>
            <a:chExt cx="3526200" cy="2643120"/>
          </a:xfrm>
        </p:grpSpPr>
        <p:sp>
          <p:nvSpPr>
            <p:cNvPr id="354" name=""/>
            <p:cNvSpPr/>
            <p:nvPr/>
          </p:nvSpPr>
          <p:spPr>
            <a:xfrm>
              <a:off x="812880" y="5460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8668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84200" y="453384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5800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2960" y="45464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380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280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5032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9796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296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4380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9868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9868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032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7000" y="46483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90080" y="44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27000" y="4648320"/>
              <a:ext cx="0" cy="799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192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4316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2968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420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800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49868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5952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2700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9008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8420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540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2700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972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92700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8136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5516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2416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868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36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2764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2256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72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664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29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567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57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8848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197080" y="53463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45320" y="55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8136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1628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115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872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636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868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952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8296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5676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2576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8812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813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551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1156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872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528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1960" y="4125960"/>
              <a:ext cx="1204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418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88000" y="2179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24560" y="2179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254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9640" y="1243080"/>
              <a:ext cx="1044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 b 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749840" y="4125960"/>
            <a:ext cx="3526200" cy="2643120"/>
            <a:chOff x="4749840" y="4125960"/>
            <a:chExt cx="3526200" cy="2643120"/>
          </a:xfrm>
        </p:grpSpPr>
        <p:sp>
          <p:nvSpPr>
            <p:cNvPr id="482" name=""/>
            <p:cNvSpPr/>
            <p:nvPr/>
          </p:nvSpPr>
          <p:spPr>
            <a:xfrm>
              <a:off x="4749840" y="5460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2364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1160" y="4533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949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19920" y="454644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807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9760" y="46483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87640" y="44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3492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1992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8076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3564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872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63960" y="46483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2704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3960" y="4648320"/>
              <a:ext cx="0" cy="799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6888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8012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6664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211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49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43564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9684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639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7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211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23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6396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668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86396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1832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212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611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238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2968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460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95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70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4360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1992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937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627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254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134040" y="53463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82640" y="55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183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5324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86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3332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564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684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92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37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627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2544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832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9212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5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8568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224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71440" y="4125960"/>
              <a:ext cx="7570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318320" y="38815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B2E-7C05-492B-8284-686B457FE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4872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4480" y="1243080"/>
            <a:ext cx="747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27000" y="281952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812880" y="3998880"/>
            <a:ext cx="3526200" cy="2821320"/>
            <a:chOff x="812880" y="3998880"/>
            <a:chExt cx="3526200" cy="2821320"/>
          </a:xfrm>
        </p:grpSpPr>
        <p:sp>
          <p:nvSpPr>
            <p:cNvPr id="612" name=""/>
            <p:cNvSpPr/>
            <p:nvPr/>
          </p:nvSpPr>
          <p:spPr>
            <a:xfrm>
              <a:off x="81288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668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84200" y="4406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580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2960" y="4419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438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128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5032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7960" y="44528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829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43800" y="501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98680" y="46353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8680" y="510552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503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270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9008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27000" y="45212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31920" y="532116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43160" y="53420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29680" y="48211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84200" y="58039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80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498680" y="556272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59520" y="5646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27000" y="59180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900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84200" y="641340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540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27000" y="651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89720" y="634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927000" y="55627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81360" y="4991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5160" y="502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241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8688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923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27640" y="5011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225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597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6640" y="50245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82960" y="58039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5676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257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884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97080" y="52192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453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81360" y="5803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16280" y="5824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115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4872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96360" y="58374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98680" y="603252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59520" y="60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82960" y="641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56760" y="644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257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881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8136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5516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15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487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95280" y="64468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840" y="3998880"/>
              <a:ext cx="57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18320" y="6637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27000" y="55753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678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8728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238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25800" y="2992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72520" y="1243080"/>
              <a:ext cx="6073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3960" y="28195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749840" y="4125960"/>
            <a:ext cx="3526200" cy="2643120"/>
            <a:chOff x="4749840" y="4125960"/>
            <a:chExt cx="3526200" cy="2643120"/>
          </a:xfrm>
        </p:grpSpPr>
        <p:sp>
          <p:nvSpPr>
            <p:cNvPr id="743" name=""/>
            <p:cNvSpPr/>
            <p:nvPr/>
          </p:nvSpPr>
          <p:spPr>
            <a:xfrm>
              <a:off x="4749840" y="5460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2364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21160" y="4533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949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5464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07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4976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8728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492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19920" y="511812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8076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3564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3564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872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396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704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3960" y="464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6888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8012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6664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211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949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43564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684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3960" y="60451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27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211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23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396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2668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86396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1832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212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11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238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2968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6460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595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970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360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19920" y="593100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37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62720" y="60451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254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134040" y="5346360"/>
              <a:ext cx="0" cy="58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83360" y="5595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183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5324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485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86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3332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3564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9684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992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937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627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2544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1832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9212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485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8568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3224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72880" y="4125960"/>
              <a:ext cx="4384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3960" y="570240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9C4-E366-4295-A12E-F2CA6D7940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49080" y="2992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6280" y="1243080"/>
            <a:ext cx="458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927000" y="2819520"/>
            <a:ext cx="0" cy="342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812880" y="3998880"/>
            <a:ext cx="3526200" cy="2821320"/>
            <a:chOff x="812880" y="3998880"/>
            <a:chExt cx="3526200" cy="2821320"/>
          </a:xfrm>
        </p:grpSpPr>
        <p:sp>
          <p:nvSpPr>
            <p:cNvPr id="873" name=""/>
            <p:cNvSpPr/>
            <p:nvPr/>
          </p:nvSpPr>
          <p:spPr>
            <a:xfrm>
              <a:off x="812880" y="5334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8668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84200" y="4406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580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82960" y="4419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438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6128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5032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97960" y="44528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829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43800" y="501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98680" y="46353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98680" y="510552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503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270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9008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27000" y="45212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31920" y="532116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43160" y="53420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29680" y="48211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84200" y="58039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580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1498680" y="556272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59520" y="5646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27000" y="59180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900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8420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4540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27000" y="651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9720" y="634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27000" y="55627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81360" y="4991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55160" y="502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241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8688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923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27640" y="5011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225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597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6640" y="50245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82960" y="58039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5676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257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884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197080" y="52192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453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1360" y="5803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16280" y="5824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15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44872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96360" y="58374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98680" y="603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59520" y="60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82960" y="641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56760" y="644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257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881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8136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5516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115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87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95280" y="64468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6640" y="3998880"/>
              <a:ext cx="279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318320" y="6637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27000" y="5575320"/>
              <a:ext cx="0" cy="342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939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8728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238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254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73240" y="1243080"/>
              <a:ext cx="2311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63960" y="28195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2E4-0CCA-4B4D-88F7-4FCF7B845A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Hanspeter Mössenböck</cp:lastModifiedBy>
  <cp:lastPrinted>2001-09-28T08:52:55Z</cp:lastPrinted>
  <dcterms:modified xsi:type="dcterms:W3CDTF">2004-12-16T09:09:17Z</dcterms:modified>
  <cp:revision>566</cp:revision>
  <dc:subject/>
  <dc:title>Javascript-Anweisungen</dc:title>
</cp:coreProperties>
</file>