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AA0-FFDF-4C26-930B-89DC3D06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C67-88FA-4A81-B316-841D41B6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871-4AE2-4326-8CD7-C80E39FA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93A-6C45-438D-9382-D8745A85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F3DA-23DB-4B54-8EDC-CCEFEF87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D2F-5BE4-4009-A7EE-F3D2DB88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D1D8-58B6-4E17-9028-52506855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A8AE-B453-4EC5-A9C8-0994A686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2156-60D0-4E93-9B0C-40768882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32B0-2832-4755-8454-C4026957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2CA9-B4CB-45CB-9B72-C7ACA1EE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A0E-0BA0-4332-87CE-5F1653AD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C6C4-7CB8-4438-BCC0-6B7B6061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7892-23C4-43C3-8ADA-FA39165A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D422-6ECC-4A49-8F06-DF3D395F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F26E-244D-4E0A-A8ED-D774041B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14F2-8AB6-49DB-983D-CD8C8010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845-7346-4AF8-99A4-AFCDD140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0A4-4D95-4026-AAA6-8C31DB75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1DF-580F-4716-8502-EBF092A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24D-7972-4081-B5DB-B7E6FB6F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9CB-B08B-4F2D-805A-092B8804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AB4-0828-4F7B-ADA7-FFFB2596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5AE-B261-4F1D-9974-935D0372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673D-6563-44F9-B3AE-CC97644FB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844D-CF66-4BE2-9AD9-4B6779234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248904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ABA-71A4-480E-B309-CBB3B975EA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403440" y="2044800"/>
            <a:ext cx="67320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 Areas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440" y="13082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clas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99800" y="1789200"/>
            <a:ext cx="1337400" cy="120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X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obj = new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80640" y="205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03440" y="2044800"/>
            <a:ext cx="6732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80640" y="226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03440" y="226044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81000" y="2484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3440" y="247644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03440" y="190512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76640" y="190512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65000" y="157320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13000" y="20448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55960" y="195120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85520" y="1979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essed by field token relative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03440" y="4064040"/>
            <a:ext cx="6732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1440" y="33274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array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3400" y="3808440"/>
            <a:ext cx="16952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] a = new int[4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2440" y="4071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03440" y="406404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2440" y="4287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03440" y="4280040"/>
            <a:ext cx="6732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2440" y="4503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3440" y="449568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76640" y="392436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65000" y="359244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13000" y="40640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58200" y="3970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3720" y="3998880"/>
            <a:ext cx="33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essed by index value relativ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2440" y="4719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71168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03440" y="392436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040" y="5330880"/>
            <a:ext cx="75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Z# supports only vectors, i.e. one dimensional arrays with index starting at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vectors can be handled by the special CIL instructio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ewar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dle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del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e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F22-F09C-4326-B58B-62DA13CE89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Buff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1480" y="1284120"/>
            <a:ext cx="62751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Z# has only static methods that belong to type of the main program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ach method consists of a stream of CIL instructions and metadata,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.entrypo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.local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.max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access attributes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92720" y="2322360"/>
            <a:ext cx="8280720" cy="3907440"/>
            <a:chOff x="792720" y="2322360"/>
            <a:chExt cx="8280720" cy="3907440"/>
          </a:xfrm>
        </p:grpSpPr>
        <p:sp>
          <p:nvSpPr>
            <p:cNvPr id="277" name=""/>
            <p:cNvSpPr/>
            <p:nvPr/>
          </p:nvSpPr>
          <p:spPr>
            <a:xfrm>
              <a:off x="1716120" y="2862360"/>
              <a:ext cx="2335320" cy="25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2720" y="2322360"/>
              <a:ext cx="675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stem.Reflection.Emit.ILGener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anages the CIL stre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can access the IL stream of the currently compiled method via the static field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ernal static ILGenerato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9520" y="3446640"/>
              <a:ext cx="3045960" cy="2424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LGener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overloaded (see next slide) */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irtual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m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OpCode op, ...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for method calls */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mitCal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pCode op,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ethodInfo meth,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[] varArgs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550760" y="3284640"/>
              <a:ext cx="4522680" cy="2945160"/>
              <a:chOff x="4550760" y="3284640"/>
              <a:chExt cx="4522680" cy="2945160"/>
            </a:xfrm>
          </p:grpSpPr>
          <p:sp>
            <p:nvSpPr>
              <p:cNvPr id="281" name=""/>
              <p:cNvSpPr/>
              <p:nvPr/>
            </p:nvSpPr>
            <p:spPr>
              <a:xfrm>
                <a:off x="4550760" y="3284640"/>
                <a:ext cx="4522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Handles for instruction are defined in calss </a:t>
                </a:r>
                <a:r>
                  <a:rPr b="0" i="1" lang="de-AT" sz="1600" spc="-1" strike="noStrike">
                    <a:solidFill>
                      <a:srgbClr val="000000"/>
                    </a:solidFill>
                    <a:latin typeface="Times New Roman"/>
                  </a:rPr>
                  <a:t>OpCodes</a:t>
                </a: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Wir verwenden Abkürzungen in Klasse </a:t>
                </a:r>
                <a:r>
                  <a:rPr b="0" i="1" lang="de-AT" sz="16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80880" y="3903480"/>
                <a:ext cx="3076560" cy="15858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static readonly 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LDARG0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Ldarg_0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LDARG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Ldarg_S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LDC0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Ldc_I4_0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ADD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Add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BEQ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Beq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... 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75240" y="5567040"/>
                <a:ext cx="20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e.g.: Generating </a:t>
                </a:r>
                <a:r>
                  <a:rPr b="0" i="1" lang="de-AT" sz="1600" spc="-1" strike="noStrike">
                    <a:solidFill>
                      <a:srgbClr val="000000"/>
                    </a:solidFill>
                    <a:latin typeface="Times New Roman"/>
                  </a:rPr>
                  <a:t>ldloc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84480" y="5922720"/>
                <a:ext cx="2478960" cy="307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Code.il.Emit(Code.LDLOC2)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022-6B3D-4E96-B1ED-491F7F76B2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mit methods of ILGenerato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6280" y="1712880"/>
            <a:ext cx="7341840" cy="423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L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use for the following IL instruc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arg.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ldloc.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stloc.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ldnull, ldc.i4.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ld.i4.m1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add, sub, mul, div, rem, neg,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len, ldelem... , stelem... , dup, pop, ret, th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byte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arg.s, starg.s, ldloc.s, stloc.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int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c.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FieldInfo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sfld, stsfld, ldfld, stf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LocalBuilder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loc.s, stloc.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ConstructorInfo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ew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Type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ewa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Label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br, beq, bge, bgt, ble, blt, bne.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for method calls */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Cal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MethodInfo, Type[]);  // call (set last argument (varargs) to nu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D8A-8532-4646-9C5D-AA1B49C0B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adat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13720" y="3002040"/>
            <a:ext cx="7949880" cy="3010320"/>
            <a:chOff x="513720" y="3002040"/>
            <a:chExt cx="7949880" cy="3010320"/>
          </a:xfrm>
        </p:grpSpPr>
        <p:sp>
          <p:nvSpPr>
            <p:cNvPr id="289" name=""/>
            <p:cNvSpPr/>
            <p:nvPr/>
          </p:nvSpPr>
          <p:spPr>
            <a:xfrm>
              <a:off x="757080" y="3360960"/>
              <a:ext cx="7706520" cy="265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nal static void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eateMetadat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Symbol sym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itch (sym.kind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se Symbol.Kinds.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Pro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ssemblyName aName = new AssemblyName(); aName.Name = sym.nam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ssembl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AppDomain.CurrentDomain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DefineDynamicAssembl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Name, AssemblyBuilderAccess.Sav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odul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assembly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DefineDynamicModul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ym.name + "Module", sym.name + ".exe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progra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module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DefineTyp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ym.name, TypeAttributes.Class | TypeAttributes.Publi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n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null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3720" y="3002040"/>
              <a:ext cx="776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metho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reateMetadat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reates metadata objects from symbol nod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15880" y="1500120"/>
            <a:ext cx="6547320" cy="1297440"/>
            <a:chOff x="515880" y="1500120"/>
            <a:chExt cx="6547320" cy="1297440"/>
          </a:xfrm>
        </p:grpSpPr>
        <p:sp>
          <p:nvSpPr>
            <p:cNvPr id="292" name=""/>
            <p:cNvSpPr/>
            <p:nvPr/>
          </p:nvSpPr>
          <p:spPr>
            <a:xfrm>
              <a:off x="515880" y="1500120"/>
              <a:ext cx="561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has fields for managing important metadata item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35240" y="1851120"/>
              <a:ext cx="572796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c AssemblyBuilde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/ the program 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c ModuleBuilde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/ the program mo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c TypeBuilde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/ the main 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c TypeBuilde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/ the currently compiled inner 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15880" y="1239840"/>
            <a:ext cx="75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scribes the properties of the components of an assembly (types, fields, methods, 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EA5-70FA-4B8B-B3DB-23450CD3B34B}" type="slidenum">
              <a:t>13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47800" y="3798720"/>
            <a:ext cx="1940040" cy="26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3160" y="3508200"/>
            <a:ext cx="573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itional field in Struct nod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Typ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s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creating the corresponding CLR types for a Symbol n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adata: local variab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1120" y="1243080"/>
            <a:ext cx="76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clareLoc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LGener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Reflection.Emit.Local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at builds the metadata for local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000" y="1846440"/>
            <a:ext cx="419328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atic void CreateMetadata (Symbol sy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(sym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Symbol.Kinds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Loc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DeclareLoc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ym.type.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ys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C10-646F-4FD0-9EDC-AFA98B5A380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47800" y="5761080"/>
            <a:ext cx="2665440" cy="268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6040" y="5479920"/>
            <a:ext cx="70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itional field for Symbol nod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ConstructorBuild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generating invocations to constructor when creating new object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ewobj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47800" y="4484520"/>
            <a:ext cx="1940040" cy="26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1000" y="4194000"/>
            <a:ext cx="66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zusätzliches Feld für Strukturknoten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Typ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s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m den entsprechenden CLR-Typen für das Symbol anlegen zu kön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adata: typ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1840" y="1243080"/>
            <a:ext cx="767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fineTyp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oduleBuil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Reflection.Emit.Type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at builds the metadata for typ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ner classes from Z# are mapped to outer types in the CL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8720" y="2084400"/>
            <a:ext cx="7809480" cy="329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atic void CreateMetadata (Symbol sy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(sym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 = module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efine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ym.name, TypeAttributes.Class | TypeAttributes.NotPub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.type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ys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inn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define default contructor (simply calls base construc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inner.DefineConstructor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Attributes.Public, CallingConventions.Standar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Type[0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= sym.ctor.GetILGener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.Emit(LDARG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.Emit(CALL,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of(object).GetConstructor(new Type[0]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.Emit(R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82160" y="4826160"/>
            <a:ext cx="3108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-arg constructor of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3711240" y="4484160"/>
            <a:ext cx="4680" cy="327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69A-BCA4-4A59-B1A5-C4F6D191ACB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Metadata:</a:t>
            </a:r>
            <a:br>
              <a:rPr sz="2800"/>
            </a:b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global variables &amp; object fields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5320" y="1243080"/>
            <a:ext cx="812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CLR handles both as fields (static fields of program class; instance fields of inner class typ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fineFie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ypeBuil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Reflection.Emit.Field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at generates the metadata for fie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28920" y="5091120"/>
            <a:ext cx="5198760" cy="824040"/>
            <a:chOff x="628920" y="5091120"/>
            <a:chExt cx="5198760" cy="824040"/>
          </a:xfrm>
        </p:grpSpPr>
        <p:sp>
          <p:nvSpPr>
            <p:cNvPr id="312" name=""/>
            <p:cNvSpPr/>
            <p:nvPr/>
          </p:nvSpPr>
          <p:spPr>
            <a:xfrm>
              <a:off x="1719360" y="5383080"/>
              <a:ext cx="2027160" cy="25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8920" y="5091120"/>
              <a:ext cx="519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itional fields for Symbol node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ernal FieldBuilde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l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generating field accesses 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s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s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29400" y="2084400"/>
            <a:ext cx="8597880" cy="286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atic void CreateMetadata (Symbol sy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(sym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Symbol.Kinds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lob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sym.type != Tab.no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program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efineF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ym.name, sym.type.sysTyp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Attributes.Assembly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ieldAttributes.Stat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Symbol.Kinds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sym.type != Tab.no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inner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efineF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ym.name, sym.type.sysType, FieldAttributes.Assembl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9E6-00D5-49AB-A176-FA5EE12BC5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739880" y="5526000"/>
            <a:ext cx="2444760" cy="24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1360" y="5234040"/>
            <a:ext cx="402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itional field for Symbol nod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MethodBuild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generating method call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adata: methods &amp; argu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800" y="1233360"/>
            <a:ext cx="74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fine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ypeBuil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Reflection.Emit.Method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at generates the metadata for methods and their argu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6120" y="1836720"/>
            <a:ext cx="7241400" cy="329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atic void CreateMetadata (Symbol sy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(sym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Symbol.Kinds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[] args = new Type[sym.nArgs]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ar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arg = sym.locals; arg != null &amp;&amp; arg.kind == Symbol.Kinds.Arg; arg = arg.nex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rgs[arg.adr] = arg.type.sys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program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DefineMetho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.name,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odAttributes.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MethodAttributes.Famil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.type.sysType, arg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sym.meth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tIL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sym.name == "Main") assembly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tEntryPo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ym.met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A8B-5E1B-4D96-9E1F-C049EBBDD73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3520" y="1333440"/>
            <a:ext cx="64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mon Intermediate Language (CIL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here we need only a sub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4120" y="1738440"/>
            <a:ext cx="48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ery compact: most instructions are just 1 byte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ostly untyped; type indications refer to the resul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35000" y="23097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unty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26080" y="2627280"/>
            <a:ext cx="7279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rg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03400" y="2627280"/>
            <a:ext cx="9655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.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elem.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32560" y="23097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y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09560" y="3683160"/>
            <a:ext cx="7666560" cy="2484000"/>
            <a:chOff x="709560" y="3683160"/>
            <a:chExt cx="7666560" cy="2484000"/>
          </a:xfrm>
        </p:grpSpPr>
        <p:sp>
          <p:nvSpPr>
            <p:cNvPr id="328" name=""/>
            <p:cNvSpPr/>
            <p:nvPr/>
          </p:nvSpPr>
          <p:spPr>
            <a:xfrm>
              <a:off x="709560" y="3683160"/>
              <a:ext cx="20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struction form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1960" y="4062240"/>
              <a:ext cx="43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ery simple compared to Intel, PowerPC or SP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31760" y="4468680"/>
              <a:ext cx="282780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{ Instruction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opcode [ operand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74720" y="4443480"/>
              <a:ext cx="400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code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 or 2 by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erand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 primitive type or metadata 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9960" y="520704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43200" y="5586480"/>
              <a:ext cx="556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4349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0 operand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as 2 implicit operands on the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4349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 operan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c.i4.s 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B98-16AA-4F8E-BD83-E0FCFBDAD4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0280" y="13334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dressing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7640" y="1738440"/>
            <a:ext cx="27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w can operands be acces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0760" y="2576520"/>
            <a:ext cx="81162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Immedia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 123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arg.s 5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metho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s.s 12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local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sfld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statische Felder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metadata tok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loaded values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fld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object fields (object reference is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Index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.i4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array elements (array reference &amp; index are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5520" y="22716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ddressing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64280" y="22716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48160" y="4722840"/>
            <a:ext cx="3777120" cy="1538280"/>
            <a:chOff x="848160" y="4722840"/>
            <a:chExt cx="3777120" cy="1538280"/>
          </a:xfrm>
        </p:grpSpPr>
        <p:sp>
          <p:nvSpPr>
            <p:cNvPr id="341" name=""/>
            <p:cNvSpPr/>
            <p:nvPr/>
          </p:nvSpPr>
          <p:spPr>
            <a:xfrm>
              <a:off x="1524240" y="472284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97160" y="5537160"/>
              <a:ext cx="1079280" cy="241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9160" y="5532480"/>
              <a:ext cx="109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97160" y="5270400"/>
              <a:ext cx="1079280" cy="266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97160" y="5778360"/>
              <a:ext cx="1079280" cy="24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19320" y="577836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8160" y="562140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97680" y="50371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69480" y="472284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dex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43480" y="5537160"/>
              <a:ext cx="1079280" cy="241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25480" y="5532480"/>
              <a:ext cx="109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43480" y="5270400"/>
              <a:ext cx="1079280" cy="266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43480" y="6019920"/>
              <a:ext cx="1079280" cy="24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65640" y="601992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94480" y="586260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44000" y="50371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43480" y="5778360"/>
              <a:ext cx="1079280" cy="241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27280" y="5773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F67-B201-4AB7-B064-D61AD97A2F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Responsibilities of the Code Gene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6320" y="132084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eneration of machine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4320" y="167472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lecting the right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lecting the right addressing m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080" y="2362320"/>
            <a:ext cx="57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ranslation of control structures (if, while, ...) into ju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4160" y="3048120"/>
            <a:ext cx="45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location of stack frames for local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7040" y="37465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aybe some optim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320" y="44578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utput of the objec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6BC-A377-4F31-8C90-1A1BBB9A87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9200" y="1276200"/>
            <a:ext cx="43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ading and storing of method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85880" y="2309760"/>
            <a:ext cx="5904000" cy="580680"/>
            <a:chOff x="785880" y="2309760"/>
            <a:chExt cx="5904000" cy="580680"/>
          </a:xfrm>
        </p:grpSpPr>
        <p:sp>
          <p:nvSpPr>
            <p:cNvPr id="362" name=""/>
            <p:cNvSpPr/>
            <p:nvPr/>
          </p:nvSpPr>
          <p:spPr>
            <a:xfrm>
              <a:off x="785880" y="230976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arg.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9000" y="23097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03520" y="230976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n = 0..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ush(args[n]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785880" y="167472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arg.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59000" y="167472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03520" y="167472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args[b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85880" y="2954160"/>
            <a:ext cx="5904000" cy="580680"/>
            <a:chOff x="785880" y="2954160"/>
            <a:chExt cx="5904000" cy="580680"/>
          </a:xfrm>
        </p:grpSpPr>
        <p:sp>
          <p:nvSpPr>
            <p:cNvPr id="369" name=""/>
            <p:cNvSpPr/>
            <p:nvPr/>
          </p:nvSpPr>
          <p:spPr>
            <a:xfrm>
              <a:off x="785880" y="295416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arg.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59000" y="29541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03520" y="295416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gs[b]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6822720" y="1509840"/>
            <a:ext cx="178992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perand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 ... unsigned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 ... signed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 ... metadata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82640" y="5265720"/>
            <a:ext cx="5904000" cy="1215720"/>
            <a:chOff x="782640" y="5265720"/>
            <a:chExt cx="5904000" cy="1215720"/>
          </a:xfrm>
        </p:grpSpPr>
        <p:sp>
          <p:nvSpPr>
            <p:cNvPr id="374" name=""/>
            <p:cNvSpPr/>
            <p:nvPr/>
          </p:nvSpPr>
          <p:spPr>
            <a:xfrm>
              <a:off x="782640" y="590076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loc.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55760" y="59007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00280" y="590076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n = 0..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s[n]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2640" y="526572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loc.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55760" y="526572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0280" y="526572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s[b]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3880" y="3616200"/>
            <a:ext cx="5976000" cy="1595160"/>
            <a:chOff x="713880" y="3616200"/>
            <a:chExt cx="5976000" cy="1595160"/>
          </a:xfrm>
        </p:grpSpPr>
        <p:sp>
          <p:nvSpPr>
            <p:cNvPr id="381" name=""/>
            <p:cNvSpPr/>
            <p:nvPr/>
          </p:nvSpPr>
          <p:spPr>
            <a:xfrm>
              <a:off x="785880" y="399888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s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59000" y="399888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03520" y="399888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ush(locals[b]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2640" y="463068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55760" y="463068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00280" y="463068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n = 0..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ush(locals[n]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3880" y="3616200"/>
              <a:ext cx="38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oading and storing of local 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83EF-451A-46BE-BF84-60AC9DB387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707760" y="3247920"/>
            <a:ext cx="8231040" cy="1884600"/>
            <a:chOff x="707760" y="3247920"/>
            <a:chExt cx="8231040" cy="1884600"/>
          </a:xfrm>
        </p:grpSpPr>
        <p:sp>
          <p:nvSpPr>
            <p:cNvPr id="390" name=""/>
            <p:cNvSpPr/>
            <p:nvPr/>
          </p:nvSpPr>
          <p:spPr>
            <a:xfrm>
              <a:off x="707760" y="3247920"/>
              <a:ext cx="355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oading and storing of object f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5880" y="4275000"/>
              <a:ext cx="1425600" cy="857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fld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f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9000" y="4275000"/>
              <a:ext cx="119232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obj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03520" y="4275000"/>
              <a:ext cx="3186360" cy="857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 object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l = pop(); obj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eap[obj+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] = val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5880" y="3639960"/>
              <a:ext cx="142560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f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59000" y="36399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03520" y="3639960"/>
              <a:ext cx="3186360" cy="614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d object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bj = pop(); push(heap[obj+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]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58000" y="3819600"/>
              <a:ext cx="3556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58000" y="3666960"/>
              <a:ext cx="355680" cy="152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58000" y="3971880"/>
              <a:ext cx="3556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69360" y="3908520"/>
              <a:ext cx="368280" cy="49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12160" y="389556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69360" y="4137120"/>
              <a:ext cx="368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59600" y="3908520"/>
              <a:ext cx="88920" cy="2156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5400 h 215640"/>
                <a:gd name="textAreaBottom" fmla="*/ 2102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69320" y="3873600"/>
              <a:ext cx="366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AT" sz="1200" spc="-1" strike="noStrike" baseline="-25000">
                  <a:solidFill>
                    <a:srgbClr val="000000"/>
                  </a:solidFill>
                  <a:latin typeface="Arial"/>
                </a:rPr>
                <a:t>f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15800" y="342108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60400" y="36752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458200" y="3819600"/>
              <a:ext cx="3556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58200" y="3666960"/>
              <a:ext cx="355680" cy="152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58200" y="3971880"/>
              <a:ext cx="3556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16000" y="342108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70880" y="3603600"/>
              <a:ext cx="495360" cy="139680"/>
            </a:xfrm>
            <a:prstGeom prst="rightArrow">
              <a:avLst>
                <a:gd name="adj1" fmla="val 50000"/>
                <a:gd name="adj2" fmla="val 886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707760" y="127008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ading and storing of global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5880" y="2322360"/>
            <a:ext cx="142560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tsfld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59000" y="232236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3520" y="2322360"/>
            <a:ext cx="3186360" cy="61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ore stat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ics[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]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5880" y="1687680"/>
            <a:ext cx="142560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s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59000" y="168768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03520" y="1687680"/>
            <a:ext cx="3186360" cy="61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stat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statics[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2AD1-B00B-42FB-A0F2-128072DC13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9920" y="126684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ading of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5880" y="231948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c.i4.</a:t>
            </a: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59000" y="231948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03520" y="231948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consta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n = 0.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5880" y="168444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c.i4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59000" y="168444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3520" y="168444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5880" y="295416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c.i4.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9000" y="295416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3520" y="295416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minus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2640" y="358920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55760" y="358920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0280" y="358920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6E7A-3886-4C6C-A6DB-F4488861E5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nd stor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8920" y="30337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x = a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36920" y="154944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64000" y="15001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33160" y="152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36920" y="1752480"/>
            <a:ext cx="48240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4000" y="17035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33160" y="1727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6920" y="195588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3640" y="1906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33160" y="193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36920" y="1546200"/>
            <a:ext cx="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9320" y="1546200"/>
            <a:ext cx="0" cy="6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21040" y="20779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11640" y="2070000"/>
            <a:ext cx="48240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38360" y="2028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11640" y="227340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38360" y="2224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42280" y="3033720"/>
            <a:ext cx="246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arg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rg.s 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17440" y="27162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38200" y="2716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27040" y="27162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8920" y="458640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gx = g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42280" y="4586400"/>
            <a:ext cx="246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s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_g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s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_g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2600" y="15494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5960" y="149544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22600" y="17524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85960" y="16984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2760" y="129528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st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07040" y="13050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7840" y="53863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.x = p.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40480" y="5386320"/>
            <a:ext cx="2715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_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p.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_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14360" y="155592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77720" y="15019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14360" y="175896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7720" y="170496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20120" y="13017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10960" y="15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10960" y="172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5760" y="380196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=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49120" y="3801960"/>
            <a:ext cx="236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703B-CE4C-403B-B7CF-A2BE2BD3E9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9200" y="11811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rithm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5880" y="213192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59000" y="2131920"/>
            <a:ext cx="1332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-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30600" y="213192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5880" y="157320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59000" y="157320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+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30600" y="157320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5880" y="324972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59000" y="324972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/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30600" y="324972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pop(); push(pop() /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85880" y="269064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59000" y="269064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*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30600" y="269064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*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5880" y="436716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59000" y="436716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-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30600" y="436716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5880" y="380844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59000" y="380844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%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30600" y="380844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mai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pop(); push(pop() %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2A33-5857-4AD1-B797-2D96B2D19F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s: arithmetic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8560" y="15415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+ y *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97960" y="1541520"/>
            <a:ext cx="29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y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y*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+y*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77440" y="12240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98560" y="12240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86680" y="12240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080" y="2765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00480" y="2765520"/>
            <a:ext cx="266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59400" y="276552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91200" y="2773440"/>
            <a:ext cx="272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m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22520" y="37656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.x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99760" y="3765600"/>
            <a:ext cx="301536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p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p.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p.x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p.x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p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88040" y="137160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15120" y="1322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84640" y="1346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88040" y="157464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15120" y="1525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84640" y="1549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88040" y="17780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14760" y="172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84640" y="175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88040" y="1368360"/>
            <a:ext cx="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70800" y="1368360"/>
            <a:ext cx="0" cy="6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572160" y="1900080"/>
            <a:ext cx="1047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29480" y="19000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56560" y="1859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9480" y="210348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56560" y="2054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58160" y="11271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57600" y="376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[2]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88320" y="3767040"/>
            <a:ext cx="347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ldloc.3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ldc.i4.2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a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s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s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.i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[2]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[2]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elem.i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89840" y="198612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16200" y="193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86080" y="196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591240" y="2080800"/>
            <a:ext cx="365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67080" y="2089800"/>
            <a:ext cx="427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89840" y="2190600"/>
            <a:ext cx="48240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00360" y="2141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86080" y="216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89840" y="239400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08280" y="23446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86080" y="236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209F-D3EA-445F-8CDB-2387C118CF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8120" y="11811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bject 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5880" y="2690640"/>
            <a:ext cx="1425600" cy="857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newarr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e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59000" y="2690640"/>
            <a:ext cx="119232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a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03520" y="2690640"/>
            <a:ext cx="412596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w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s an array with space for 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f the type specified by the type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5880" y="1573200"/>
            <a:ext cx="1425600" cy="110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newobj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59000" y="1573200"/>
            <a:ext cx="119232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 [ arg0, ...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gN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ob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03520" y="1573200"/>
            <a:ext cx="411336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w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s a new object of the type specifie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 the constructor token and then execut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constructor (arguments are on the st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64F2-30B4-4116-9ADB-CEB3DF18B8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s: object cre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5320" y="303372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erson p = new Pers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17440" y="15494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44160" y="1495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4040" y="1495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7440" y="17524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44160" y="170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040" y="170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7440" y="15462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154620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26720" y="3033720"/>
            <a:ext cx="2727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wobj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P(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04760" y="27162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01840" y="2716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14000" y="27162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4960" y="392256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[] a = new int[5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30320" y="3922560"/>
            <a:ext cx="23752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warr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97280" y="12952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36840" y="16509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76520" y="158760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36840" y="18543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76520" y="179064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9151-C80B-4D44-AED1-FD50294545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08840" y="11811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rra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785880" y="2954160"/>
            <a:ext cx="5904000" cy="1310760"/>
            <a:chOff x="785880" y="2954160"/>
            <a:chExt cx="5904000" cy="1310760"/>
          </a:xfrm>
        </p:grpSpPr>
        <p:sp>
          <p:nvSpPr>
            <p:cNvPr id="568" name=""/>
            <p:cNvSpPr/>
            <p:nvPr/>
          </p:nvSpPr>
          <p:spPr>
            <a:xfrm>
              <a:off x="785880" y="2954160"/>
              <a:ext cx="1425600" cy="1310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elem.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elem.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elem.r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59000" y="2954160"/>
              <a:ext cx="1192320" cy="1310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adr, i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03520" y="2954160"/>
              <a:ext cx="3186360" cy="1310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 array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l=pop(); i=pop(); adr=pop()/4+1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eap[adr+i] = val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ype of element to be stor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har, int, object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785880" y="1573200"/>
            <a:ext cx="142560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elem.u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elem.i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elem.r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59000" y="1573200"/>
            <a:ext cx="119232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adr,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03520" y="1573200"/>
            <a:ext cx="318636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array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 = pop(); adr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heap[adr+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ult type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ar, int, object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0" y="1752480"/>
            <a:ext cx="3556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0" y="1600200"/>
            <a:ext cx="3556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0" y="1905120"/>
            <a:ext cx="3556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569360" y="1841400"/>
            <a:ext cx="368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12160" y="182880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69360" y="2070000"/>
            <a:ext cx="368280" cy="114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975440" y="1841400"/>
            <a:ext cx="88920" cy="216000"/>
          </a:xfrm>
          <a:custGeom>
            <a:avLst/>
            <a:gdLst>
              <a:gd name="textAreaLeft" fmla="*/ 0 w 88920"/>
              <a:gd name="textAreaRight" fmla="*/ 32040 w 8892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24760" y="17985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15800" y="13539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60400" y="16081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458200" y="1752480"/>
            <a:ext cx="355680" cy="152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458200" y="1600200"/>
            <a:ext cx="3556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458200" y="1905120"/>
            <a:ext cx="35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16000" y="13539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70880" y="1536840"/>
            <a:ext cx="495360" cy="139680"/>
          </a:xfrm>
          <a:prstGeom prst="rightArrow">
            <a:avLst>
              <a:gd name="adj1" fmla="val 50000"/>
              <a:gd name="adj2" fmla="val 88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2057400"/>
            <a:ext cx="3556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43240" y="1684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69160" y="18493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569360" y="195588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85880" y="4325760"/>
            <a:ext cx="5904000" cy="580680"/>
            <a:chOff x="785880" y="4325760"/>
            <a:chExt cx="5904000" cy="580680"/>
          </a:xfrm>
        </p:grpSpPr>
        <p:sp>
          <p:nvSpPr>
            <p:cNvPr id="594" name=""/>
            <p:cNvSpPr/>
            <p:nvPr/>
          </p:nvSpPr>
          <p:spPr>
            <a:xfrm>
              <a:off x="785880" y="432576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59000" y="43257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a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03520" y="432576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et array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01D5-0521-454C-B1F3-6CEF1A9DFD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array acce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7480" y="30337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[i] = b[i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17440" y="15494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44160" y="1504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040" y="152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17440" y="17524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44160" y="170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4040" y="1727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17440" y="154620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35800" y="3033720"/>
            <a:ext cx="325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  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   i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   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.i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[i+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elem.i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17440" y="27162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38200" y="2716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26320" y="27162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87920" y="12952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17440" y="195588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63600" y="19303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14040" y="193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71280" y="1867320"/>
            <a:ext cx="427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49440" y="186696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49440" y="1650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85520" y="1651680"/>
            <a:ext cx="427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ACC1-4903-4078-9B2E-5357E3DD92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mon Strateg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4640" y="1434960"/>
            <a:ext cx="676080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udy the target machine</a:t>
            </a:r>
            <a:br>
              <a:rPr sz="18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gisters, data formats, addressing modes, instructions, instruction formats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ign the run-time data structures</a:t>
            </a:r>
            <a:br>
              <a:rPr sz="18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yout of stack frames, layout of the global data area, layout of heap objects,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yout of the constant poo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mplement the code buffer</a:t>
            </a:r>
            <a:br>
              <a:rPr sz="18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struction encoding, instruction patching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mplement register allocation</a:t>
            </a:r>
            <a:br>
              <a:rPr sz="18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rrelevant for Z#, because we have a stack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mplement code generation routine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n the following order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values and addresses into registers (or onto the stack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cess designators (x.y, a[i], ...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ranslate expressio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age labels and jump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ranslate statement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ranslate methods and parameter pa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45B-FCEC-4FFF-AC8E-C2D9BEBA45DB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09560" y="118116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ck mani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5880" y="157320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59000" y="157320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03520" y="157320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move topmost stack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ummy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5880" y="220824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59000" y="220824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03520" y="220824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Duplicate topmost stack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pop(); push(x); push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10280" y="2822400"/>
            <a:ext cx="8105400" cy="2094480"/>
            <a:chOff x="710280" y="2822400"/>
            <a:chExt cx="8105400" cy="2094480"/>
          </a:xfrm>
        </p:grpSpPr>
        <p:sp>
          <p:nvSpPr>
            <p:cNvPr id="627" name=""/>
            <p:cNvSpPr/>
            <p:nvPr/>
          </p:nvSpPr>
          <p:spPr>
            <a:xfrm>
              <a:off x="710280" y="28224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5880" y="321444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59000" y="321444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03520" y="321444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ranch uncondition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c = pc +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00480" y="3125520"/>
              <a:ext cx="1915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arks the current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tructio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jump distance)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lative to the start of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next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85880" y="3849480"/>
              <a:ext cx="1425600" cy="106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&lt;cond&gt;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59000" y="3849480"/>
              <a:ext cx="1192320" cy="106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x,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03520" y="3849480"/>
              <a:ext cx="3186360" cy="106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ranch conditionall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&lt;cond&gt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eq | ge | gt | le | lt | ne.u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 = pop(); x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(x cond y) pc = pc + i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C87B-B5E9-4CE6-8990-948F598E03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7480" y="3033720"/>
            <a:ext cx="9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x &gt; y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17440" y="15494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44520" y="1495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040" y="152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17440" y="17524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44520" y="16891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040" y="1727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17440" y="154620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00200" y="15462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40480" y="3033720"/>
            <a:ext cx="26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7440" y="27162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38200" y="2716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26320" y="27162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78200" y="12952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E3C2-6D90-4291-9F3E-B0C102133A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08840" y="11811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ethod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85880" y="1573200"/>
            <a:ext cx="1425600" cy="158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m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59000" y="1573200"/>
            <a:ext cx="119232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 [ arg0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gN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 [ retVal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03520" y="1573200"/>
            <a:ext cx="316548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ll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ops the arguments off caller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puts them in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f the callee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ops return value off calle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pushes it onto calle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85880" y="320040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59000" y="320040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03520" y="3200400"/>
            <a:ext cx="31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turn from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10280" y="4645080"/>
            <a:ext cx="5979600" cy="972720"/>
            <a:chOff x="710280" y="4645080"/>
            <a:chExt cx="5979600" cy="972720"/>
          </a:xfrm>
        </p:grpSpPr>
        <p:sp>
          <p:nvSpPr>
            <p:cNvPr id="659" name=""/>
            <p:cNvSpPr/>
            <p:nvPr/>
          </p:nvSpPr>
          <p:spPr>
            <a:xfrm>
              <a:off x="710280" y="46450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onsti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85880" y="503712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th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59000" y="503712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ex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03520" y="503712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hrow 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BF0E-94E1-45F8-84F3-A511B6E252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9560" y="11811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5840" y="1565280"/>
            <a:ext cx="76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functionality of the Z# keyword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provided by separate methods of th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program class. These use the clas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stem.Conso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r In-/Outp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34400" y="3152880"/>
            <a:ext cx="7061040" cy="1718640"/>
            <a:chOff x="734400" y="3152880"/>
            <a:chExt cx="7061040" cy="1718640"/>
          </a:xfrm>
        </p:grpSpPr>
        <p:sp>
          <p:nvSpPr>
            <p:cNvPr id="667" name=""/>
            <p:cNvSpPr/>
            <p:nvPr/>
          </p:nvSpPr>
          <p:spPr>
            <a:xfrm>
              <a:off x="734400" y="3152880"/>
              <a:ext cx="57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se methods are added to the main program class by the compil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65760" y="3498840"/>
              <a:ext cx="6529680" cy="1372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nal static void CreateMetadata (Symbol sym) { 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itch (sym.kind) { 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Progra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uildReadChar(); BuildReadInt(); BuildWriteChar(); BuildWriteInt(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1245240" y="2149560"/>
            <a:ext cx="226116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char read 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int readi 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write (char, 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write (int, 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730800" y="4861080"/>
            <a:ext cx="7043040" cy="653040"/>
            <a:chOff x="730800" y="4861080"/>
            <a:chExt cx="7043040" cy="653040"/>
          </a:xfrm>
        </p:grpSpPr>
        <p:sp>
          <p:nvSpPr>
            <p:cNvPr id="671" name=""/>
            <p:cNvSpPr/>
            <p:nvPr/>
          </p:nvSpPr>
          <p:spPr>
            <a:xfrm>
              <a:off x="1284120" y="5207040"/>
              <a:ext cx="64897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ernal static MethodBuilde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adCha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ad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writeCha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write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0800" y="4861080"/>
              <a:ext cx="45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are then accessible via static fields of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34760" y="5568840"/>
            <a:ext cx="7040880" cy="653400"/>
            <a:chOff x="734760" y="5568840"/>
            <a:chExt cx="7040880" cy="653400"/>
          </a:xfrm>
        </p:grpSpPr>
        <p:sp>
          <p:nvSpPr>
            <p:cNvPr id="674" name=""/>
            <p:cNvSpPr/>
            <p:nvPr/>
          </p:nvSpPr>
          <p:spPr>
            <a:xfrm>
              <a:off x="1285920" y="5915160"/>
              <a:ext cx="64897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Call(Code.CALL, Code.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adCha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nul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4760" y="5568840"/>
              <a:ext cx="520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e parser we can generate a call to these methods like thi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F72D-A257-4EA6-A093-5D8BA7F20F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26760" y="1128600"/>
            <a:ext cx="2062800" cy="563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Main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, max,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 &gt; 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ax =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max =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a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 = sum + a *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06600" y="1128600"/>
            <a:ext cx="1582920" cy="563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Main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7 (=1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 2 (=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6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7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15 (=3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3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6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7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0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3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 -22 (=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5040" y="1822320"/>
            <a:ext cx="42926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5040" y="246384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5040" y="309888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5040" y="351792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5040" y="4152960"/>
            <a:ext cx="42926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5040" y="543564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5040" y="628956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5040" y="650556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59400" y="1116000"/>
            <a:ext cx="9838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x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m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03760" y="24573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041800" y="247320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414680" y="3174840"/>
            <a:ext cx="62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49760" y="309240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207040" y="30956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414320" y="36068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75040" y="414972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041800" y="41529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363560" y="66135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98880" y="65088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3086280" y="3644640"/>
            <a:ext cx="9360" cy="28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86280" y="3645000"/>
            <a:ext cx="31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572D-6D17-49A8-83DD-5E751B7265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143000" y="338292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A99-A109-4267-B3C5-9C14057AF1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erands During Code Gene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96960" y="12826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54800" y="1687680"/>
            <a:ext cx="23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want to add two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65160" y="19922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98680" y="2374920"/>
            <a:ext cx="431640" cy="279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70000" y="2374920"/>
            <a:ext cx="432000" cy="279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1790640" y="22226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70000" y="22226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86160" y="2347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45240" y="2347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9760" y="168768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sired code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61800" y="2055960"/>
            <a:ext cx="142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ad opera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ad operan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36840" y="3884760"/>
            <a:ext cx="37634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 argu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arg.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s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bject fie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field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ray el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ed value on the 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694440" y="3048120"/>
            <a:ext cx="7628400" cy="818280"/>
            <a:chOff x="694440" y="3048120"/>
            <a:chExt cx="7628400" cy="818280"/>
          </a:xfrm>
        </p:grpSpPr>
        <p:sp>
          <p:nvSpPr>
            <p:cNvPr id="717" name=""/>
            <p:cNvSpPr/>
            <p:nvPr/>
          </p:nvSpPr>
          <p:spPr>
            <a:xfrm>
              <a:off x="694440" y="3048120"/>
              <a:ext cx="76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pending on the operand kind we must generate different load instru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4760" y="352908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operand ki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91560" y="3529080"/>
              <a:ext cx="237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struction to be gener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734040" y="6095880"/>
            <a:ext cx="694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need a descriptor, which gives us all the necessary information about opera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7C6-23B2-49A7-BBE0-3324BBA9EB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2200" y="1333440"/>
            <a:ext cx="58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ors holding the kind and the location of opera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174680" y="4849920"/>
            <a:ext cx="4619520" cy="1449360"/>
            <a:chOff x="1174680" y="4849920"/>
            <a:chExt cx="4619520" cy="1449360"/>
          </a:xfrm>
        </p:grpSpPr>
        <p:sp>
          <p:nvSpPr>
            <p:cNvPr id="724" name=""/>
            <p:cNvSpPr/>
            <p:nvPr/>
          </p:nvSpPr>
          <p:spPr>
            <a:xfrm>
              <a:off x="1174680" y="4849920"/>
              <a:ext cx="42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fter loading the value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loc.2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 is o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19240" y="5511960"/>
              <a:ext cx="647640" cy="20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09400" y="5519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19240" y="5511960"/>
              <a:ext cx="647640" cy="66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41400" y="57150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559160" y="560880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17880" y="530388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375000" y="5684760"/>
              <a:ext cx="281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46520" y="5638680"/>
              <a:ext cx="520560" cy="660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5684760"/>
              <a:ext cx="399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062160" y="5230800"/>
              <a:ext cx="273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scribed by the following 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84360" y="2057400"/>
            <a:ext cx="5109840" cy="2159280"/>
            <a:chOff x="684360" y="2057400"/>
            <a:chExt cx="5109840" cy="2159280"/>
          </a:xfrm>
        </p:grpSpPr>
        <p:sp>
          <p:nvSpPr>
            <p:cNvPr id="736" name=""/>
            <p:cNvSpPr/>
            <p:nvPr/>
          </p:nvSpPr>
          <p:spPr>
            <a:xfrm>
              <a:off x="684360" y="20574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177560" y="2550960"/>
              <a:ext cx="404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 variab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locals area of a method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75000" y="3411360"/>
              <a:ext cx="281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46520" y="3365640"/>
              <a:ext cx="520560" cy="660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3411360"/>
              <a:ext cx="399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2160" y="2982960"/>
              <a:ext cx="273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scribed by the following 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06640" y="3390840"/>
              <a:ext cx="647640" cy="20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06640" y="3594240"/>
              <a:ext cx="647640" cy="20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06640" y="3797280"/>
              <a:ext cx="647640" cy="20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96800" y="3805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06640" y="4000680"/>
              <a:ext cx="647640" cy="20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06640" y="33940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54280" y="338472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360" y="31701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77320" y="339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77320" y="361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77320" y="3830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77320" y="4033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03C-1F2E-4DC7-B63C-57D0923318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Processing of 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91200" y="1206360"/>
            <a:ext cx="66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ost parsing methods return item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as a result of their translation 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16040" y="1649520"/>
            <a:ext cx="31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: translating the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05720" y="1662120"/>
            <a:ext cx="1179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y + z * 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126040" y="639288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78080" y="6380280"/>
            <a:ext cx="4503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on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91080" y="494496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90880" y="357336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5303880" y="5884920"/>
            <a:ext cx="550800" cy="452160"/>
            <a:chOff x="5303880" y="5884920"/>
            <a:chExt cx="550800" cy="452160"/>
          </a:xfrm>
        </p:grpSpPr>
        <p:sp>
          <p:nvSpPr>
            <p:cNvPr id="763" name=""/>
            <p:cNvSpPr/>
            <p:nvPr/>
          </p:nvSpPr>
          <p:spPr>
            <a:xfrm>
              <a:off x="5303880" y="588492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5435640" y="6070320"/>
              <a:ext cx="507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040040" y="4689360"/>
            <a:ext cx="4825800" cy="1164960"/>
            <a:chOff x="1040040" y="4689360"/>
            <a:chExt cx="4825800" cy="1164960"/>
          </a:xfrm>
        </p:grpSpPr>
        <p:sp>
          <p:nvSpPr>
            <p:cNvPr id="766" name=""/>
            <p:cNvSpPr/>
            <p:nvPr/>
          </p:nvSpPr>
          <p:spPr>
            <a:xfrm>
              <a:off x="5078880" y="5286240"/>
              <a:ext cx="27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51400" y="538956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40040" y="4689360"/>
              <a:ext cx="27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17600" y="472284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dloc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5283360" y="5587560"/>
              <a:ext cx="24120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981120" y="5910120"/>
            <a:ext cx="450360" cy="426960"/>
            <a:chOff x="6981120" y="5910120"/>
            <a:chExt cx="450360" cy="426960"/>
          </a:xfrm>
        </p:grpSpPr>
        <p:sp>
          <p:nvSpPr>
            <p:cNvPr id="772" name=""/>
            <p:cNvSpPr/>
            <p:nvPr/>
          </p:nvSpPr>
          <p:spPr>
            <a:xfrm>
              <a:off x="6981120" y="5910120"/>
              <a:ext cx="450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on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061040" y="6133680"/>
              <a:ext cx="101880" cy="2034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036440" y="4968720"/>
            <a:ext cx="6505920" cy="873000"/>
            <a:chOff x="1036440" y="4968720"/>
            <a:chExt cx="6505920" cy="873000"/>
          </a:xfrm>
        </p:grpSpPr>
        <p:sp>
          <p:nvSpPr>
            <p:cNvPr id="775" name=""/>
            <p:cNvSpPr/>
            <p:nvPr/>
          </p:nvSpPr>
          <p:spPr>
            <a:xfrm>
              <a:off x="6751440" y="5299200"/>
              <a:ext cx="27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27920" y="538956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36440" y="4968720"/>
              <a:ext cx="27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16880" y="49896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dc.i4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6959160" y="5613120"/>
              <a:ext cx="26676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037160" y="4753080"/>
            <a:ext cx="6226920" cy="848520"/>
            <a:chOff x="1037160" y="4753080"/>
            <a:chExt cx="6226920" cy="848520"/>
          </a:xfrm>
        </p:grpSpPr>
        <p:sp>
          <p:nvSpPr>
            <p:cNvPr id="781" name=""/>
            <p:cNvSpPr/>
            <p:nvPr/>
          </p:nvSpPr>
          <p:spPr>
            <a:xfrm>
              <a:off x="6418080" y="483084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37160" y="52354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19040" y="525636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55280" y="47530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664240" y="5016600"/>
              <a:ext cx="571320" cy="342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 flipV="1">
              <a:off x="6362280" y="5041800"/>
              <a:ext cx="901800" cy="3175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379920" y="4437000"/>
            <a:ext cx="514440" cy="363600"/>
            <a:chOff x="6379920" y="4437000"/>
            <a:chExt cx="514440" cy="363600"/>
          </a:xfrm>
        </p:grpSpPr>
        <p:sp>
          <p:nvSpPr>
            <p:cNvPr id="788" name=""/>
            <p:cNvSpPr/>
            <p:nvPr/>
          </p:nvSpPr>
          <p:spPr>
            <a:xfrm>
              <a:off x="6379920" y="44370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629400" y="4622760"/>
              <a:ext cx="0" cy="177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843360" y="4437000"/>
            <a:ext cx="550800" cy="414000"/>
            <a:chOff x="3843360" y="4437000"/>
            <a:chExt cx="550800" cy="414000"/>
          </a:xfrm>
        </p:grpSpPr>
        <p:sp>
          <p:nvSpPr>
            <p:cNvPr id="791" name=""/>
            <p:cNvSpPr/>
            <p:nvPr/>
          </p:nvSpPr>
          <p:spPr>
            <a:xfrm>
              <a:off x="3843360" y="443700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962520" y="4622400"/>
              <a:ext cx="8892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039320" y="3863880"/>
            <a:ext cx="3391200" cy="912240"/>
            <a:chOff x="1039320" y="3863880"/>
            <a:chExt cx="3391200" cy="912240"/>
          </a:xfrm>
        </p:grpSpPr>
        <p:sp>
          <p:nvSpPr>
            <p:cNvPr id="794" name=""/>
            <p:cNvSpPr/>
            <p:nvPr/>
          </p:nvSpPr>
          <p:spPr>
            <a:xfrm>
              <a:off x="3642840" y="386388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16080" y="39672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39320" y="441000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7600" y="444348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dloc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3860640" y="4190760"/>
              <a:ext cx="21600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040760" y="3368520"/>
            <a:ext cx="5575680" cy="2499840"/>
            <a:chOff x="1040760" y="3368520"/>
            <a:chExt cx="5575680" cy="2499840"/>
          </a:xfrm>
        </p:grpSpPr>
        <p:sp>
          <p:nvSpPr>
            <p:cNvPr id="800" name=""/>
            <p:cNvSpPr/>
            <p:nvPr/>
          </p:nvSpPr>
          <p:spPr>
            <a:xfrm>
              <a:off x="5054040" y="3368520"/>
              <a:ext cx="26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25840" y="345924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40760" y="5502240"/>
              <a:ext cx="26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8320" y="55357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292640" y="3682800"/>
              <a:ext cx="812880" cy="215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257440" y="3683160"/>
              <a:ext cx="1359000" cy="723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262480" y="3052800"/>
            <a:ext cx="514440" cy="414000"/>
            <a:chOff x="5262480" y="3052800"/>
            <a:chExt cx="514440" cy="414000"/>
          </a:xfrm>
        </p:grpSpPr>
        <p:sp>
          <p:nvSpPr>
            <p:cNvPr id="807" name=""/>
            <p:cNvSpPr/>
            <p:nvPr/>
          </p:nvSpPr>
          <p:spPr>
            <a:xfrm>
              <a:off x="5262480" y="30528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587920" y="3238200"/>
              <a:ext cx="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438280" y="3065400"/>
            <a:ext cx="647640" cy="452520"/>
            <a:chOff x="2438280" y="3065400"/>
            <a:chExt cx="647640" cy="452520"/>
          </a:xfrm>
        </p:grpSpPr>
        <p:sp>
          <p:nvSpPr>
            <p:cNvPr id="810" name=""/>
            <p:cNvSpPr/>
            <p:nvPr/>
          </p:nvSpPr>
          <p:spPr>
            <a:xfrm>
              <a:off x="2535120" y="306540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438280" y="3263760"/>
              <a:ext cx="279360" cy="254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037880" y="2517840"/>
            <a:ext cx="4549680" cy="3617280"/>
            <a:chOff x="1037880" y="2517840"/>
            <a:chExt cx="4549680" cy="3617280"/>
          </a:xfrm>
        </p:grpSpPr>
        <p:sp>
          <p:nvSpPr>
            <p:cNvPr id="813" name=""/>
            <p:cNvSpPr/>
            <p:nvPr/>
          </p:nvSpPr>
          <p:spPr>
            <a:xfrm>
              <a:off x="3616200" y="2517840"/>
              <a:ext cx="27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37880" y="5769000"/>
              <a:ext cx="27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16880" y="58024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t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971800" y="2793600"/>
              <a:ext cx="67320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flipV="1">
              <a:off x="3885840" y="2781360"/>
              <a:ext cx="1701720" cy="241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532880" y="1631880"/>
            <a:ext cx="5690160" cy="4879080"/>
            <a:chOff x="1532880" y="1631880"/>
            <a:chExt cx="5690160" cy="4879080"/>
          </a:xfrm>
        </p:grpSpPr>
        <p:sp>
          <p:nvSpPr>
            <p:cNvPr id="819" name=""/>
            <p:cNvSpPr/>
            <p:nvPr/>
          </p:nvSpPr>
          <p:spPr>
            <a:xfrm>
              <a:off x="4708440" y="57769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72360" y="57769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88880" y="629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39840" y="629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5016600" y="599436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6680160" y="599436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68520" y="5776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016600" y="52070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095880" y="4597200"/>
              <a:ext cx="0" cy="11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680160" y="52070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5207040"/>
              <a:ext cx="165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65120" y="43290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50520" y="43290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553920" y="484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3581280" y="454644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25520" y="43164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581280" y="37846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965840" y="3187800"/>
              <a:ext cx="0" cy="11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6095880" y="37846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580920" y="37846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47320" y="2944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532880" y="2932200"/>
              <a:ext cx="93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53720" y="3478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1981080" y="317484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53920" y="29322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1968480" y="285768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581280" y="25524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965840" y="285768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1968480" y="2857680"/>
              <a:ext cx="29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45680" y="232236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92760" y="2247840"/>
              <a:ext cx="48276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692760" y="1892160"/>
              <a:ext cx="48276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94000" y="1887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92760" y="2070000"/>
              <a:ext cx="48276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94000" y="206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9400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92760" y="1892160"/>
              <a:ext cx="0" cy="53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75520" y="1892160"/>
              <a:ext cx="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52080" y="163188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04A-D19F-4711-A823-CC25AB7EEF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tem Kin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96600" y="106200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perand ki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349360" y="106200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tem k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42840" y="106200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fo about oper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96960" y="1405080"/>
            <a:ext cx="16034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347920" y="1405080"/>
            <a:ext cx="12398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43200" y="1405080"/>
            <a:ext cx="23846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tant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696960" y="3043080"/>
            <a:ext cx="7748640" cy="580680"/>
            <a:chOff x="696960" y="3043080"/>
            <a:chExt cx="7748640" cy="580680"/>
          </a:xfrm>
        </p:grpSpPr>
        <p:sp>
          <p:nvSpPr>
            <p:cNvPr id="866" name=""/>
            <p:cNvSpPr/>
            <p:nvPr/>
          </p:nvSpPr>
          <p:spPr>
            <a:xfrm>
              <a:off x="6083280" y="3057480"/>
              <a:ext cx="2362320" cy="554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6960" y="3043080"/>
              <a:ext cx="15969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global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47920" y="3043080"/>
              <a:ext cx="12510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43200" y="3043080"/>
              <a:ext cx="238608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eld symol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616800" y="311472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16800" y="325440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16800" y="339408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10280" y="3114720"/>
              <a:ext cx="88920" cy="279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43480" y="3173400"/>
              <a:ext cx="18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AT" sz="1200" spc="-1" strike="noStrike" baseline="-25000">
                  <a:solidFill>
                    <a:srgbClr val="000000"/>
                  </a:solidFill>
                  <a:latin typeface="Arial"/>
                </a:rPr>
                <a:t>f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44480" y="305928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sta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96960" y="4548240"/>
            <a:ext cx="7748640" cy="826920"/>
            <a:chOff x="696960" y="4548240"/>
            <a:chExt cx="7748640" cy="826920"/>
          </a:xfrm>
        </p:grpSpPr>
        <p:sp>
          <p:nvSpPr>
            <p:cNvPr id="877" name=""/>
            <p:cNvSpPr/>
            <p:nvPr/>
          </p:nvSpPr>
          <p:spPr>
            <a:xfrm>
              <a:off x="6083280" y="4562640"/>
              <a:ext cx="2362320" cy="812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6960" y="4548240"/>
              <a:ext cx="159696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value on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47920" y="4548240"/>
              <a:ext cx="12510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43200" y="4548240"/>
              <a:ext cx="239724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16800" y="482904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16800" y="496872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16800" y="5108400"/>
              <a:ext cx="36828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62800" y="46213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64160" y="5108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07120" y="502452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96960" y="3672000"/>
            <a:ext cx="7748640" cy="826920"/>
            <a:chOff x="696960" y="3672000"/>
            <a:chExt cx="7748640" cy="826920"/>
          </a:xfrm>
        </p:grpSpPr>
        <p:sp>
          <p:nvSpPr>
            <p:cNvPr id="888" name=""/>
            <p:cNvSpPr/>
            <p:nvPr/>
          </p:nvSpPr>
          <p:spPr>
            <a:xfrm>
              <a:off x="6083280" y="3686040"/>
              <a:ext cx="2362320" cy="812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6960" y="3672000"/>
              <a:ext cx="159696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object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47920" y="3672000"/>
              <a:ext cx="12510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43200" y="3672000"/>
              <a:ext cx="238608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eld symbol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16800" y="395280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6800" y="4092480"/>
              <a:ext cx="368280" cy="13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16800" y="423216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562800" y="374508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64160" y="42321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07120" y="414828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90240" y="40752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15200" y="399096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15200" y="413064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15200" y="427032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709040" y="3990960"/>
              <a:ext cx="88920" cy="279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41880" y="4049640"/>
              <a:ext cx="18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AT" sz="1200" spc="-1" strike="noStrike" baseline="-25000">
                  <a:solidFill>
                    <a:srgbClr val="000000"/>
                  </a:solidFill>
                  <a:latin typeface="Arial"/>
                </a:rPr>
                <a:t>f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959520" y="4003200"/>
              <a:ext cx="3556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96960" y="5418000"/>
            <a:ext cx="7748640" cy="833400"/>
            <a:chOff x="696960" y="5418000"/>
            <a:chExt cx="7748640" cy="833400"/>
          </a:xfrm>
        </p:grpSpPr>
        <p:sp>
          <p:nvSpPr>
            <p:cNvPr id="906" name=""/>
            <p:cNvSpPr/>
            <p:nvPr/>
          </p:nvSpPr>
          <p:spPr>
            <a:xfrm>
              <a:off x="6083280" y="5438880"/>
              <a:ext cx="2362320" cy="812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6960" y="5424480"/>
              <a:ext cx="159696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array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47920" y="5424480"/>
              <a:ext cx="12510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43200" y="5424480"/>
              <a:ext cx="23958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616800" y="561672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16800" y="5756400"/>
              <a:ext cx="368280" cy="13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16800" y="5896080"/>
              <a:ext cx="368280" cy="13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72520" y="5418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64160" y="6035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07120" y="595152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90240" y="57387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15200" y="575640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15200" y="589284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09040" y="5613480"/>
              <a:ext cx="88920" cy="279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33240" y="56437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6959520" y="5629320"/>
              <a:ext cx="35568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16800" y="603576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90240" y="5878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15200" y="561672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6083280" y="1406520"/>
            <a:ext cx="236232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696960" y="6313320"/>
            <a:ext cx="7748640" cy="337320"/>
            <a:chOff x="696960" y="6313320"/>
            <a:chExt cx="7748640" cy="337320"/>
          </a:xfrm>
        </p:grpSpPr>
        <p:sp>
          <p:nvSpPr>
            <p:cNvPr id="927" name=""/>
            <p:cNvSpPr/>
            <p:nvPr/>
          </p:nvSpPr>
          <p:spPr>
            <a:xfrm>
              <a:off x="696960" y="6313320"/>
              <a:ext cx="160344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47920" y="6313320"/>
              <a:ext cx="123984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Me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43200" y="6313320"/>
              <a:ext cx="239724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ethod symbol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83280" y="6314760"/>
              <a:ext cx="2362320" cy="330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93720" y="1792440"/>
            <a:ext cx="7748640" cy="580680"/>
            <a:chOff x="693720" y="1792440"/>
            <a:chExt cx="7748640" cy="580680"/>
          </a:xfrm>
        </p:grpSpPr>
        <p:sp>
          <p:nvSpPr>
            <p:cNvPr id="932" name=""/>
            <p:cNvSpPr/>
            <p:nvPr/>
          </p:nvSpPr>
          <p:spPr>
            <a:xfrm>
              <a:off x="6080040" y="1806480"/>
              <a:ext cx="2362320" cy="555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3720" y="1792440"/>
              <a:ext cx="15969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arg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44680" y="1792440"/>
              <a:ext cx="12510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A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39960" y="1792440"/>
              <a:ext cx="238464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13560" y="187020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13560" y="200988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3560" y="214956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3560" y="187020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81840" y="187020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07400" y="1870200"/>
              <a:ext cx="88560" cy="279360"/>
            </a:xfrm>
            <a:custGeom>
              <a:avLst/>
              <a:gdLst>
                <a:gd name="textAreaLeft" fmla="*/ 0 w 88560"/>
                <a:gd name="textAreaRight" fmla="*/ 32040 w 8856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31240" y="19288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70840" y="182088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700200" y="2417760"/>
            <a:ext cx="7748640" cy="580680"/>
            <a:chOff x="700200" y="2417760"/>
            <a:chExt cx="7748640" cy="580680"/>
          </a:xfrm>
        </p:grpSpPr>
        <p:sp>
          <p:nvSpPr>
            <p:cNvPr id="945" name=""/>
            <p:cNvSpPr/>
            <p:nvPr/>
          </p:nvSpPr>
          <p:spPr>
            <a:xfrm>
              <a:off x="6086520" y="2432160"/>
              <a:ext cx="2362320" cy="55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0200" y="2417760"/>
              <a:ext cx="15969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local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51160" y="2417760"/>
              <a:ext cx="12510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46440" y="2417760"/>
              <a:ext cx="238284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20040" y="248616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20040" y="262584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20040" y="276552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20040" y="248616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988320" y="248616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3520" y="2486160"/>
              <a:ext cx="88920" cy="279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37720" y="25448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181560" y="244620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BE3-B0FD-4F91-A16A-D6106F35F7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29210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BF4-2DFC-4F60-9412-BDA09C8FCB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How Do we Find the Necessary Item Kinds?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48080" y="121932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dressing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16120" y="1852560"/>
            <a:ext cx="1285560" cy="17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m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de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253040" y="12193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bject ki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259520" y="1852560"/>
            <a:ext cx="1285560" cy="17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1320" y="1496880"/>
            <a:ext cx="28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pending on the target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54120" y="149688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pending on the source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2019240" y="3281400"/>
            <a:ext cx="5853240" cy="3357000"/>
            <a:chOff x="2019240" y="3281400"/>
            <a:chExt cx="5853240" cy="3357000"/>
          </a:xfrm>
        </p:grpSpPr>
        <p:sp>
          <p:nvSpPr>
            <p:cNvPr id="965" name=""/>
            <p:cNvSpPr/>
            <p:nvPr/>
          </p:nvSpPr>
          <p:spPr>
            <a:xfrm>
              <a:off x="3064680" y="32814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3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58960" y="4275000"/>
              <a:ext cx="12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em ki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33760" y="4597560"/>
              <a:ext cx="1285560" cy="204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e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019240" y="3554280"/>
              <a:ext cx="960480" cy="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3492360" y="3571920"/>
              <a:ext cx="858960" cy="46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3240" y="3762360"/>
              <a:ext cx="12600" cy="3938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97480" y="5116680"/>
              <a:ext cx="3375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do not nee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tems in Z#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cause types do not occur as oper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no type cast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76C-B645-4B5F-93B7-C828162FD4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Ite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18360" y="1020600"/>
            <a:ext cx="5778720" cy="1910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um Kinds {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l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ype of the oper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onst: consta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Arg, Local: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Field, Meth: Symbol node from symbol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645120" y="2949480"/>
            <a:ext cx="7834320" cy="3005280"/>
            <a:chOff x="645120" y="2949480"/>
            <a:chExt cx="7834320" cy="3005280"/>
          </a:xfrm>
        </p:grpSpPr>
        <p:sp>
          <p:nvSpPr>
            <p:cNvPr id="975" name=""/>
            <p:cNvSpPr/>
            <p:nvPr/>
          </p:nvSpPr>
          <p:spPr>
            <a:xfrm>
              <a:off x="645120" y="2949480"/>
              <a:ext cx="32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structors for creating I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38160" y="3303360"/>
              <a:ext cx="5724720" cy="265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ymbol sym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= sym.type; val = sym.val; adr = sym.adr; this.sym = sym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sym.kind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Const: kind = Kinds.Const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Arg: kind = Kinds.Arg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Local: kind = Kinds.Local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Global: kind = Kinds.Static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Field: kind = Kinds.Field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Meth: kind = Kinds.Meth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fault: Parser.Error("cannot create Item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667920" y="3366720"/>
              <a:ext cx="181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reate an Item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symbol table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938160" y="5996160"/>
            <a:ext cx="7565400" cy="744480"/>
            <a:chOff x="938160" y="5996160"/>
            <a:chExt cx="7565400" cy="744480"/>
          </a:xfrm>
        </p:grpSpPr>
        <p:sp>
          <p:nvSpPr>
            <p:cNvPr id="979" name=""/>
            <p:cNvSpPr/>
            <p:nvPr/>
          </p:nvSpPr>
          <p:spPr>
            <a:xfrm>
              <a:off x="938160" y="6007320"/>
              <a:ext cx="57135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int val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 = Kinds.Const; type = Tab.intType; this.val = val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653880" y="5996160"/>
              <a:ext cx="184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reates an Item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184-8E2D-4D3B-99DC-42C04A1A87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ading Values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0720" y="1128600"/>
            <a:ext cx="571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value described by an item (Const, Arg, Local, Static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want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the value onto the expressi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70680" y="2233440"/>
            <a:ext cx="227916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as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pending on the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kind we have to gen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fferent load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90200" y="1793880"/>
            <a:ext cx="4664520" cy="470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tem x) { // m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ethod of cla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x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Kinds.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 == Tab.nullType) il.Emit(LDNUL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LoadConst(x.va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Kinds.Ar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x.ad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0: il.Emit(LDARG0); break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 il.Emit(LDARG, x.adr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Kinds.Loc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x.adr) {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0: il.Emit(LDLOC0); break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 il.Emit(LDLOC, x.adr); break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9B3-0808-4425-89BD-46DAB60FFD3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ading Values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84080" y="1184400"/>
            <a:ext cx="6013440" cy="3749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ublic static void Load (Item x) {  //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Stat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sym.fld != null) il.Emit(LDSFLD, x.sym.fld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St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break; // nothing to do (already loa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ssert: object base address is on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sym.fld != null) il.Emit(LDFLD, x.sym.fld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El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ssert: array base address and index are on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 == Tab.charType) il.Emit(LDELEMCH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x.type == Tab.intType) il.Emit(LDELEM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x.type.kind == Struct.Kinds.Class) il.Emit(LDELEMRE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Parser.Error("invalid array element typ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 Error("cannot load this valu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kind = Item.Kinds.Stac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17560" y="5000760"/>
            <a:ext cx="5958000" cy="1626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ad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n) { 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// method of cla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-1: il.Emit(LDCM1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0: il.Emit(LDC0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 il.Emit(LDC, n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14080" y="4206960"/>
            <a:ext cx="210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ulting item is al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2447-3CAA-4156-885B-0F8A73DD01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 Consta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08000" y="1719360"/>
            <a:ext cx="547056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token.val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96240" y="123192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697320" y="3035160"/>
            <a:ext cx="1450080" cy="1296360"/>
            <a:chOff x="697320" y="3035160"/>
            <a:chExt cx="1450080" cy="1296360"/>
          </a:xfrm>
        </p:grpSpPr>
        <p:sp>
          <p:nvSpPr>
            <p:cNvPr id="993" name=""/>
            <p:cNvSpPr/>
            <p:nvPr/>
          </p:nvSpPr>
          <p:spPr>
            <a:xfrm>
              <a:off x="697320" y="303516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Visual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75600" y="351648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63360" y="4024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1726560" y="3516480"/>
            <a:ext cx="2084040" cy="1304640"/>
            <a:chOff x="1726560" y="3516480"/>
            <a:chExt cx="2084040" cy="1304640"/>
          </a:xfrm>
        </p:grpSpPr>
        <p:sp>
          <p:nvSpPr>
            <p:cNvPr id="997" name=""/>
            <p:cNvSpPr/>
            <p:nvPr/>
          </p:nvSpPr>
          <p:spPr>
            <a:xfrm>
              <a:off x="1965960" y="4087800"/>
              <a:ext cx="50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43680" y="4087800"/>
              <a:ext cx="646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726560" y="3516480"/>
              <a:ext cx="20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new Item(token.va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655360" y="3824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5816520" y="4317840"/>
            <a:ext cx="571680" cy="19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16520" y="4127400"/>
            <a:ext cx="5716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816520" y="4508640"/>
            <a:ext cx="57168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613480" y="449892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55280" y="43578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004080" y="43070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788440" y="38685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3855240" y="3516480"/>
            <a:ext cx="1311480" cy="2077200"/>
            <a:chOff x="3855240" y="3516480"/>
            <a:chExt cx="1311480" cy="2077200"/>
          </a:xfrm>
        </p:grpSpPr>
        <p:sp>
          <p:nvSpPr>
            <p:cNvPr id="1009" name=""/>
            <p:cNvSpPr/>
            <p:nvPr/>
          </p:nvSpPr>
          <p:spPr>
            <a:xfrm>
              <a:off x="4161960" y="4087800"/>
              <a:ext cx="628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855240" y="35164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54200" y="3833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24440" y="496404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37760" y="52563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c.i4 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607-38ED-454A-9C8E-959DB78B216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n Argu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01520" y="1719360"/>
            <a:ext cx="793800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token.str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sym.kind = Const | Arg | Local |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sym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Const | Arg | Local | 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1859040" y="3605040"/>
            <a:ext cx="2271600" cy="1518120"/>
            <a:chOff x="1859040" y="3605040"/>
            <a:chExt cx="2271600" cy="1518120"/>
          </a:xfrm>
        </p:grpSpPr>
        <p:sp>
          <p:nvSpPr>
            <p:cNvPr id="1017" name=""/>
            <p:cNvSpPr/>
            <p:nvPr/>
          </p:nvSpPr>
          <p:spPr>
            <a:xfrm>
              <a:off x="2343960" y="4176720"/>
              <a:ext cx="625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78280" y="4176720"/>
              <a:ext cx="596880" cy="946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abc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859040" y="3605040"/>
              <a:ext cx="22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m = Tab.Find(token.str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13920" y="389412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4255920" y="3605040"/>
            <a:ext cx="1695600" cy="1305000"/>
            <a:chOff x="4255920" y="3605040"/>
            <a:chExt cx="1695600" cy="1305000"/>
          </a:xfrm>
        </p:grpSpPr>
        <p:sp>
          <p:nvSpPr>
            <p:cNvPr id="1022" name=""/>
            <p:cNvSpPr/>
            <p:nvPr/>
          </p:nvSpPr>
          <p:spPr>
            <a:xfrm>
              <a:off x="4350600" y="4176720"/>
              <a:ext cx="50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71600" y="4176720"/>
              <a:ext cx="457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55920" y="3605040"/>
              <a:ext cx="169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new Item(sy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59080" y="3894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7385400" y="3948120"/>
            <a:ext cx="1156320" cy="1098720"/>
            <a:chOff x="7385400" y="3948120"/>
            <a:chExt cx="1156320" cy="1098720"/>
          </a:xfrm>
        </p:grpSpPr>
        <p:sp>
          <p:nvSpPr>
            <p:cNvPr id="1027" name=""/>
            <p:cNvSpPr/>
            <p:nvPr/>
          </p:nvSpPr>
          <p:spPr>
            <a:xfrm>
              <a:off x="7947000" y="4406760"/>
              <a:ext cx="571680" cy="190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47000" y="421632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947000" y="4597560"/>
              <a:ext cx="5716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743960" y="45975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385400" y="44560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096400" y="439596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18920" y="39481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696240" y="11685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97320" y="3238560"/>
            <a:ext cx="1450080" cy="1765440"/>
            <a:chOff x="697320" y="3238560"/>
            <a:chExt cx="1450080" cy="1765440"/>
          </a:xfrm>
        </p:grpSpPr>
        <p:sp>
          <p:nvSpPr>
            <p:cNvPr id="1036" name=""/>
            <p:cNvSpPr/>
            <p:nvPr/>
          </p:nvSpPr>
          <p:spPr>
            <a:xfrm>
              <a:off x="1089000" y="421632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089000" y="4406760"/>
              <a:ext cx="571680" cy="19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89000" y="4597560"/>
              <a:ext cx="571680" cy="19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89000" y="478800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96320" y="4237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96320" y="442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9632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96320" y="482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247760" y="458640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27880" y="39574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7320" y="323856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Visual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112800" y="3605040"/>
            <a:ext cx="1311480" cy="2179080"/>
            <a:chOff x="6112800" y="3605040"/>
            <a:chExt cx="1311480" cy="2179080"/>
          </a:xfrm>
        </p:grpSpPr>
        <p:sp>
          <p:nvSpPr>
            <p:cNvPr id="1048" name=""/>
            <p:cNvSpPr/>
            <p:nvPr/>
          </p:nvSpPr>
          <p:spPr>
            <a:xfrm>
              <a:off x="6419520" y="4176720"/>
              <a:ext cx="628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12800" y="3605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2040" y="3903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300720" y="511668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5080" y="54468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arg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824D-D0B5-4438-A885-CAAEF17041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 Local Vari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6240" y="11685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01520" y="1719360"/>
            <a:ext cx="766980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token.str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sym.kind = Const | Arg | Local |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 = new Item(sym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Const | Arg | Local | 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343960" y="4176720"/>
            <a:ext cx="62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78280" y="4176720"/>
            <a:ext cx="60732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yz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859040" y="360504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 = Tab.Find(token.st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013920" y="389412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255920" y="3605040"/>
            <a:ext cx="1695600" cy="1305000"/>
            <a:chOff x="4255920" y="3605040"/>
            <a:chExt cx="1695600" cy="1305000"/>
          </a:xfrm>
        </p:grpSpPr>
        <p:sp>
          <p:nvSpPr>
            <p:cNvPr id="1061" name=""/>
            <p:cNvSpPr/>
            <p:nvPr/>
          </p:nvSpPr>
          <p:spPr>
            <a:xfrm>
              <a:off x="4350600" y="4176720"/>
              <a:ext cx="50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96000" y="4176720"/>
              <a:ext cx="6073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55920" y="3605040"/>
              <a:ext cx="169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new Item(sy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68440" y="3894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112800" y="3605040"/>
            <a:ext cx="1311480" cy="2179080"/>
            <a:chOff x="6112800" y="3605040"/>
            <a:chExt cx="1311480" cy="2179080"/>
          </a:xfrm>
        </p:grpSpPr>
        <p:sp>
          <p:nvSpPr>
            <p:cNvPr id="1066" name=""/>
            <p:cNvSpPr/>
            <p:nvPr/>
          </p:nvSpPr>
          <p:spPr>
            <a:xfrm>
              <a:off x="6419520" y="4176720"/>
              <a:ext cx="628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112800" y="3605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02040" y="3894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291360" y="511668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65160" y="54468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697320" y="3228840"/>
            <a:ext cx="1450080" cy="1765440"/>
            <a:chOff x="697320" y="3228840"/>
            <a:chExt cx="1450080" cy="1765440"/>
          </a:xfrm>
        </p:grpSpPr>
        <p:sp>
          <p:nvSpPr>
            <p:cNvPr id="1072" name=""/>
            <p:cNvSpPr/>
            <p:nvPr/>
          </p:nvSpPr>
          <p:spPr>
            <a:xfrm>
              <a:off x="1089000" y="420660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89000" y="458784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89000" y="4397040"/>
              <a:ext cx="571680" cy="190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89000" y="477828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696320" y="4227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696320" y="441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96320" y="460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96320" y="481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58560" y="437652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127520" y="394776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7320" y="322884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Visual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7385400" y="3948120"/>
            <a:ext cx="1156320" cy="1098720"/>
            <a:chOff x="7385400" y="3948120"/>
            <a:chExt cx="1156320" cy="1098720"/>
          </a:xfrm>
        </p:grpSpPr>
        <p:sp>
          <p:nvSpPr>
            <p:cNvPr id="1084" name=""/>
            <p:cNvSpPr/>
            <p:nvPr/>
          </p:nvSpPr>
          <p:spPr>
            <a:xfrm>
              <a:off x="7947000" y="4406760"/>
              <a:ext cx="571680" cy="190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47000" y="421632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47000" y="4597560"/>
              <a:ext cx="5716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3960" y="45975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385400" y="44560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096400" y="439596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918920" y="39481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626-60D3-49E6-A7BA-2B466A19FCE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63080" y="3678120"/>
            <a:ext cx="553212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nam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= token.st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 = new Item(Tab.Find(name)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." 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.kind == Struct.Kinds.Clas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sym = Tab.FindField(token.str, x.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type = x.sym.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Error(name + " is not an objec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kind = Item.Kinds.Fiel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ading Object Fiel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117440" y="1306440"/>
            <a:ext cx="5572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ar.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44120" y="1803240"/>
            <a:ext cx="56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text condition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make sure that your compiler checks th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04840" y="2603520"/>
            <a:ext cx="6997680" cy="647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104840" y="2197080"/>
            <a:ext cx="6997680" cy="406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2259000"/>
            <a:ext cx="28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= Designator "." ident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83240" y="2639880"/>
            <a:ext cx="35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Designator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a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a field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34400" y="330984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39840" y="4168800"/>
            <a:ext cx="189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oks up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ken.st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field list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.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5501880" y="4468680"/>
            <a:ext cx="1149480" cy="3398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710040" y="545004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flipV="1">
            <a:off x="5245200" y="5564160"/>
            <a:ext cx="1479600" cy="698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0F9-CD2E-4C82-9275-35D0E1EF551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n Object Field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457280" y="22208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82960" y="22208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65096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2895480" y="14220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80360" y="2220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407664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650960" y="152388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59160" y="116676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821520" y="1130400"/>
            <a:ext cx="6214320" cy="5411880"/>
            <a:chOff x="821520" y="1130400"/>
            <a:chExt cx="6214320" cy="5411880"/>
          </a:xfrm>
        </p:grpSpPr>
        <p:sp>
          <p:nvSpPr>
            <p:cNvPr id="1114" name=""/>
            <p:cNvSpPr/>
            <p:nvPr/>
          </p:nvSpPr>
          <p:spPr>
            <a:xfrm>
              <a:off x="4347720" y="227808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.sy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12600" y="119844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373920" y="113040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05240" y="604836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21520" y="548640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87560" y="5459400"/>
              <a:ext cx="31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reate from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.sy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ie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05720" y="59007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75160" y="5900760"/>
              <a:ext cx="51156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06800" y="6197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916280" y="5668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19280" y="60469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18040" y="607068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918040" y="6235560"/>
              <a:ext cx="3938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65760" y="623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07560" y="60976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642000" y="5905440"/>
              <a:ext cx="393840" cy="165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642000" y="607068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261120" y="5892480"/>
              <a:ext cx="38088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10120" y="599616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03920" y="585000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814000" y="580860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824040" y="1778040"/>
            <a:ext cx="7501320" cy="3443400"/>
            <a:chOff x="824040" y="1778040"/>
            <a:chExt cx="7501320" cy="3443400"/>
          </a:xfrm>
        </p:grpSpPr>
        <p:sp>
          <p:nvSpPr>
            <p:cNvPr id="1136" name=""/>
            <p:cNvSpPr/>
            <p:nvPr/>
          </p:nvSpPr>
          <p:spPr>
            <a:xfrm>
              <a:off x="2163600" y="184644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28880" y="177804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29280" y="492768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552760" y="4572000"/>
              <a:ext cx="622080" cy="5968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24040" y="414036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78920" y="4113360"/>
              <a:ext cx="13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.Load(x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305720" y="45543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75520" y="4554360"/>
              <a:ext cx="56340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63200" y="4579920"/>
              <a:ext cx="56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2235240" y="46224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935000" y="43131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499200" y="4567320"/>
              <a:ext cx="511560" cy="641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f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846520" y="506736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73600" y="50673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43320" y="4916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18040" y="4724280"/>
              <a:ext cx="393840" cy="165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18040" y="4889520"/>
              <a:ext cx="3938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65760" y="488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07560" y="473220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642000" y="455940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42000" y="4724280"/>
              <a:ext cx="3938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6261120" y="4546440"/>
              <a:ext cx="3808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10120" y="464976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703920" y="450360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14000" y="445284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453120" y="43228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.sy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516800" y="441792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74760" y="474804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823680" y="2209680"/>
            <a:ext cx="6212160" cy="1678320"/>
            <a:chOff x="823680" y="2209680"/>
            <a:chExt cx="6212160" cy="1678320"/>
          </a:xfrm>
        </p:grpSpPr>
        <p:sp>
          <p:nvSpPr>
            <p:cNvPr id="1165" name=""/>
            <p:cNvSpPr/>
            <p:nvPr/>
          </p:nvSpPr>
          <p:spPr>
            <a:xfrm>
              <a:off x="4229280" y="359424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52760" y="3238560"/>
              <a:ext cx="622080" cy="5968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66840" y="227808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928520" y="220968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23680" y="280656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087200" y="2779560"/>
              <a:ext cx="317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em x = new Item(Tab.Find(name)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305720" y="322092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74440" y="3220920"/>
              <a:ext cx="54648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63200" y="3246480"/>
              <a:ext cx="56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2235240" y="32889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925640" y="297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483360" y="3233880"/>
              <a:ext cx="511560" cy="641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f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44720" y="373392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73600" y="37339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43320" y="35924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18040" y="322596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18040" y="3390840"/>
              <a:ext cx="393840" cy="165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18040" y="355608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642000" y="322596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642000" y="3390840"/>
              <a:ext cx="3938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61120" y="3213000"/>
              <a:ext cx="3808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10120" y="33163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03920" y="317016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820120" y="291924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7B2-F728-4537-8B31-6E937F15E80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055160" y="3681360"/>
            <a:ext cx="7185960" cy="286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name; Item x,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= token.str; x = new Item(Tab.find(name)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[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.kind == Struct.Ar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y.type != Tab.intType) Error("index must be of type i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type = x.type.elem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Error(name + " is not an array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kind = Item.El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]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{ …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ading Array Ele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117800" y="1306440"/>
            <a:ext cx="4611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35120" y="173988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text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104840" y="2540160"/>
            <a:ext cx="6997680" cy="647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04840" y="2133720"/>
            <a:ext cx="6997680" cy="406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065600" y="2195640"/>
            <a:ext cx="30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= Designator "[" Expr "]"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083240" y="2576520"/>
            <a:ext cx="37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Designator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an arr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Expr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34400" y="32814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990720" y="64753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dex check is done in the C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422040" y="5808600"/>
            <a:ext cx="178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 a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4952520" y="5783040"/>
            <a:ext cx="1467000" cy="19980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EBC-1578-48C9-A2E2-BD79C22360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941440" y="1503360"/>
            <a:ext cx="24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grams (Z#, C#, C++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rchitecture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1840" y="138420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at is a virtual machine (VM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280" y="1789200"/>
            <a:ext cx="50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CPU implemented in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mands will be interpreted / JIT-comp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ther examples: Java-VM, Smalltalk-VM, Pascal P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4680" y="2254320"/>
            <a:ext cx="25830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60040" y="226548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Intel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54680" y="1873080"/>
            <a:ext cx="2583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73480" y="1897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54680" y="1492200"/>
            <a:ext cx="258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3280" y="2886120"/>
            <a:ext cx="6285240" cy="2055600"/>
            <a:chOff x="683280" y="2886120"/>
            <a:chExt cx="6285240" cy="2055600"/>
          </a:xfrm>
        </p:grpSpPr>
        <p:sp>
          <p:nvSpPr>
            <p:cNvPr id="109" name=""/>
            <p:cNvSpPr/>
            <p:nvPr/>
          </p:nvSpPr>
          <p:spPr>
            <a:xfrm>
              <a:off x="683280" y="2886120"/>
              <a:ext cx="293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CLR is a stack 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3760" y="3232080"/>
              <a:ext cx="561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tead it has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pression stack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onto which values are load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6520" y="4064040"/>
              <a:ext cx="97776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4216320"/>
              <a:ext cx="97776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6520" y="4368600"/>
              <a:ext cx="977760" cy="152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4521240"/>
              <a:ext cx="977760" cy="42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98680" y="45212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03400" y="43290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41040" y="3733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7720" y="4073400"/>
              <a:ext cx="3970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x. size is stored in metadata of each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sp ... expression stack poi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82560" y="5300640"/>
            <a:ext cx="7230960" cy="985320"/>
            <a:chOff x="682560" y="5300640"/>
            <a:chExt cx="7230960" cy="985320"/>
          </a:xfrm>
        </p:grpSpPr>
        <p:sp>
          <p:nvSpPr>
            <p:cNvPr id="120" name=""/>
            <p:cNvSpPr/>
            <p:nvPr/>
          </p:nvSpPr>
          <p:spPr>
            <a:xfrm>
              <a:off x="682560" y="5300640"/>
              <a:ext cx="42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CLR executes JIT-compiled 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1320" y="5705280"/>
              <a:ext cx="716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ach method is compiled right before the first execution (= just-in-tim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erands are addressed symbolically in IL (informationen is stored in the metada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9B1-6BE5-4299-8C9F-C13B86ADB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n Array El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457280" y="211932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83320" y="2119320"/>
            <a:ext cx="36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1650960" y="1587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71160" y="2119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1650600" y="1587600"/>
            <a:ext cx="360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980080" y="116676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23680" y="2108160"/>
            <a:ext cx="3443400" cy="1754280"/>
            <a:chOff x="823680" y="2108160"/>
            <a:chExt cx="3443400" cy="1754280"/>
          </a:xfrm>
        </p:grpSpPr>
        <p:sp>
          <p:nvSpPr>
            <p:cNvPr id="1209" name=""/>
            <p:cNvSpPr/>
            <p:nvPr/>
          </p:nvSpPr>
          <p:spPr>
            <a:xfrm>
              <a:off x="3492360" y="3403440"/>
              <a:ext cx="381240" cy="279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552760" y="3238560"/>
              <a:ext cx="622080" cy="406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66840" y="217656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28520" y="210816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23680" y="280656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87200" y="2779560"/>
              <a:ext cx="317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em x = new Item(Tab.Find(name)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305720" y="322092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774440" y="3220920"/>
              <a:ext cx="54648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564280" y="32464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2235240" y="32889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35000" y="297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035160" y="353052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477960" y="3411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3898440" y="1130400"/>
            <a:ext cx="4017960" cy="5411880"/>
            <a:chOff x="3898440" y="1130400"/>
            <a:chExt cx="4017960" cy="5411880"/>
          </a:xfrm>
        </p:grpSpPr>
        <p:sp>
          <p:nvSpPr>
            <p:cNvPr id="1223" name=""/>
            <p:cNvSpPr/>
            <p:nvPr/>
          </p:nvSpPr>
          <p:spPr>
            <a:xfrm>
              <a:off x="4133880" y="1198440"/>
              <a:ext cx="47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l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898440" y="113040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908760" y="605808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81120" y="548640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40320" y="5459400"/>
              <a:ext cx="24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zeuge au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e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61720" y="59007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31880" y="5900760"/>
              <a:ext cx="52812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l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91240" y="619776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262560" y="5659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94360" y="60660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5242680" y="2119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4263120" y="2108160"/>
            <a:ext cx="3115440" cy="1754280"/>
            <a:chOff x="4263120" y="2108160"/>
            <a:chExt cx="3115440" cy="1754280"/>
          </a:xfrm>
        </p:grpSpPr>
        <p:sp>
          <p:nvSpPr>
            <p:cNvPr id="1235" name=""/>
            <p:cNvSpPr/>
            <p:nvPr/>
          </p:nvSpPr>
          <p:spPr>
            <a:xfrm>
              <a:off x="4503600" y="217656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63120" y="210816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97680" y="3403440"/>
              <a:ext cx="380880" cy="279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177520" y="280656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436000" y="277956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 = Expr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61720" y="322092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30800" y="3220920"/>
              <a:ext cx="54648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72280" y="2970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29400" y="35305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983280" y="3411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 flipV="1">
            <a:off x="3543480" y="14097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3086280" y="1587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038480" y="1587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5270400" y="1587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4263840" y="1727280"/>
            <a:ext cx="4461480" cy="3468600"/>
            <a:chOff x="4263840" y="1727280"/>
            <a:chExt cx="4461480" cy="3468600"/>
          </a:xfrm>
        </p:grpSpPr>
        <p:sp>
          <p:nvSpPr>
            <p:cNvPr id="1250" name=""/>
            <p:cNvSpPr/>
            <p:nvPr/>
          </p:nvSpPr>
          <p:spPr>
            <a:xfrm>
              <a:off x="4500360" y="179532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63840" y="1727280"/>
              <a:ext cx="23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78240" y="4140360"/>
              <a:ext cx="23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34920" y="4113360"/>
              <a:ext cx="13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.Load(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661720" y="45543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131880" y="4554360"/>
              <a:ext cx="56340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91360" y="4294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74720" y="413856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997680" y="476244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629400" y="48895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983280" y="4770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089920" y="4660920"/>
              <a:ext cx="43164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089920" y="4813200"/>
              <a:ext cx="43164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089920" y="4965840"/>
              <a:ext cx="431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259120" y="462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291160" y="47991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074080" y="4437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824040" y="1727280"/>
            <a:ext cx="3932640" cy="3468600"/>
            <a:chOff x="824040" y="1727280"/>
            <a:chExt cx="3932640" cy="3468600"/>
          </a:xfrm>
        </p:grpSpPr>
        <p:sp>
          <p:nvSpPr>
            <p:cNvPr id="1268" name=""/>
            <p:cNvSpPr/>
            <p:nvPr/>
          </p:nvSpPr>
          <p:spPr>
            <a:xfrm>
              <a:off x="2163600" y="179532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28880" y="17272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24040" y="414036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078920" y="4113360"/>
              <a:ext cx="13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.Load(x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305720" y="45543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80200" y="4554360"/>
              <a:ext cx="56340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2235240" y="46224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4720" y="43131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92360" y="4737240"/>
              <a:ext cx="38124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52760" y="4572000"/>
              <a:ext cx="622080" cy="406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564280" y="45799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35160" y="48639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77960" y="47451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06080" y="413856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65560" y="4660920"/>
              <a:ext cx="43200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65560" y="4813200"/>
              <a:ext cx="43200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965840"/>
              <a:ext cx="4320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344120" y="462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49720" y="4446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>
            <a:off x="6451560" y="1994040"/>
            <a:ext cx="3556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451560" y="1841400"/>
            <a:ext cx="355680" cy="152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451560" y="1689120"/>
            <a:ext cx="355680" cy="152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76120" y="1805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602040" y="166536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43880" y="1930320"/>
            <a:ext cx="31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74000" y="1943280"/>
            <a:ext cx="279360" cy="8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74000" y="2031840"/>
            <a:ext cx="279360" cy="8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074000" y="2120760"/>
            <a:ext cx="279360" cy="8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074000" y="2209680"/>
            <a:ext cx="279360" cy="8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421320" y="146376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7B9-5AF7-4487-B422-D892218B435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1143000" y="381780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14F-FDD6-4087-BAAD-AAE4BAF9BAC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Express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58160" y="12193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  for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+ y +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43080" y="1503360"/>
            <a:ext cx="683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759600" y="2817720"/>
            <a:ext cx="7701840" cy="3929400"/>
            <a:chOff x="759600" y="2817720"/>
            <a:chExt cx="7701840" cy="3929400"/>
          </a:xfrm>
        </p:grpSpPr>
        <p:sp>
          <p:nvSpPr>
            <p:cNvPr id="1305" name=""/>
            <p:cNvSpPr/>
            <p:nvPr/>
          </p:nvSpPr>
          <p:spPr>
            <a:xfrm>
              <a:off x="759600" y="281772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25560" y="3243240"/>
              <a:ext cx="7535880" cy="3503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y; OpCode op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-" Term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type != Tab.intType) Error("operand must be of type int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kind == Item.Kinds.Const) x.val = -x.val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{ Code.Load(x); Code.il.Emit(Code.NEG); }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 "+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op = Code.ADD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"-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op = Code.SUB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x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y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type != Tab.intType || y.type != Tab.intTyp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("operands must be of type int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(op); 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4710240" y="1217520"/>
            <a:ext cx="3735360" cy="1708920"/>
            <a:chOff x="4710240" y="1217520"/>
            <a:chExt cx="3735360" cy="1708920"/>
          </a:xfrm>
        </p:grpSpPr>
        <p:sp>
          <p:nvSpPr>
            <p:cNvPr id="1308" name=""/>
            <p:cNvSpPr/>
            <p:nvPr/>
          </p:nvSpPr>
          <p:spPr>
            <a:xfrm>
              <a:off x="4788000" y="2616120"/>
              <a:ext cx="3657600" cy="26676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788000" y="1943280"/>
              <a:ext cx="3657600" cy="2664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88000" y="1676520"/>
              <a:ext cx="3657600" cy="266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88000" y="2349360"/>
              <a:ext cx="3657600" cy="266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710240" y="121752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xt cond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43000" y="1662120"/>
              <a:ext cx="145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"-" Ter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52000" y="1916280"/>
              <a:ext cx="24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of typ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741200" y="2335320"/>
              <a:ext cx="219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Expr Addop Ter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52720" y="2589120"/>
              <a:ext cx="321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of typ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681-8410-4A53-8D9A-BDBAD1EA2B3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Ter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51040" y="1638360"/>
            <a:ext cx="3797280" cy="3301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51040" y="1320840"/>
            <a:ext cx="37972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16480" y="131904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= Term Mulop Fa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28360" y="1611360"/>
            <a:ext cx="337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36640" y="2417760"/>
            <a:ext cx="613872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y; OpCode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 "*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 = Code.mu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"/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 = Code.div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"%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 = Code.rem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 != Tab.intType || y.type != Tab.int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operands must be of type i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op);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B10-78B1-418F-B434-5064BBED36E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851040" y="1638360"/>
            <a:ext cx="3187440" cy="5461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51040" y="1320840"/>
            <a:ext cx="31874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1320840"/>
            <a:ext cx="31878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Facto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17200" y="131904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= "new"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28720" y="1611360"/>
            <a:ext cx="24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denote a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44560" y="131904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= "new" ident "[" Expr "]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60400" y="1611360"/>
            <a:ext cx="275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denote a ty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95680" y="1625760"/>
            <a:ext cx="3187800" cy="5461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11800" y="2278080"/>
            <a:ext cx="7242840" cy="446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// functions calls see l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token.val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token.val); x.type = Tab.char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 ")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ew" 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token.st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sym.kind != Symbol.Kinds.Type) Error("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 type = sym.type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)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 "[" 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 "]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 != Tab.intType) Error("array size must be of type i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NEWARR, type.sys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= new Struct(Struct.Kinds.Ar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type.kind == Struct.Kinds.Class)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NEWOBJ, sym.ctor)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{ Error("class type expected"); type = Tab.noType; }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)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Item.Kinds.Stack); x.type = 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5AB-176C-44CC-8071-306AF11019B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5320" y="1332000"/>
            <a:ext cx="14014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r.f + 2 * var.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965960" y="547200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68360" y="556740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956680" y="5472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249000" y="5472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03184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298440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328932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031480" y="50166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641680" y="488916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040840" y="4633920"/>
            <a:ext cx="93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83880" y="547200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86280" y="556740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474600" y="5472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766560" y="5472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54976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650232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680724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5549400" y="50166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6159600" y="488916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558760" y="4633920"/>
            <a:ext cx="93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510960" y="4741920"/>
            <a:ext cx="509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6159600" y="447012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877000" y="422748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472800" y="4322880"/>
            <a:ext cx="509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480920" y="46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4533840" y="447012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251240" y="422748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46680" y="4322880"/>
            <a:ext cx="590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onst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97200" y="42274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4533840" y="35560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6159600" y="35560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5524560" y="344160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533840" y="355608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242680" y="3160800"/>
            <a:ext cx="43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757840" y="325584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372760" y="3160800"/>
            <a:ext cx="43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308320" y="389736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91960" y="4741920"/>
            <a:ext cx="480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852280" y="3281400"/>
            <a:ext cx="480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903040" y="4017960"/>
            <a:ext cx="480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998520" y="316080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641680" y="411480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2629080" y="3403440"/>
            <a:ext cx="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5524560" y="2615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2616120" y="2615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4038480" y="2463840"/>
            <a:ext cx="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2615760" y="2603520"/>
            <a:ext cx="290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832920" y="21826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97320" y="227808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734760" y="2881440"/>
            <a:ext cx="2095560" cy="2527560"/>
            <a:chOff x="734760" y="2881440"/>
            <a:chExt cx="2095560" cy="2527560"/>
          </a:xfrm>
        </p:grpSpPr>
        <p:sp>
          <p:nvSpPr>
            <p:cNvPr id="1385" name=""/>
            <p:cNvSpPr/>
            <p:nvPr/>
          </p:nvSpPr>
          <p:spPr>
            <a:xfrm>
              <a:off x="2080800" y="510372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15880" y="517356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4760" y="288144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24920" y="291924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735120" y="2855880"/>
            <a:ext cx="2755800" cy="584640"/>
            <a:chOff x="735120" y="2855880"/>
            <a:chExt cx="2755800" cy="584640"/>
          </a:xfrm>
        </p:grpSpPr>
        <p:sp>
          <p:nvSpPr>
            <p:cNvPr id="1390" name=""/>
            <p:cNvSpPr/>
            <p:nvPr/>
          </p:nvSpPr>
          <p:spPr>
            <a:xfrm>
              <a:off x="2741760" y="28558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76480" y="292572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35120" y="313524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034640" y="3173400"/>
              <a:ext cx="683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fld T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fld_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732600" y="3389400"/>
            <a:ext cx="4548960" cy="800640"/>
            <a:chOff x="732600" y="3389400"/>
            <a:chExt cx="4548960" cy="800640"/>
          </a:xfrm>
        </p:grpSpPr>
        <p:sp>
          <p:nvSpPr>
            <p:cNvPr id="1395" name=""/>
            <p:cNvSpPr/>
            <p:nvPr/>
          </p:nvSpPr>
          <p:spPr>
            <a:xfrm>
              <a:off x="732600" y="338940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29880" y="388476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767120" y="39546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24200" y="34275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c.i4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733320" y="3643200"/>
            <a:ext cx="5614920" cy="1765800"/>
            <a:chOff x="733320" y="3643200"/>
            <a:chExt cx="5614920" cy="1765800"/>
          </a:xfrm>
        </p:grpSpPr>
        <p:sp>
          <p:nvSpPr>
            <p:cNvPr id="1400" name=""/>
            <p:cNvSpPr/>
            <p:nvPr/>
          </p:nvSpPr>
          <p:spPr>
            <a:xfrm>
              <a:off x="733320" y="3643200"/>
              <a:ext cx="23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597280" y="5103720"/>
              <a:ext cx="23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33800" y="517356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024920" y="366876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36200" y="3884760"/>
            <a:ext cx="6183720" cy="317880"/>
            <a:chOff x="736200" y="3884760"/>
            <a:chExt cx="6183720" cy="317880"/>
          </a:xfrm>
        </p:grpSpPr>
        <p:sp>
          <p:nvSpPr>
            <p:cNvPr id="1405" name=""/>
            <p:cNvSpPr/>
            <p:nvPr/>
          </p:nvSpPr>
          <p:spPr>
            <a:xfrm>
              <a:off x="6171840" y="388476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405480" y="39546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36200" y="389736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036080" y="3922560"/>
              <a:ext cx="71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fld T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fld_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734040" y="3605040"/>
            <a:ext cx="6185880" cy="851400"/>
            <a:chOff x="734040" y="3605040"/>
            <a:chExt cx="6185880" cy="851400"/>
          </a:xfrm>
        </p:grpSpPr>
        <p:sp>
          <p:nvSpPr>
            <p:cNvPr id="1410" name=""/>
            <p:cNvSpPr/>
            <p:nvPr/>
          </p:nvSpPr>
          <p:spPr>
            <a:xfrm>
              <a:off x="6169680" y="360504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405480" y="367524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34040" y="415116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26360" y="41893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736200" y="2665440"/>
            <a:ext cx="5612040" cy="2045160"/>
            <a:chOff x="736200" y="2665440"/>
            <a:chExt cx="5612040" cy="2045160"/>
          </a:xfrm>
        </p:grpSpPr>
        <p:sp>
          <p:nvSpPr>
            <p:cNvPr id="1415" name=""/>
            <p:cNvSpPr/>
            <p:nvPr/>
          </p:nvSpPr>
          <p:spPr>
            <a:xfrm>
              <a:off x="5600160" y="266544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3800" y="273528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36200" y="440532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25640" y="4443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5956200" y="1359000"/>
            <a:ext cx="330480" cy="16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017760" y="13413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910120" y="114444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956200" y="1523880"/>
            <a:ext cx="330480" cy="1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578640" y="1422360"/>
            <a:ext cx="330120" cy="1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578640" y="1587600"/>
            <a:ext cx="330120" cy="16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2485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722640" y="1573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931800" y="1417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931800" y="1595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578640" y="1752480"/>
            <a:ext cx="330120" cy="1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693840" y="171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931800" y="1760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751-CE76-4B9E-8C06-C15FB80D9F1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143000" y="424980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21E-3359-4E8E-A146-EBFE6563FD3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Patterns for Assign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68880" y="1447920"/>
            <a:ext cx="68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5 cases depending on the kind of the designator on the left-hand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47840" y="3138480"/>
            <a:ext cx="1521000" cy="102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47840" y="2693880"/>
            <a:ext cx="15224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28760" y="273060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calVar = exp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29480" y="3187800"/>
            <a:ext cx="134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loc local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822840" y="3138480"/>
            <a:ext cx="1641240" cy="102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22840" y="2693880"/>
            <a:ext cx="1639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803760" y="273060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lobalVar = exp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14560" y="3187800"/>
            <a:ext cx="1317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sfld T</a:t>
            </a:r>
            <a:r>
              <a:rPr b="1" lang="de-AT" sz="1400" spc="-1" strike="noStrike" baseline="-25000">
                <a:solidFill>
                  <a:srgbClr val="000000"/>
                </a:solidFill>
                <a:latin typeface="Arial"/>
              </a:rPr>
              <a:t>global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5500080" y="2039760"/>
            <a:ext cx="2266920" cy="2114640"/>
            <a:chOff x="5500080" y="2039760"/>
            <a:chExt cx="2266920" cy="2114640"/>
          </a:xfrm>
        </p:grpSpPr>
        <p:sp>
          <p:nvSpPr>
            <p:cNvPr id="1446" name=""/>
            <p:cNvSpPr/>
            <p:nvPr/>
          </p:nvSpPr>
          <p:spPr>
            <a:xfrm>
              <a:off x="5521320" y="3138120"/>
              <a:ext cx="1401840" cy="1016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521320" y="2693880"/>
              <a:ext cx="14112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502240" y="273024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bj.f = exp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500080" y="3187440"/>
              <a:ext cx="131760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ldloc ob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load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fld T</a:t>
              </a:r>
              <a:r>
                <a:rPr b="1" lang="de-AT" sz="14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09080" y="2039760"/>
              <a:ext cx="225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lue instruction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ed b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sign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768240" y="3135240"/>
            <a:ext cx="1413000" cy="102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68240" y="2690640"/>
            <a:ext cx="14130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9880" y="27273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rg = exp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7000" y="3184560"/>
            <a:ext cx="131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rg a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6913440" y="2693880"/>
            <a:ext cx="1674000" cy="3101400"/>
            <a:chOff x="6913440" y="2693880"/>
            <a:chExt cx="1674000" cy="3101400"/>
          </a:xfrm>
        </p:grpSpPr>
        <p:sp>
          <p:nvSpPr>
            <p:cNvPr id="1456" name=""/>
            <p:cNvSpPr/>
            <p:nvPr/>
          </p:nvSpPr>
          <p:spPr>
            <a:xfrm>
              <a:off x="6991200" y="3138120"/>
              <a:ext cx="1371600" cy="1414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991200" y="2693880"/>
              <a:ext cx="138276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972480" y="273024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[i] = exp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969960" y="3187440"/>
              <a:ext cx="13176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ldloc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ldloc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load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elem.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913440" y="4749480"/>
              <a:ext cx="1439640" cy="10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epending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element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char, int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bject refere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991640" y="3920760"/>
              <a:ext cx="88560" cy="585720"/>
            </a:xfrm>
            <a:custGeom>
              <a:avLst/>
              <a:gdLst>
                <a:gd name="textAreaLeft" fmla="*/ 0 w 88560"/>
                <a:gd name="textAreaRight" fmla="*/ 32040 w 88560"/>
                <a:gd name="textAreaTop" fmla="*/ 15120 h 585720"/>
                <a:gd name="textAreaBottom" fmla="*/ 570600 h 5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2" name=""/>
            <p:cNvCxnSpPr>
              <a:stCxn id="1461" idx="1"/>
              <a:endCxn id="1460" idx="3"/>
            </p:cNvCxnSpPr>
            <p:nvPr/>
          </p:nvCxnSpPr>
          <p:spPr>
            <a:xfrm>
              <a:off x="8080200" y="4214160"/>
              <a:ext cx="278280" cy="816840"/>
            </a:xfrm>
            <a:prstGeom prst="bentConnector3">
              <a:avLst>
                <a:gd name="adj1" fmla="val 182512"/>
              </a:avLst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EB3-BBC5-450C-9EEE-028280EA6EB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Assign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09560" y="113040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text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041480" y="1587600"/>
            <a:ext cx="69595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990000" y="1585800"/>
            <a:ext cx="30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Designator "=" Expr 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012320" y="1878120"/>
            <a:ext cx="670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denote a variable, an array element or an object fie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ssignment compati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ith 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041480" y="1892160"/>
            <a:ext cx="6959520" cy="5461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08840" y="260352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052640" y="3046320"/>
            <a:ext cx="694188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,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his call may already generat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=" 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y.type.AssignableTo(x.typ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Assign(x, y);  // x: Arg | Local | Static | Field | E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"incompatible types in assignm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709560" y="5181480"/>
            <a:ext cx="4708080" cy="1370880"/>
            <a:chOff x="709560" y="5181480"/>
            <a:chExt cx="4708080" cy="1370880"/>
          </a:xfrm>
        </p:grpSpPr>
        <p:sp>
          <p:nvSpPr>
            <p:cNvPr id="1472" name=""/>
            <p:cNvSpPr/>
            <p:nvPr/>
          </p:nvSpPr>
          <p:spPr>
            <a:xfrm>
              <a:off x="709560" y="5181480"/>
              <a:ext cx="26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ssignment compat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987840" y="5484960"/>
              <a:ext cx="4429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ssignment compatibl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have the same types 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.typ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=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.typ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,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re arrays with the same element types,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has a reference type (class or array)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A12-0DF0-4C8F-ACE4-9F0D319C155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1143000" y="469440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16D-BAD5-480F-A300-D22467CB1F8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a Stack Machine Work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000" y="1397160"/>
            <a:ext cx="2378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75"/>
              </a:spcAft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ement  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 = i + j *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18680" y="1751040"/>
            <a:ext cx="32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ssume the following value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22160" y="2728800"/>
            <a:ext cx="5946120" cy="1353600"/>
            <a:chOff x="722160" y="2728800"/>
            <a:chExt cx="5946120" cy="1353600"/>
          </a:xfrm>
        </p:grpSpPr>
        <p:sp>
          <p:nvSpPr>
            <p:cNvPr id="126" name=""/>
            <p:cNvSpPr/>
            <p:nvPr/>
          </p:nvSpPr>
          <p:spPr>
            <a:xfrm>
              <a:off x="2298600" y="379728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2160" y="27288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75"/>
                </a:spcAft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320" y="3300480"/>
              <a:ext cx="114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str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21560" y="3300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6040" y="377028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9240" y="3745080"/>
              <a:ext cx="302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ad variable from address 0 (i.e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2400" y="380844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077120" y="4976640"/>
            <a:ext cx="5632200" cy="337320"/>
            <a:chOff x="1077120" y="4976640"/>
            <a:chExt cx="5632200" cy="337320"/>
          </a:xfrm>
        </p:grpSpPr>
        <p:sp>
          <p:nvSpPr>
            <p:cNvPr id="134" name=""/>
            <p:cNvSpPr/>
            <p:nvPr/>
          </p:nvSpPr>
          <p:spPr>
            <a:xfrm>
              <a:off x="2298600" y="502920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77120" y="50022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36000" y="4976640"/>
              <a:ext cx="30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 the two topmost stack el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33880" y="5040360"/>
              <a:ext cx="23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76040" y="4049640"/>
            <a:ext cx="5592240" cy="337320"/>
            <a:chOff x="1076040" y="4049640"/>
            <a:chExt cx="5592240" cy="337320"/>
          </a:xfrm>
        </p:grpSpPr>
        <p:sp>
          <p:nvSpPr>
            <p:cNvPr id="139" name=""/>
            <p:cNvSpPr/>
            <p:nvPr/>
          </p:nvSpPr>
          <p:spPr>
            <a:xfrm>
              <a:off x="2298600" y="410220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76040" y="40752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ldloc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39240" y="4049640"/>
              <a:ext cx="302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ad variable from address 1 (i.e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72400" y="411336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77960" y="4102200"/>
              <a:ext cx="2797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51760" y="411336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075680" y="4367160"/>
            <a:ext cx="3968280" cy="337320"/>
            <a:chOff x="1075680" y="4367160"/>
            <a:chExt cx="3968280" cy="337320"/>
          </a:xfrm>
        </p:grpSpPr>
        <p:sp>
          <p:nvSpPr>
            <p:cNvPr id="146" name=""/>
            <p:cNvSpPr/>
            <p:nvPr/>
          </p:nvSpPr>
          <p:spPr>
            <a:xfrm>
              <a:off x="2298600" y="441972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5680" y="43927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c.i4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31680" y="436716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ad constant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72400" y="443088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7960" y="4419720"/>
              <a:ext cx="2797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51760" y="443088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57680" y="441972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31120" y="443088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077840" y="4672080"/>
            <a:ext cx="6028200" cy="337320"/>
            <a:chOff x="1077840" y="4672080"/>
            <a:chExt cx="6028200" cy="337320"/>
          </a:xfrm>
        </p:grpSpPr>
        <p:sp>
          <p:nvSpPr>
            <p:cNvPr id="155" name=""/>
            <p:cNvSpPr/>
            <p:nvPr/>
          </p:nvSpPr>
          <p:spPr>
            <a:xfrm>
              <a:off x="2298600" y="472428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7840" y="469728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38160" y="4672080"/>
              <a:ext cx="346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ltiply the two topmost stack el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72400" y="473544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7960" y="4724280"/>
              <a:ext cx="2797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13240" y="4735440"/>
              <a:ext cx="23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72640" y="5281560"/>
            <a:ext cx="6526440" cy="858240"/>
            <a:chOff x="872640" y="5281560"/>
            <a:chExt cx="6526440" cy="858240"/>
          </a:xfrm>
        </p:grpSpPr>
        <p:sp>
          <p:nvSpPr>
            <p:cNvPr id="162" name=""/>
            <p:cNvSpPr/>
            <p:nvPr/>
          </p:nvSpPr>
          <p:spPr>
            <a:xfrm>
              <a:off x="1075320" y="530712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8520" y="5281560"/>
              <a:ext cx="376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ore the topmost stack element to addres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72640" y="5802480"/>
              <a:ext cx="507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end of every statement the expression stack is empty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362640" y="2286000"/>
            <a:ext cx="53352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62640" y="2489040"/>
            <a:ext cx="53352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63520" y="2306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63520" y="250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57720" y="250992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57720" y="230652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07840" y="2306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07840" y="250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98200" y="19940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781-33C0-4E4C-9E01-3A342AC74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ditional and Unconditional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97680" y="132084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Unconditional ju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30480" y="1827360"/>
            <a:ext cx="1800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97680" y="256536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ditional ju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22200" y="3071880"/>
            <a:ext cx="17233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operand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operand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eq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224160" y="350352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operand1 == operand2) br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1177560" y="4506840"/>
            <a:ext cx="2835720" cy="1562760"/>
            <a:chOff x="1177560" y="4506840"/>
            <a:chExt cx="2835720" cy="1562760"/>
          </a:xfrm>
        </p:grpSpPr>
        <p:sp>
          <p:nvSpPr>
            <p:cNvPr id="1484" name=""/>
            <p:cNvSpPr/>
            <p:nvPr/>
          </p:nvSpPr>
          <p:spPr>
            <a:xfrm>
              <a:off x="1177560" y="4506840"/>
              <a:ext cx="726480" cy="15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ne.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837800" y="4506840"/>
              <a:ext cx="21754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greater or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greater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less or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less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no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03C-7AF5-4719-906E-D22CFB559FB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orward and Backward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10280" y="134604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Backward ju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270520" y="2500200"/>
            <a:ext cx="64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mp d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4 bytes long (CIL also has short form with 1 byte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lative to the beginning of the next instruction (= end of jump instru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079000" y="1738440"/>
            <a:ext cx="60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arget address (label) is already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ecause the instruction at this position has already been gener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149480" y="3397320"/>
            <a:ext cx="49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143000" y="19051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143000" y="2120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143000" y="2336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2552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143000" y="2768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143000" y="29844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143000" y="32004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242000" y="233208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206360" y="2549520"/>
            <a:ext cx="355680" cy="8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05720" y="28843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739880" y="339084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2057400" y="1905120"/>
            <a:ext cx="0" cy="14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17521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49480" y="3625920"/>
            <a:ext cx="49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220400" y="339552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709920" y="3683160"/>
            <a:ext cx="3706920" cy="2279520"/>
            <a:chOff x="709920" y="3683160"/>
            <a:chExt cx="3706920" cy="2279520"/>
          </a:xfrm>
        </p:grpSpPr>
        <p:sp>
          <p:nvSpPr>
            <p:cNvPr id="1507" name=""/>
            <p:cNvSpPr/>
            <p:nvPr/>
          </p:nvSpPr>
          <p:spPr>
            <a:xfrm>
              <a:off x="709920" y="368316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ward jum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19800" y="4341960"/>
              <a:ext cx="2597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arget address still unkn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eave it emp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member "fixup address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43000" y="42418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43000" y="44578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43000" y="4673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43000" y="4889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43000" y="5105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143000" y="53211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143000" y="55371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242000" y="4240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06360" y="4457880"/>
              <a:ext cx="35568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343880" y="478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49480" y="575316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149480" y="596268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4969440" y="4240080"/>
            <a:ext cx="3556440" cy="2387520"/>
            <a:chOff x="4969440" y="4240080"/>
            <a:chExt cx="3556440" cy="2387520"/>
          </a:xfrm>
        </p:grpSpPr>
        <p:sp>
          <p:nvSpPr>
            <p:cNvPr id="1522" name=""/>
            <p:cNvSpPr/>
            <p:nvPr/>
          </p:nvSpPr>
          <p:spPr>
            <a:xfrm>
              <a:off x="4969440" y="6046920"/>
              <a:ext cx="355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tch it when the target address becom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known (fixu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499000" y="42418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99000" y="44578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99000" y="4673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499000" y="4889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499000" y="5105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499000" y="53211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499000" y="55371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98360" y="4240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62720" y="4457880"/>
              <a:ext cx="35532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700240" y="4780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070680" y="531828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6388200" y="5325840"/>
              <a:ext cx="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082920" y="5740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597280" y="55548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s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597280" y="57513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s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00800" y="57610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500800" y="597060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613-2F98-4E01-A23E-10AAF4222DB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 System.Reflection.Emit.Labe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4000" y="124452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presentation of Jump Lab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85880" y="1687680"/>
            <a:ext cx="72025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684720" y="4162320"/>
            <a:ext cx="7300440" cy="1529640"/>
            <a:chOff x="684720" y="4162320"/>
            <a:chExt cx="7300440" cy="1529640"/>
          </a:xfrm>
        </p:grpSpPr>
        <p:sp>
          <p:nvSpPr>
            <p:cNvPr id="1544" name=""/>
            <p:cNvSpPr/>
            <p:nvPr/>
          </p:nvSpPr>
          <p:spPr>
            <a:xfrm>
              <a:off x="684720" y="41623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60320" y="4532400"/>
              <a:ext cx="722484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label = Code.il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Define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(Code.BR,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jump to the yet undefined label (forward jum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ark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now the branch to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leads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733320" y="2054160"/>
            <a:ext cx="7272360" cy="1504080"/>
            <a:chOff x="733320" y="2054160"/>
            <a:chExt cx="7272360" cy="1504080"/>
          </a:xfrm>
        </p:grpSpPr>
        <p:sp>
          <p:nvSpPr>
            <p:cNvPr id="1547" name=""/>
            <p:cNvSpPr/>
            <p:nvPr/>
          </p:nvSpPr>
          <p:spPr>
            <a:xfrm>
              <a:off x="733320" y="2054160"/>
              <a:ext cx="318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abels are managed b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LGener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82640" y="2398680"/>
              <a:ext cx="722304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LGener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efine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reate a yet undefined jump la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ark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Label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define the label at the current position in the IL 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64B-5205-4EC5-919B-FFFC6660479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di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58760" y="1662120"/>
            <a:ext cx="1143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 a &gt; b 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5400000">
            <a:off x="1555560" y="1822320"/>
            <a:ext cx="88920" cy="520560"/>
          </a:xfrm>
          <a:custGeom>
            <a:avLst/>
            <a:gdLst>
              <a:gd name="textAreaLeft" fmla="*/ 0 w 88920"/>
              <a:gd name="textAreaRight" fmla="*/ 32040 w 88920"/>
              <a:gd name="textAreaTop" fmla="*/ 13320 h 520560"/>
              <a:gd name="textAreaBottom" fmla="*/ 50724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153800" y="2093760"/>
            <a:ext cx="99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111840" y="139536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de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62400" y="1674720"/>
            <a:ext cx="6667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70560" y="2500200"/>
            <a:ext cx="454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the compare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oper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comparison is then done in the jump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672120" y="5354640"/>
            <a:ext cx="6684480" cy="965880"/>
            <a:chOff x="672120" y="5354640"/>
            <a:chExt cx="6684480" cy="965880"/>
          </a:xfrm>
        </p:grpSpPr>
        <p:sp>
          <p:nvSpPr>
            <p:cNvPr id="1557" name=""/>
            <p:cNvSpPr/>
            <p:nvPr/>
          </p:nvSpPr>
          <p:spPr>
            <a:xfrm>
              <a:off x="672120" y="5354640"/>
              <a:ext cx="29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rue-jumps and false-jum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004400" y="5708520"/>
              <a:ext cx="106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true-j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302200" y="5708520"/>
              <a:ext cx="244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if the condition is 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73680" y="5716440"/>
              <a:ext cx="15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&gt;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g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004400" y="5975280"/>
              <a:ext cx="110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false-j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302920" y="5975280"/>
              <a:ext cx="25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if the condition is 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774400" y="5983200"/>
              <a:ext cx="157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&gt;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e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672120" y="116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671400" y="3381480"/>
            <a:ext cx="8030520" cy="1965240"/>
            <a:chOff x="671400" y="3381480"/>
            <a:chExt cx="8030520" cy="1965240"/>
          </a:xfrm>
        </p:grpSpPr>
        <p:sp>
          <p:nvSpPr>
            <p:cNvPr id="1566" name=""/>
            <p:cNvSpPr/>
            <p:nvPr/>
          </p:nvSpPr>
          <p:spPr>
            <a:xfrm>
              <a:off x="1401840" y="4255920"/>
              <a:ext cx="4322520" cy="27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430280" y="4784760"/>
              <a:ext cx="1611360" cy="487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1400" y="3381480"/>
              <a:ext cx="12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d 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33040" y="3697200"/>
              <a:ext cx="7569000" cy="15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dition returns an item of a new kind </a:t>
              </a:r>
              <a:r>
                <a:rPr b="0" i="1" lang="de-AT" sz="1600" spc="-1" strike="noStrike">
                  <a:solidFill>
                    <a:srgbClr val="3333cc"/>
                  </a:solidFill>
                  <a:latin typeface="Times New Roman"/>
                </a:rPr>
                <a:t>Item.Kinds.Con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with the following content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code of compare operator: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int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l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  // Token.EG, .GE, .GT, .LE, .LT, .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labels for jumps that lead out of Condition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Labe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Label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for true-jump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Labe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Label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for false-jum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794200" y="4648320"/>
              <a:ext cx="88920" cy="6984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8000 h 698400"/>
                <a:gd name="textAreaBottom" fmla="*/ 68040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948640" y="4672080"/>
              <a:ext cx="275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cessary for conditions, which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ain&amp;&amp; and || op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709-FE49-44E2-B683-A2433BA2F0E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d 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042560" y="1268280"/>
            <a:ext cx="6848280" cy="254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Kinds {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l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o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ype of the ope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onst: consta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Arg, Local: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// Cond: token code of th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tLabel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// jump label for true ju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fLabel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// jump label for false ju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Field, Meth: symbol tab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738360" y="4178160"/>
            <a:ext cx="3250080" cy="2006640"/>
            <a:chOff x="738360" y="4178160"/>
            <a:chExt cx="3250080" cy="2006640"/>
          </a:xfrm>
        </p:grpSpPr>
        <p:sp>
          <p:nvSpPr>
            <p:cNvPr id="1575" name=""/>
            <p:cNvSpPr/>
            <p:nvPr/>
          </p:nvSpPr>
          <p:spPr>
            <a:xfrm>
              <a:off x="738360" y="4178160"/>
              <a:ext cx="32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ew construc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for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n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te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052280" y="4599000"/>
              <a:ext cx="29361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relop, Struct typ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is.kind = Kinds.Con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is.type = type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is.relop = relo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Label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Label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E32-F208-41F1-B464-D0939777AD3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ing Conditional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21080" y="1282680"/>
            <a:ext cx="28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ith methods of class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722520" y="5092560"/>
            <a:ext cx="4704840" cy="832680"/>
            <a:chOff x="722520" y="5092560"/>
            <a:chExt cx="4704840" cy="832680"/>
          </a:xfrm>
        </p:grpSpPr>
        <p:sp>
          <p:nvSpPr>
            <p:cNvPr id="1580" name=""/>
            <p:cNvSpPr/>
            <p:nvPr/>
          </p:nvSpPr>
          <p:spPr>
            <a:xfrm>
              <a:off x="722520" y="50925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21400" y="5618160"/>
              <a:ext cx="43059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 Code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FJum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x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1033560" y="1930320"/>
            <a:ext cx="5954760" cy="44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038240" y="3381480"/>
            <a:ext cx="5945040" cy="7300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038240" y="2549520"/>
            <a:ext cx="5942160" cy="719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58240" y="1660680"/>
            <a:ext cx="6147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readonly OpCode[]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rTru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{ BEQ, BGE, BGT, BLE, BLT, BNE 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readonly OpCode[]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rFal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{ BNE, BLT, BLE, BGT, BGE, BEQ 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Jum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tem 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.Emit(brTrue[x.relop - Token.EQ], x.tLabe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Jum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tem 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.Emit(brFalse[x.relop - Token.EQ], x.fLabe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3AB-9FA8-4B7E-8415-4223A955C99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ing Unconditional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95160" y="133344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ith a method of class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155600" y="2298600"/>
            <a:ext cx="3195720" cy="6987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977040" y="1839960"/>
            <a:ext cx="333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Jump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Label lab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.Emit(BR, la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697320" y="3784680"/>
            <a:ext cx="3647520" cy="1201680"/>
            <a:chOff x="697320" y="3784680"/>
            <a:chExt cx="3647520" cy="1201680"/>
          </a:xfrm>
        </p:grpSpPr>
        <p:sp>
          <p:nvSpPr>
            <p:cNvPr id="1591" name=""/>
            <p:cNvSpPr/>
            <p:nvPr/>
          </p:nvSpPr>
          <p:spPr>
            <a:xfrm>
              <a:off x="697320" y="378468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141560" y="4253040"/>
              <a:ext cx="32032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label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Jump(labe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96C-69AD-4215-9DD6-B79A2CB1DB0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1143000" y="513072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935-C927-40D3-8F92-1168AC59604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2362320" y="1714680"/>
            <a:ext cx="3124080" cy="1371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092240" y="1714680"/>
            <a:ext cx="11304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ile Stat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08480" y="121932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ired cod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93680" y="1700280"/>
            <a:ext cx="403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Conditio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code for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Jump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code for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r 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2425680" y="27306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2425680" y="18666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425680" y="1866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280040" y="22734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359320" y="22734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3580920" y="292104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708840" y="3403440"/>
            <a:ext cx="5427000" cy="2505960"/>
            <a:chOff x="708840" y="3403440"/>
            <a:chExt cx="5427000" cy="2505960"/>
          </a:xfrm>
        </p:grpSpPr>
        <p:sp>
          <p:nvSpPr>
            <p:cNvPr id="1608" name=""/>
            <p:cNvSpPr/>
            <p:nvPr/>
          </p:nvSpPr>
          <p:spPr>
            <a:xfrm>
              <a:off x="708840" y="340344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094040" y="3897360"/>
              <a:ext cx="5041800" cy="2012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While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hil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top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p.her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FJump(x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Jump(top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x.fLabel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6404040" y="3403440"/>
            <a:ext cx="1919520" cy="877320"/>
            <a:chOff x="6404040" y="3403440"/>
            <a:chExt cx="1919520" cy="877320"/>
          </a:xfrm>
        </p:grpSpPr>
        <p:sp>
          <p:nvSpPr>
            <p:cNvPr id="1611" name=""/>
            <p:cNvSpPr/>
            <p:nvPr/>
          </p:nvSpPr>
          <p:spPr>
            <a:xfrm>
              <a:off x="6424200" y="34034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04040" y="3973680"/>
              <a:ext cx="191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a &gt; b) a = a - 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6410160" y="4329000"/>
            <a:ext cx="10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7429680" y="4303800"/>
            <a:ext cx="1150920" cy="337320"/>
            <a:chOff x="7429680" y="4303800"/>
            <a:chExt cx="1150920" cy="337320"/>
          </a:xfrm>
        </p:grpSpPr>
        <p:sp>
          <p:nvSpPr>
            <p:cNvPr id="1615" name=""/>
            <p:cNvSpPr/>
            <p:nvPr/>
          </p:nvSpPr>
          <p:spPr>
            <a:xfrm flipH="1">
              <a:off x="7429680" y="4483080"/>
              <a:ext cx="6602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139240" y="43038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6411600" y="4773600"/>
            <a:ext cx="941760" cy="307080"/>
            <a:chOff x="6411600" y="4773600"/>
            <a:chExt cx="941760" cy="307080"/>
          </a:xfrm>
        </p:grpSpPr>
        <p:sp>
          <p:nvSpPr>
            <p:cNvPr id="1618" name=""/>
            <p:cNvSpPr/>
            <p:nvPr/>
          </p:nvSpPr>
          <p:spPr>
            <a:xfrm>
              <a:off x="6411600" y="4773600"/>
              <a:ext cx="7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12160" y="501660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>
            <a:off x="6409800" y="5014800"/>
            <a:ext cx="112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6210360" y="4482720"/>
            <a:ext cx="1696680" cy="1715400"/>
            <a:chOff x="6210360" y="4482720"/>
            <a:chExt cx="1696680" cy="1715400"/>
          </a:xfrm>
        </p:grpSpPr>
        <p:sp>
          <p:nvSpPr>
            <p:cNvPr id="1622" name=""/>
            <p:cNvSpPr/>
            <p:nvPr/>
          </p:nvSpPr>
          <p:spPr>
            <a:xfrm>
              <a:off x="6408000" y="589104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 -16 (=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6223320" y="605808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6210360" y="4482720"/>
              <a:ext cx="0" cy="15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10360" y="44830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6423120" y="4773600"/>
            <a:ext cx="2579040" cy="1666080"/>
            <a:chOff x="6423120" y="4773600"/>
            <a:chExt cx="2579040" cy="1666080"/>
          </a:xfrm>
        </p:grpSpPr>
        <p:sp>
          <p:nvSpPr>
            <p:cNvPr id="1627" name=""/>
            <p:cNvSpPr/>
            <p:nvPr/>
          </p:nvSpPr>
          <p:spPr>
            <a:xfrm flipH="1">
              <a:off x="7428960" y="62229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40320" y="6043680"/>
              <a:ext cx="86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x.fL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423120" y="6132600"/>
              <a:ext cx="7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005960" y="4773600"/>
              <a:ext cx="80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=2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810200" y="49276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988040" y="49276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09A-CFE7-4403-8A12-1F76729A242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/>
          <p:nvPr/>
        </p:nvSpPr>
        <p:spPr>
          <a:xfrm>
            <a:off x="2298600" y="1714680"/>
            <a:ext cx="2222640" cy="181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92240" y="1714680"/>
            <a:ext cx="1130400" cy="1815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f Stat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08480" y="121932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ired cod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097280" y="1700280"/>
            <a:ext cx="3050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Conditio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Jump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924360" y="22734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343400" y="2273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3352680" y="27050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08840" y="3746520"/>
            <a:ext cx="5155560" cy="2931840"/>
            <a:chOff x="708840" y="3746520"/>
            <a:chExt cx="5155560" cy="2931840"/>
          </a:xfrm>
        </p:grpSpPr>
        <p:sp>
          <p:nvSpPr>
            <p:cNvPr id="1642" name=""/>
            <p:cNvSpPr/>
            <p:nvPr/>
          </p:nvSpPr>
          <p:spPr>
            <a:xfrm>
              <a:off x="708840" y="374652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094040" y="4240080"/>
              <a:ext cx="4770360" cy="243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; Label end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FJump(x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els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Jump(en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x.fLabel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end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x.fLabel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6005880" y="3746520"/>
            <a:ext cx="2701440" cy="877320"/>
            <a:chOff x="6005880" y="3746520"/>
            <a:chExt cx="2701440" cy="877320"/>
          </a:xfrm>
        </p:grpSpPr>
        <p:sp>
          <p:nvSpPr>
            <p:cNvPr id="1645" name=""/>
            <p:cNvSpPr/>
            <p:nvPr/>
          </p:nvSpPr>
          <p:spPr>
            <a:xfrm>
              <a:off x="6031080" y="374652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05880" y="4316760"/>
              <a:ext cx="27014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a &gt; b) max = a; else max = b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4813200" y="1700280"/>
            <a:ext cx="3429000" cy="1830240"/>
            <a:chOff x="4813200" y="1700280"/>
            <a:chExt cx="3429000" cy="1830240"/>
          </a:xfrm>
        </p:grpSpPr>
        <p:sp>
          <p:nvSpPr>
            <p:cNvPr id="1648" name=""/>
            <p:cNvSpPr/>
            <p:nvPr/>
          </p:nvSpPr>
          <p:spPr>
            <a:xfrm>
              <a:off x="6006960" y="1714680"/>
              <a:ext cx="2235240" cy="1803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813200" y="1714680"/>
              <a:ext cx="1130400" cy="1815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818240" y="1700280"/>
              <a:ext cx="305064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Condition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Jump e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r 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: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: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645320" y="22734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064360" y="22734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7073640" y="29084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31200" y="269244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950240" y="26924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7074000" y="3352680"/>
              <a:ext cx="8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6689160" y="5116680"/>
            <a:ext cx="1840320" cy="1188000"/>
            <a:chOff x="6689160" y="5116680"/>
            <a:chExt cx="1840320" cy="1188000"/>
          </a:xfrm>
        </p:grpSpPr>
        <p:sp>
          <p:nvSpPr>
            <p:cNvPr id="1658" name=""/>
            <p:cNvSpPr/>
            <p:nvPr/>
          </p:nvSpPr>
          <p:spPr>
            <a:xfrm>
              <a:off x="6689160" y="511668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=2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65960" y="525780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31200" y="5257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7022880" y="617220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667640" y="5967360"/>
              <a:ext cx="86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x.fL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6015960" y="53578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15960" y="601812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16680" y="4672080"/>
            <a:ext cx="10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6017760" y="5116680"/>
            <a:ext cx="892800" cy="307080"/>
            <a:chOff x="6017760" y="5116680"/>
            <a:chExt cx="892800" cy="307080"/>
          </a:xfrm>
        </p:grpSpPr>
        <p:sp>
          <p:nvSpPr>
            <p:cNvPr id="1667" name=""/>
            <p:cNvSpPr/>
            <p:nvPr/>
          </p:nvSpPr>
          <p:spPr>
            <a:xfrm>
              <a:off x="6017760" y="5116680"/>
              <a:ext cx="7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37400" y="53593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6017760" y="5802480"/>
            <a:ext cx="849600" cy="307080"/>
            <a:chOff x="6017760" y="5802480"/>
            <a:chExt cx="849600" cy="307080"/>
          </a:xfrm>
        </p:grpSpPr>
        <p:sp>
          <p:nvSpPr>
            <p:cNvPr id="1670" name=""/>
            <p:cNvSpPr/>
            <p:nvPr/>
          </p:nvSpPr>
          <p:spPr>
            <a:xfrm>
              <a:off x="6017760" y="5802480"/>
              <a:ext cx="72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705720" y="6045120"/>
              <a:ext cx="16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6016680" y="5802480"/>
            <a:ext cx="2275560" cy="967320"/>
            <a:chOff x="6016680" y="5802480"/>
            <a:chExt cx="2275560" cy="967320"/>
          </a:xfrm>
        </p:grpSpPr>
        <p:sp>
          <p:nvSpPr>
            <p:cNvPr id="1673" name=""/>
            <p:cNvSpPr/>
            <p:nvPr/>
          </p:nvSpPr>
          <p:spPr>
            <a:xfrm>
              <a:off x="6647760" y="580248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=2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6680" y="6462720"/>
              <a:ext cx="7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65960" y="5969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70880" y="5969160"/>
              <a:ext cx="0" cy="63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6858000" y="660384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66560" y="6386400"/>
              <a:ext cx="6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nd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820-8D59-46AC-AAD9-D90B8539510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 Areas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1080" y="13082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2360" y="2019240"/>
            <a:ext cx="1244520" cy="1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120" y="171288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2520" y="3313080"/>
            <a:ext cx="724428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mapped to static fields of the program class in the C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 live during the whole program (= while the program class is load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 are addressed by medadata toke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s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loads the value of the field referenced by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n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22360" y="2184480"/>
            <a:ext cx="1244520" cy="164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22360" y="2349360"/>
            <a:ext cx="1244520" cy="1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22360" y="2514600"/>
            <a:ext cx="1244520" cy="1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22360" y="2679840"/>
            <a:ext cx="1244520" cy="164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2360" y="2844720"/>
            <a:ext cx="1244520" cy="1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51080" y="5297400"/>
            <a:ext cx="135252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ken typ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1 By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12960" y="5297400"/>
            <a:ext cx="288144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dex into metadata tabl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3 By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86040" y="4940280"/>
            <a:ext cx="606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adata token are 4 Byte values that reference rows in metadata t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D74-C5FD-4B53-9AEE-50F8629AE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orks Also for Nested if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63920" y="1560600"/>
            <a:ext cx="477036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f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; Label end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Condition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 ")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FJump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els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= Code.il.DefineLabe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Jump(e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MarkLabel(x.fLabe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MarkLabel(end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MarkLabel(x.fLabel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056720" y="392256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stat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56720" y="205596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stat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918040" y="392256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918040" y="205596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26160" y="1598760"/>
            <a:ext cx="2259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1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c1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Jump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5725800" y="2055960"/>
            <a:ext cx="2303640" cy="1411200"/>
            <a:chOff x="5725800" y="2055960"/>
            <a:chExt cx="2303640" cy="1411200"/>
          </a:xfrm>
        </p:grpSpPr>
        <p:sp>
          <p:nvSpPr>
            <p:cNvPr id="1687" name=""/>
            <p:cNvSpPr/>
            <p:nvPr/>
          </p:nvSpPr>
          <p:spPr>
            <a:xfrm>
              <a:off x="5725800" y="2055960"/>
              <a:ext cx="225936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2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c2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s1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s2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750080" y="242568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927920" y="2425680"/>
              <a:ext cx="0" cy="63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7368840" y="306072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750080" y="2857320"/>
              <a:ext cx="2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029440" y="2857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7381800" y="346716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5725800" y="3922560"/>
            <a:ext cx="2303640" cy="1411560"/>
            <a:chOff x="5725800" y="3922560"/>
            <a:chExt cx="2303640" cy="1411560"/>
          </a:xfrm>
        </p:grpSpPr>
        <p:sp>
          <p:nvSpPr>
            <p:cNvPr id="1695" name=""/>
            <p:cNvSpPr/>
            <p:nvPr/>
          </p:nvSpPr>
          <p:spPr>
            <a:xfrm>
              <a:off x="5725800" y="3922560"/>
              <a:ext cx="225936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3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c3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s3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s4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750080" y="429264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927920" y="429264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7368840" y="492768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750080" y="4724280"/>
              <a:ext cx="2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029440" y="4724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7381800" y="533412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7788240" y="1968480"/>
            <a:ext cx="50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8296200" y="1968480"/>
            <a:ext cx="0" cy="1879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7394040" y="3848040"/>
            <a:ext cx="901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788240" y="36702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435880" y="3670200"/>
            <a:ext cx="0" cy="1778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7394040" y="5448240"/>
            <a:ext cx="1041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E78-FF54-49F3-A1A7-BAA3282B3A4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break Stat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08120" y="11304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jumping out of a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21080" y="1446120"/>
            <a:ext cx="45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fine a label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reakLa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t the end of the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a break occurs in the loop: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Jump(breakLa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709560" y="2158920"/>
            <a:ext cx="5676840" cy="896760"/>
            <a:chOff x="709560" y="2158920"/>
            <a:chExt cx="5676840" cy="896760"/>
          </a:xfrm>
        </p:grpSpPr>
        <p:sp>
          <p:nvSpPr>
            <p:cNvPr id="1712" name=""/>
            <p:cNvSpPr/>
            <p:nvPr/>
          </p:nvSpPr>
          <p:spPr>
            <a:xfrm>
              <a:off x="709560" y="2158920"/>
              <a:ext cx="140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ested lo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1520" y="2475000"/>
              <a:ext cx="565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loop needs its ow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ewBreak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ewBreakLa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passed to nested statements as an 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4" name=""/>
          <p:cNvSpPr/>
          <p:nvPr/>
        </p:nvSpPr>
        <p:spPr>
          <a:xfrm>
            <a:off x="731520" y="6399360"/>
            <a:ext cx="65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Question: What would we have to do in order to use break with a label na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804960" y="3103560"/>
            <a:ext cx="7377480" cy="3309480"/>
            <a:chOff x="804960" y="3103560"/>
            <a:chExt cx="7377480" cy="3309480"/>
          </a:xfrm>
        </p:grpSpPr>
        <p:sp>
          <p:nvSpPr>
            <p:cNvPr id="1716" name=""/>
            <p:cNvSpPr/>
            <p:nvPr/>
          </p:nvSpPr>
          <p:spPr>
            <a:xfrm>
              <a:off x="804960" y="3103560"/>
              <a:ext cx="7364880" cy="33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breakLab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hil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newBreakLab = Code.il.DefineLabel(); 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ewBreakLab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Code.il.MarkLabel(newBreakLab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{" { Block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eakLab&gt; } "}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eakLab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break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breakLab.Equals(undef)) Error("break outside a loop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Jump(breakLab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142600" y="4494240"/>
              <a:ext cx="303984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readonly Label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unde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cause structs cannot be null (ye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CD6-D5D0-4493-9514-C25D8794156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Short-Circuit Evaluation of Boolean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78600" y="1128600"/>
            <a:ext cx="647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olean expression may contain &amp;&amp; and || op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evaluation of a Boolean expression stops as soon as its result is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998640" y="1954080"/>
            <a:ext cx="1195560" cy="1578960"/>
            <a:chOff x="998640" y="1954080"/>
            <a:chExt cx="1195560" cy="1578960"/>
          </a:xfrm>
        </p:grpSpPr>
        <p:sp>
          <p:nvSpPr>
            <p:cNvPr id="1721" name=""/>
            <p:cNvSpPr/>
            <p:nvPr/>
          </p:nvSpPr>
          <p:spPr>
            <a:xfrm>
              <a:off x="998640" y="1954080"/>
              <a:ext cx="11955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&amp;&amp; b &amp;&amp; 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102320" y="2373480"/>
              <a:ext cx="724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739880" y="2755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739880" y="3187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943280" y="275580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3132360" y="1954080"/>
            <a:ext cx="1069560" cy="1578960"/>
            <a:chOff x="3132360" y="1954080"/>
            <a:chExt cx="1069560" cy="1578960"/>
          </a:xfrm>
        </p:grpSpPr>
        <p:sp>
          <p:nvSpPr>
            <p:cNvPr id="1727" name=""/>
            <p:cNvSpPr/>
            <p:nvPr/>
          </p:nvSpPr>
          <p:spPr>
            <a:xfrm>
              <a:off x="3132360" y="1954080"/>
              <a:ext cx="9032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|| b || 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477240" y="2373480"/>
              <a:ext cx="724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301920" y="2755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301920" y="3187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01920" y="275580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18560" y="4138560"/>
            <a:ext cx="5107680" cy="1992240"/>
            <a:chOff x="718560" y="4138560"/>
            <a:chExt cx="5107680" cy="1992240"/>
          </a:xfrm>
        </p:grpSpPr>
        <p:sp>
          <p:nvSpPr>
            <p:cNvPr id="1733" name=""/>
            <p:cNvSpPr/>
            <p:nvPr/>
          </p:nvSpPr>
          <p:spPr>
            <a:xfrm>
              <a:off x="718560" y="4138560"/>
              <a:ext cx="442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Needs a small change in the ATG of if stat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6520" y="4545000"/>
              <a:ext cx="504972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FJump(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ode.il.MarkLabel(x.tLabe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x.fLabel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6226200" y="5357880"/>
            <a:ext cx="841320" cy="307080"/>
            <a:chOff x="6226200" y="5357880"/>
            <a:chExt cx="841320" cy="307080"/>
          </a:xfrm>
        </p:grpSpPr>
        <p:sp>
          <p:nvSpPr>
            <p:cNvPr id="1736" name=""/>
            <p:cNvSpPr/>
            <p:nvPr/>
          </p:nvSpPr>
          <p:spPr>
            <a:xfrm flipH="1">
              <a:off x="6750000" y="563868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226200" y="5357880"/>
              <a:ext cx="4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226560" y="5103720"/>
            <a:ext cx="840960" cy="534960"/>
            <a:chOff x="6226560" y="5103720"/>
            <a:chExt cx="840960" cy="534960"/>
          </a:xfrm>
        </p:grpSpPr>
        <p:sp>
          <p:nvSpPr>
            <p:cNvPr id="1739" name=""/>
            <p:cNvSpPr/>
            <p:nvPr/>
          </p:nvSpPr>
          <p:spPr>
            <a:xfrm>
              <a:off x="6864120" y="5270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67520" y="5207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226560" y="510372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6039000" y="5181480"/>
            <a:ext cx="291960" cy="216000"/>
            <a:chOff x="6039000" y="5181480"/>
            <a:chExt cx="291960" cy="216000"/>
          </a:xfrm>
        </p:grpSpPr>
        <p:sp>
          <p:nvSpPr>
            <p:cNvPr id="1743" name=""/>
            <p:cNvSpPr/>
            <p:nvPr/>
          </p:nvSpPr>
          <p:spPr>
            <a:xfrm>
              <a:off x="6039000" y="539748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039000" y="51814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5388840" y="1954080"/>
            <a:ext cx="3666960" cy="3516480"/>
            <a:chOff x="5388840" y="1954080"/>
            <a:chExt cx="3666960" cy="3516480"/>
          </a:xfrm>
        </p:grpSpPr>
        <p:sp>
          <p:nvSpPr>
            <p:cNvPr id="1746" name=""/>
            <p:cNvSpPr/>
            <p:nvPr/>
          </p:nvSpPr>
          <p:spPr>
            <a:xfrm>
              <a:off x="6242040" y="4292640"/>
              <a:ext cx="711000" cy="647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42040" y="3365640"/>
              <a:ext cx="711000" cy="647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242040" y="2438280"/>
              <a:ext cx="711000" cy="648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226560" y="2373480"/>
              <a:ext cx="724680" cy="26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388840" y="1954080"/>
              <a:ext cx="2966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a &amp;&amp; b  ||  c &amp;&amp; d  ||  e &amp;&amp; f) sta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051600" y="41403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051600" y="321300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8640" y="3213000"/>
              <a:ext cx="0" cy="19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73760" y="5079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64120" y="2755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64120" y="36702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64120" y="46227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067520" y="2755800"/>
              <a:ext cx="0" cy="5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270560" y="2451240"/>
              <a:ext cx="127080" cy="250164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65160 h 2501640"/>
                <a:gd name="textAreaBottom" fmla="*/ 2436480 h 25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370280" y="352908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437960" y="4646520"/>
              <a:ext cx="1617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wo un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labels at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nd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6826320" y="331488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067520" y="3670200"/>
              <a:ext cx="0" cy="5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6826320" y="422928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67520" y="462276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F10-915A-48C1-ABBF-FD7C44D37D4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Boolean Express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273720" y="1486080"/>
            <a:ext cx="2679840" cy="4190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324480" y="1536840"/>
            <a:ext cx="11811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09040" y="1536840"/>
            <a:ext cx="11808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14240" y="1096920"/>
            <a:ext cx="548172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d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y; int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!x.type.CompatibleWith(y.typ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type mismatch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x.type.IsRefType() &amp;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!=Token.EQ &amp;&amp; op!=Token.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only equality checks ..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op, x.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22160" y="3817800"/>
            <a:ext cx="547848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d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Fac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&amp;&amp;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FJump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Fac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relop = y.relop; x.tLabel = y.tLabe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22160" y="5046840"/>
            <a:ext cx="5480280" cy="1585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Term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||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TJump(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MarkLabel(x.fLabel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Term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relop = y.relop; x.fLabel = y.fLabe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175520" y="2108160"/>
            <a:ext cx="838080" cy="29466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238880" y="2171880"/>
            <a:ext cx="698760" cy="128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238880" y="3708360"/>
            <a:ext cx="698760" cy="128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302600" y="2235240"/>
            <a:ext cx="5713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302600" y="2959200"/>
            <a:ext cx="5713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302600" y="3772080"/>
            <a:ext cx="5713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302600" y="4495680"/>
            <a:ext cx="5713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248240" y="2195640"/>
            <a:ext cx="69732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gt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g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835760" y="284472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8166240" y="284472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7886880" y="37465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835760" y="436896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8166240" y="4368960"/>
            <a:ext cx="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7048080" y="3594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048440" y="3594240"/>
            <a:ext cx="0" cy="162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362640" y="1600200"/>
            <a:ext cx="368280" cy="19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074000" y="1600200"/>
            <a:ext cx="368280" cy="19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759800" y="1600200"/>
            <a:ext cx="368280" cy="19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470800" y="1600200"/>
            <a:ext cx="368280" cy="19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287040" y="1535040"/>
            <a:ext cx="26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&gt;b  &amp;&amp;  b&gt;c   ||   d&lt;e  &amp;&amp;  e&lt;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ED7-CF98-4E49-9215-E4BBDC6D706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1143000" y="556272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843-030F-44BF-AAD0-BB7F87C981C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cedure Cal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027080" y="1674720"/>
            <a:ext cx="10699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(a, 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142000" y="1687680"/>
            <a:ext cx="8388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51640" y="1662120"/>
            <a:ext cx="30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ameters are passed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84360" y="11937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d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683640" y="2692440"/>
            <a:ext cx="6581160" cy="2203560"/>
            <a:chOff x="683640" y="2692440"/>
            <a:chExt cx="6581160" cy="2203560"/>
          </a:xfrm>
        </p:grpSpPr>
        <p:sp>
          <p:nvSpPr>
            <p:cNvPr id="1802" name=""/>
            <p:cNvSpPr/>
            <p:nvPr/>
          </p:nvSpPr>
          <p:spPr>
            <a:xfrm>
              <a:off x="1012320" y="3097080"/>
              <a:ext cx="6252480" cy="1798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, y; 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tParList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Call(Code.CALL, x.sym.meth, nul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type != Tab.noType) Code.il.Emit(Code.POP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" Expr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&gt; ";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3640" y="269244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933-2D44-42F9-B496-3E82612B98A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unction Cal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022400" y="1674720"/>
            <a:ext cx="1090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 = M(a, 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142000" y="1687680"/>
            <a:ext cx="8388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s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950200" y="230976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unction value is returned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951640" y="1662120"/>
            <a:ext cx="30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ameters are passed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84360" y="11937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d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683640" y="2781360"/>
            <a:ext cx="7828200" cy="3164040"/>
            <a:chOff x="683640" y="2781360"/>
            <a:chExt cx="7828200" cy="3164040"/>
          </a:xfrm>
        </p:grpSpPr>
        <p:sp>
          <p:nvSpPr>
            <p:cNvPr id="1811" name=""/>
            <p:cNvSpPr/>
            <p:nvPr/>
          </p:nvSpPr>
          <p:spPr>
            <a:xfrm>
              <a:off x="965520" y="3294000"/>
              <a:ext cx="7546320" cy="265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tParList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type == Tab.noType) Error("procedure called as a function"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sym == Tab.ordSym || x.sym == Tab.chrSym) ; // nothing to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x.sym == Tab.lenSy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(Code.LDLEN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x.kind == Item.Kinds.Meth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(Code.CALL, x.sym.meth, nul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.kind = Item.Stack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83640" y="278136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6361920" y="1193760"/>
            <a:ext cx="2684160" cy="2007720"/>
            <a:chOff x="6361920" y="1193760"/>
            <a:chExt cx="2684160" cy="2007720"/>
          </a:xfrm>
        </p:grpSpPr>
        <p:sp>
          <p:nvSpPr>
            <p:cNvPr id="1814" name=""/>
            <p:cNvSpPr/>
            <p:nvPr/>
          </p:nvSpPr>
          <p:spPr>
            <a:xfrm>
              <a:off x="6549480" y="158580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rd('x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388560" y="1890720"/>
              <a:ext cx="2657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ParLi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oads 'x'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to 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loaded value gets th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ype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ordSy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=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Typ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kin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tem.Kinds.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361920" y="1193760"/>
              <a:ext cx="20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ndard fun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DB1-0B98-4565-A86C-4858F2A68DF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hod Decla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22520" y="1251000"/>
            <a:ext cx="8381520" cy="555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ethod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 type;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voi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= Tab.no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 = Tab.Insert(Symbol.Kinds.Meth, token.st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openScope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[ FormPars ] ")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nArgs = Tab.topScope.nArg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locals = 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reateMetadat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curMetho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name == "Main"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type != Tab.noType) Error("method Main must be voi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nArgs != 0) Error("method Main must not have parameter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rDecl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.Kinds.Loc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nLocs = Tab.topScope.nLoc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locals = 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ndef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type == Tab.noType) Code.il.Emit(Code.R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{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end of function reached without a return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NEWOBJ, Code.eeexCt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THROW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close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363360" y="1496880"/>
            <a:ext cx="139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3665520" y="1730520"/>
            <a:ext cx="2665440" cy="371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811120" y="6089760"/>
            <a:ext cx="2951280" cy="5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-arg constructo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ExecutionEngineEx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H="1" flipV="1">
            <a:off x="6305400" y="5748480"/>
            <a:ext cx="5040" cy="326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9E6-7BC9-433D-B6B9-08D9F96A69A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ormal Paramet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08840" y="1255680"/>
            <a:ext cx="61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entered into the symbol table (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symbols of the method sco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scope counts their number (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Arg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35120" y="2201760"/>
            <a:ext cx="58291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rmPars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ormPar { "," FormPar }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17120" y="2678040"/>
            <a:ext cx="586548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rmPa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 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Symbol.Kinds.Arg, token.str, typ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CE2-BED3-4BCE-A14C-2E72B8E1731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ctual Paramet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12440" y="1179360"/>
            <a:ext cx="587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them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they are assignment compatible with the formal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the number of actual and formal parameters corresp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07400" y="2201760"/>
            <a:ext cx="8296560" cy="454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ctPa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m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ap; int aPars = 0, fPars = 0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m.kind != Item.Kinds.Meth) { Error("not a method"); m.sym = Tab.noSym; }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Pars = m.sym.nArg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 fp= m.sym.local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p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ap); aPar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fp != null &amp;&amp; fp.kind == Symbol.Kinds.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!ap.type.AssignableTo(fp.type)) Error("parameter type mismatch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p = fp.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," 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p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ap); aPar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fp != null &amp;&amp; fp.kind == Symbol.Kinds.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!ap.type.AssignableTo(fp.type)) Error("parameter type mismatch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p = fp.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Pars &gt; fPars) Error("more actual than formal parameter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aPars &lt; fPars) Error("less actual than formal parameters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)"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ACF-05A2-402D-821C-B83E0AACF91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 Areas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2160" y="130824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etho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6480" y="1708200"/>
            <a:ext cx="424836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ages separate area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6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gument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rg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6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variable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cal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6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pression stack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ach method call has its own method state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 states managed in a stack an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fore also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 frame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059520" y="2720880"/>
            <a:ext cx="507960" cy="598320"/>
            <a:chOff x="6059520" y="2720880"/>
            <a:chExt cx="507960" cy="598320"/>
          </a:xfrm>
        </p:grpSpPr>
        <p:sp>
          <p:nvSpPr>
            <p:cNvPr id="191" name=""/>
            <p:cNvSpPr/>
            <p:nvPr/>
          </p:nvSpPr>
          <p:spPr>
            <a:xfrm>
              <a:off x="6059520" y="3065400"/>
              <a:ext cx="507960" cy="25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48800" y="3063600"/>
              <a:ext cx="30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34040" y="2720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704280" y="2716200"/>
            <a:ext cx="765000" cy="856800"/>
            <a:chOff x="6704280" y="2716200"/>
            <a:chExt cx="765000" cy="856800"/>
          </a:xfrm>
        </p:grpSpPr>
        <p:sp>
          <p:nvSpPr>
            <p:cNvPr id="195" name=""/>
            <p:cNvSpPr/>
            <p:nvPr/>
          </p:nvSpPr>
          <p:spPr>
            <a:xfrm>
              <a:off x="6961320" y="3065400"/>
              <a:ext cx="507960" cy="2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50240" y="3063600"/>
              <a:ext cx="30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5840" y="2720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61320" y="3319200"/>
              <a:ext cx="507960" cy="25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51680" y="3317760"/>
              <a:ext cx="31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04280" y="2716200"/>
              <a:ext cx="7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56840" y="2716200"/>
            <a:ext cx="765000" cy="1111320"/>
            <a:chOff x="7656840" y="2716200"/>
            <a:chExt cx="765000" cy="1111320"/>
          </a:xfrm>
        </p:grpSpPr>
        <p:sp>
          <p:nvSpPr>
            <p:cNvPr id="202" name=""/>
            <p:cNvSpPr/>
            <p:nvPr/>
          </p:nvSpPr>
          <p:spPr>
            <a:xfrm>
              <a:off x="7913880" y="3065760"/>
              <a:ext cx="507960" cy="25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2800" y="3063960"/>
              <a:ext cx="30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88040" y="27212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13880" y="3319560"/>
              <a:ext cx="5079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04240" y="3318120"/>
              <a:ext cx="31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13880" y="3573720"/>
              <a:ext cx="507960" cy="25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02800" y="3571920"/>
              <a:ext cx="30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56840" y="2716200"/>
              <a:ext cx="7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704280" y="2881440"/>
            <a:ext cx="7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56840" y="2881440"/>
            <a:ext cx="7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21880" y="3989520"/>
            <a:ext cx="6514560" cy="2144520"/>
            <a:chOff x="821880" y="3989520"/>
            <a:chExt cx="6514560" cy="2144520"/>
          </a:xfrm>
        </p:grpSpPr>
        <p:sp>
          <p:nvSpPr>
            <p:cNvPr id="213" name=""/>
            <p:cNvSpPr/>
            <p:nvPr/>
          </p:nvSpPr>
          <p:spPr>
            <a:xfrm>
              <a:off x="821880" y="3989520"/>
              <a:ext cx="651456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ach parameter and each local variable occupy a slot of typedependent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es are consecutive number reflecting the order of declaration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arg.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oads the value of the first method argument onto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loc.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oad the value of the third local variable onto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35560" y="5160960"/>
              <a:ext cx="507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r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20720" y="5459400"/>
              <a:ext cx="630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oc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96960" y="5772240"/>
              <a:ext cx="652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51080" y="5788080"/>
              <a:ext cx="1266840" cy="287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47120" y="5200560"/>
              <a:ext cx="945000" cy="28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     1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46760" y="5491080"/>
              <a:ext cx="1044000" cy="2854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  1   2  3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02000" y="54957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30600" y="5487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30400" y="54896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82960" y="519912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31960" y="520704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12800" y="5145120"/>
              <a:ext cx="1962360" cy="9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71200" y="5135400"/>
              <a:ext cx="121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ethod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FB0-137B-4BDB-BA24-AFCEFDD6AE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turn Stat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48440" y="1528920"/>
            <a:ext cx="7214040" cy="286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el brea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tur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type == Tab.noTyp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void method must not return a valu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.AssignableTo(curMethod.typ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type of return value must be assignable to method type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type != Tab.noType) Error("return value expected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RET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;"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F921-0233-4474-8A5E-AD516DE5209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 Areas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2160" y="13082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4600" y="1712880"/>
            <a:ext cx="35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class objects and array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11280" y="2349360"/>
            <a:ext cx="12445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80880" y="2281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39600" y="204300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11280" y="2502000"/>
            <a:ext cx="1244520" cy="279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1280" y="2781360"/>
            <a:ext cx="1244520" cy="190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11280" y="2971800"/>
            <a:ext cx="12445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81240" y="3411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46040" y="297180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7440" y="28274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2880" y="3909960"/>
            <a:ext cx="61243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w objects are allocated at the positi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incremented)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is is done by the CIL instructio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ewobj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ewa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bjects are deallocated by the garbage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01C-4562-4E8E-B2D8-1115617BE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1-21T18:54:48Z</dcterms:modified>
  <cp:revision>735</cp:revision>
  <dc:subject/>
  <dc:title>Javascript-Anweisungen</dc:title>
</cp:coreProperties>
</file>