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160-4B78-4B7F-A6EA-2A35E638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D4A-0D55-43D5-8F24-4FAA726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923-97CD-4B44-A61F-283C3244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C45-A71C-4EF9-81EC-1521618C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6FA-C7B8-4CEC-B46A-65A1AA71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3BB-AF0E-4E55-8BFC-F5620F5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10B-4405-481C-BB3E-CCC03B85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AA9-C0BD-49BA-8B82-BF06713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7BD-23D9-421F-B773-9A2C7B9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AB6-4BBD-4AE8-9580-9C36A04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62D-88D9-4748-B6AE-2917754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4E8-4DA1-42ED-AA97-0FEB1DA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120-B839-4689-899F-C2296AE091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4840" y="250200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0E7-2856-4396-AE03-E4E13DF239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Operator Preced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6560" y="1293840"/>
            <a:ext cx="62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ollowing grammar actually already specifies the operator prec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5520" y="1801800"/>
            <a:ext cx="2489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| expr '+' term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| term '*' factor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| '(' expr ')'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6440" y="1751040"/>
            <a:ext cx="40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'*' has precedence over '+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 are left-associative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*b*c == (a*b)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30080" y="2779560"/>
            <a:ext cx="7962120" cy="3735360"/>
            <a:chOff x="730080" y="2779560"/>
            <a:chExt cx="7962120" cy="3735360"/>
          </a:xfrm>
        </p:grpSpPr>
        <p:sp>
          <p:nvSpPr>
            <p:cNvPr id="145" name=""/>
            <p:cNvSpPr/>
            <p:nvPr/>
          </p:nvSpPr>
          <p:spPr>
            <a:xfrm>
              <a:off x="730080" y="277956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ead, one can also write the following in Yac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53720" y="3224160"/>
              <a:ext cx="4141440" cy="329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le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+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le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*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put: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System.out.println($1.ival); }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: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 = $1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xpr '+'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.ival = $1.ival + $3.ival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xpr '*'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.ival = $1.ival * $3.ival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'(' expr ')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 = $2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7600" y="3397320"/>
              <a:ext cx="3414600" cy="13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le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the operator is left-associative</a:t>
              </a:r>
              <a:br>
                <a:rPr sz="16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+b+c == (a+b)+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tors are declared in ascend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rder of priority: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'*' has precedence over '+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080" y="4951440"/>
              <a:ext cx="332928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does not specify an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tor preced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recedence is rather specified by</a:t>
              </a:r>
              <a:br>
                <a:rPr sz="1600"/>
              </a:b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le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99E-7DAD-4303-9256-C4C4207B3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800" y="12700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6320" y="1636560"/>
            <a:ext cx="585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ertain NTS 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 the user must spec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5000" y="2335320"/>
            <a:ext cx="1473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 </a:t>
            </a:r>
            <a:r>
              <a:rPr b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...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80600" y="2736720"/>
            <a:ext cx="38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arbitrary sequence of T and NT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8280" y="3236760"/>
            <a:ext cx="684684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If there is an error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does the follow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pops states from the stack until it gets to a state in which a shift action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ken is 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skips input tokens until it detects a token sequence which can be reduced to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he stack end now contains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reduc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executes the corresponding 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2160" y="5384880"/>
            <a:ext cx="4719960" cy="937800"/>
            <a:chOff x="722160" y="5384880"/>
            <a:chExt cx="4719960" cy="937800"/>
          </a:xfrm>
        </p:grpSpPr>
        <p:sp>
          <p:nvSpPr>
            <p:cNvPr id="156" name=""/>
            <p:cNvSpPr/>
            <p:nvPr/>
          </p:nvSpPr>
          <p:spPr>
            <a:xfrm>
              <a:off x="722160" y="5384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5040" y="5802480"/>
              <a:ext cx="1349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rror ';'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9040" y="597996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everything up to the next ';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64A-C910-4D0C-BC11-F78D23B28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4840" y="33782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19A-AF9C-4CC5-A342-6DE4C21AF5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ex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canner Genera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57320" y="1598760"/>
            <a:ext cx="417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75 developed at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in form of a D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a Unix tool, today also for 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for C, today also for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ually cooperates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1440" y="4387680"/>
            <a:ext cx="5634000" cy="2304000"/>
            <a:chOff x="721440" y="4387680"/>
            <a:chExt cx="5634000" cy="2304000"/>
          </a:xfrm>
        </p:grpSpPr>
        <p:sp>
          <p:nvSpPr>
            <p:cNvPr id="166" name=""/>
            <p:cNvSpPr/>
            <p:nvPr/>
          </p:nvSpPr>
          <p:spPr>
            <a:xfrm>
              <a:off x="721440" y="4387680"/>
              <a:ext cx="22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jor versions 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7520" y="4817880"/>
              <a:ext cx="5587920" cy="18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f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NU version of Lex (for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gnu.org/software/flex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J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 version with slightly different input syntax;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ompatible with Bison or B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cs.princeton.edu/~appel/modern/java/JLex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s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# version, derived from JL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cybercom.net/~zbrad/DotNet/L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22520" y="2921040"/>
            <a:ext cx="7239600" cy="1415160"/>
            <a:chOff x="722520" y="2921040"/>
            <a:chExt cx="7239600" cy="1415160"/>
          </a:xfrm>
        </p:grpSpPr>
        <p:sp>
          <p:nvSpPr>
            <p:cNvPr id="169" name=""/>
            <p:cNvSpPr/>
            <p:nvPr/>
          </p:nvSpPr>
          <p:spPr>
            <a:xfrm>
              <a:off x="722520" y="29210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1600" y="35035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3880" y="349092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x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7000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4964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6640" y="3503520"/>
              <a:ext cx="11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y.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2640" y="3998880"/>
              <a:ext cx="11498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-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7240" y="3708360"/>
              <a:ext cx="4698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7864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7440" y="401148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1240" y="401148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3880" y="399888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000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964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6640" y="401148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tab.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3876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02920" y="364320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8320" y="3021120"/>
              <a:ext cx="26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we describe the C version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A9C-3313-4233-804E-25980A72F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of a Lex Descrip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5280" y="1281240"/>
            <a:ext cx="6606000" cy="5084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... e.g.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clude directiv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r token numbers exported by the parser ...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acro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li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 \t\n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blank, tab, e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delim}+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{...} ... use of a macro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A-Za-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0-9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letter} ({letter} | {digit})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digit}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 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escribed as regular expression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ws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o act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IF; 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constants like IF are imported from the pars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THEN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ELS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yylval = storeId(yytext, yyleng); return ID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number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yylval = convert(yytext, yyleng); return number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yytext[0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yytext[0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enotes any charact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antic routin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toreId(char* text, int len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convert(char* text, int len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DD-2816-413E-B5E3-9D65BC85E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720" y="1293840"/>
            <a:ext cx="451656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specification is translated into a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ex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is included into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40" y="2449440"/>
            <a:ext cx="489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so returns the token attributes as 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0520" y="2830680"/>
            <a:ext cx="5077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va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attribute if the token has a numeric valu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* yytex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oken text (attribute of ident, string, ...)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eng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lengh of the token tex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ineno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line number of the toke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" y="4189320"/>
            <a:ext cx="39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declares (and exports) toke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360" y="4583160"/>
            <a:ext cx="13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token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token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F71-C544-4E62-9BDC-5E5CD463C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Expressions in Le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3320" y="129528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lements of 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42120" y="1789200"/>
            <a:ext cx="6461280" cy="27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tring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bc"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 every character excep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[]{}*+?|^$.\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itsel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character excep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e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 or more repetitions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 or more repetitions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?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 or 1 occurrence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optional occur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..|...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rouping of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...]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ll characters between the brackets (e.g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A-Za-z0-9$]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 of a 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ne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ne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udd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acter in Uni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840" y="50166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5600" y="5370480"/>
            <a:ext cx="671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recognizes the token with the longest possible character sequence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recognized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not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tries to match the token declarations in sequential order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okens declared first have priority over tokens declared la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8C9-F082-41D4-B895-E5FF0093AF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4840" y="380988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575-4E19-4A7E-9717-F184B5CFCB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Compiler /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Recursive Descent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2000" y="1598760"/>
            <a:ext cx="66913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80 developed at the university of Linz (Rechenberg, Mössenbö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and a parser from an attribute gramma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as a DFA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ursive descent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versions for C#, Java, C/C++, Delphi, Modula-2, Oberon, Python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blished under GPL: http://www.ssw.uni-linz.ac.at/Research/Projects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22520" y="3517920"/>
            <a:ext cx="7158600" cy="2585520"/>
            <a:chOff x="722520" y="3517920"/>
            <a:chExt cx="7158600" cy="2585520"/>
          </a:xfrm>
        </p:grpSpPr>
        <p:sp>
          <p:nvSpPr>
            <p:cNvPr id="207" name=""/>
            <p:cNvSpPr/>
            <p:nvPr/>
          </p:nvSpPr>
          <p:spPr>
            <a:xfrm>
              <a:off x="3924360" y="5232240"/>
              <a:ext cx="86364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38760" y="4597560"/>
              <a:ext cx="8636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2520" y="35179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2800" y="4595760"/>
              <a:ext cx="802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0000" y="4749840"/>
              <a:ext cx="406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45600" y="5230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1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78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1480" y="45957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76280" y="4011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38760" y="4013280"/>
              <a:ext cx="863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7800" y="49276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422240" y="4915080"/>
              <a:ext cx="505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5320" y="4927680"/>
              <a:ext cx="4618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800" y="43434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5640" y="4749840"/>
              <a:ext cx="1320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65640" y="4826160"/>
              <a:ext cx="19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080" y="4826160"/>
              <a:ext cx="0" cy="546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56080" y="5372280"/>
              <a:ext cx="291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29040" y="5522760"/>
              <a:ext cx="18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-suppli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symbol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07240" y="4000680"/>
              <a:ext cx="88920" cy="1562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48440" y="47750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41200" y="4595760"/>
              <a:ext cx="439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7080" y="4443480"/>
              <a:ext cx="91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986-4C8E-4112-B507-5D75E5DB47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" y="1158840"/>
            <a:ext cx="6176160" cy="54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PIL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al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grammar name = start symb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HARACTE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character sets used in token declaration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 '0' .. '9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 = '\t'. cr = '\r'. lf = '\n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all tokens which are not literal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commen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ROM "//" TO cr 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ROM "/*" TO "*/"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GNOR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 cr l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hese characters are ignored as white spac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CALC" Expr&lt;ou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ystem.Console.WriteLine(x); 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+' Term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x +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*' Factor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x *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in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Convert.ToInt32(t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&lt;out x&gt;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Cal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F58-4493-41A2-A63E-5B365376B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ow Compiler Generators Work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6080" y="1257480"/>
            <a:ext cx="623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y generate parts of a compiler from a concis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generated parts e.g.: scanner, parser, code generator, tree optimize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35160" y="2031840"/>
            <a:ext cx="1397160" cy="2738160"/>
            <a:chOff x="3035160" y="2031840"/>
            <a:chExt cx="1397160" cy="2738160"/>
          </a:xfrm>
        </p:grpSpPr>
        <p:sp>
          <p:nvSpPr>
            <p:cNvPr id="48" name=""/>
            <p:cNvSpPr/>
            <p:nvPr/>
          </p:nvSpPr>
          <p:spPr>
            <a:xfrm>
              <a:off x="3035160" y="2031840"/>
              <a:ext cx="1397160" cy="214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22720" y="4189320"/>
              <a:ext cx="94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18640" y="2220840"/>
            <a:ext cx="4782600" cy="969840"/>
            <a:chOff x="818640" y="2220840"/>
            <a:chExt cx="4782600" cy="969840"/>
          </a:xfrm>
        </p:grpSpPr>
        <p:sp>
          <p:nvSpPr>
            <p:cNvPr id="51" name=""/>
            <p:cNvSpPr/>
            <p:nvPr/>
          </p:nvSpPr>
          <p:spPr>
            <a:xfrm>
              <a:off x="1282680" y="2311560"/>
              <a:ext cx="800280" cy="368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8640" y="2658960"/>
              <a:ext cx="20124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regular gramm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29920" y="2220840"/>
              <a:ext cx="10267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20760" y="24764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17840" y="24764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0240" y="230976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19000" y="3414600"/>
            <a:ext cx="4657680" cy="932040"/>
            <a:chOff x="819000" y="3414600"/>
            <a:chExt cx="4657680" cy="932040"/>
          </a:xfrm>
        </p:grpSpPr>
        <p:sp>
          <p:nvSpPr>
            <p:cNvPr id="58" name=""/>
            <p:cNvSpPr/>
            <p:nvPr/>
          </p:nvSpPr>
          <p:spPr>
            <a:xfrm>
              <a:off x="1282680" y="3467160"/>
              <a:ext cx="800280" cy="368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9000" y="3814920"/>
              <a:ext cx="2114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attribute gramm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8120" y="3414600"/>
              <a:ext cx="10267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365760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7840" y="365760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49092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610520" y="2577960"/>
            <a:ext cx="4086000" cy="2731680"/>
            <a:chOff x="4610520" y="2577960"/>
            <a:chExt cx="4086000" cy="2731680"/>
          </a:xfrm>
        </p:grpSpPr>
        <p:sp>
          <p:nvSpPr>
            <p:cNvPr id="65" name=""/>
            <p:cNvSpPr/>
            <p:nvPr/>
          </p:nvSpPr>
          <p:spPr>
            <a:xfrm>
              <a:off x="4610520" y="3998880"/>
              <a:ext cx="15721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ymbol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 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4600" y="3389400"/>
              <a:ext cx="9014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&amp; link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76840" y="257796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24560" y="36576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08840" y="3848040"/>
              <a:ext cx="20304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67480" y="367020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26320" y="3363840"/>
              <a:ext cx="9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833760" y="5067360"/>
            <a:ext cx="6360480" cy="1459440"/>
            <a:chOff x="833760" y="5067360"/>
            <a:chExt cx="6360480" cy="1459440"/>
          </a:xfrm>
        </p:grpSpPr>
        <p:sp>
          <p:nvSpPr>
            <p:cNvPr id="73" name=""/>
            <p:cNvSpPr/>
            <p:nvPr/>
          </p:nvSpPr>
          <p:spPr>
            <a:xfrm>
              <a:off x="836640" y="506736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3760" y="5459400"/>
              <a:ext cx="636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generator for C and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generator for C, Java and 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and parser generator for Java, C#, Modula-2, Oberon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5E1-E2CD-4D3B-B6BF-866FEB507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1800" y="119376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9480" y="1522440"/>
            <a:ext cx="811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have no explici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ir values can be accessed in sem. actions using the following variables declared in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5520" y="2004840"/>
            <a:ext cx="455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ost recently recognized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okahead token (not yet recogn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4400" y="3279600"/>
            <a:ext cx="519876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oke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kind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va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pos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position in the source text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line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co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6680" y="258912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1160" y="2894040"/>
            <a:ext cx="4923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int x&gt; = number    (. x = Convert.ToInt32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.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22160" y="4952880"/>
            <a:ext cx="6854040" cy="1689840"/>
            <a:chOff x="722160" y="4952880"/>
            <a:chExt cx="6854040" cy="1689840"/>
          </a:xfrm>
        </p:grpSpPr>
        <p:sp>
          <p:nvSpPr>
            <p:cNvPr id="241" name=""/>
            <p:cNvSpPr/>
            <p:nvPr/>
          </p:nvSpPr>
          <p:spPr>
            <a:xfrm>
              <a:off x="722160" y="49528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9040" y="5319720"/>
              <a:ext cx="403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 can have any number of inpu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97160" y="5637240"/>
              <a:ext cx="2062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x,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&gt; =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89520" y="5637240"/>
              <a:ext cx="1555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A&lt;y, 'a'&gt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8680" y="6031080"/>
              <a:ext cx="41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 can have any number of outpu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4560" y="6335640"/>
              <a:ext cx="23191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&lt;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x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y&gt; =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79800" y="6335640"/>
              <a:ext cx="17964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B&lt;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z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n&gt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8760" y="5611680"/>
              <a:ext cx="11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mal attr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60040" y="561168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tual attr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B47-7483-4FA2-B945-0BB1A27F2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4760" y="119376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50480" y="1560600"/>
            <a:ext cx="603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Java code between (. and 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occur anywhere in pro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 the left-hand side of a production they are regarded as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24800" y="2492280"/>
            <a:ext cx="3100680" cy="86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*' Factor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= x *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34040" y="3657600"/>
            <a:ext cx="7621920" cy="2961000"/>
            <a:chOff x="734040" y="3657600"/>
            <a:chExt cx="7621920" cy="2961000"/>
          </a:xfrm>
        </p:grpSpPr>
        <p:sp>
          <p:nvSpPr>
            <p:cNvPr id="255" name=""/>
            <p:cNvSpPr/>
            <p:nvPr/>
          </p:nvSpPr>
          <p:spPr>
            <a:xfrm>
              <a:off x="734040" y="3657600"/>
              <a:ext cx="23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2280" y="4049640"/>
              <a:ext cx="528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ccur at the beginning of a compil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used to declare arbitrary fields and methods of the 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ports can also be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0120" y="4930920"/>
              <a:ext cx="2914560" cy="168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ystem.Collection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Lis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yL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ToL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x) {...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54800" y="5243400"/>
              <a:ext cx="3701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course, semantic actions can also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s and methods of classes oth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74240" y="2475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101840" y="2629080"/>
            <a:ext cx="5713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75680" y="286848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368960" y="3022560"/>
            <a:ext cx="3045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C77-8BEE-44A6-9838-03C9AB0603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Parsing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960" y="12826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production is translated into a pars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08720" y="1819440"/>
            <a:ext cx="3045240" cy="86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+'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+=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9160" y="29192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04040" y="3330720"/>
            <a:ext cx="2331000" cy="181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int 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pl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+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A9D-CB98-4720-BC81-A53C3F8F9A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800" y="120492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uses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pecial anch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720" y="168912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2120" y="209376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marked by 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64240" y="2475000"/>
            <a:ext cx="130392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38320" y="2673360"/>
            <a:ext cx="36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.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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SY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error is reported and tokens are ski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.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SYNC)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47360" y="4216320"/>
            <a:ext cx="7003080" cy="2008800"/>
            <a:chOff x="747360" y="4216320"/>
            <a:chExt cx="7003080" cy="2008800"/>
          </a:xfrm>
        </p:grpSpPr>
        <p:sp>
          <p:nvSpPr>
            <p:cNvPr id="275" name=""/>
            <p:cNvSpPr/>
            <p:nvPr/>
          </p:nvSpPr>
          <p:spPr>
            <a:xfrm>
              <a:off x="747360" y="4216320"/>
              <a:ext cx="18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ak separ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9680" y="4646520"/>
              <a:ext cx="607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ors at the beginning of an iteration can be marked as W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66400" y="5065560"/>
              <a:ext cx="125352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alP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"(" Pa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WEA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',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')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43000" y="5256360"/>
              <a:ext cx="480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separator is missing or mistyped, the loop is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ted prematurely, but the parser synchronizes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a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{...}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41200" y="3554280"/>
            <a:ext cx="50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urious error messages are suppressed if less than 3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been recognized since the last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697-A641-4BF7-A787-701B07470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Grammar Tes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2160" y="118116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L(1)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60840" y="1674720"/>
            <a:ext cx="12582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[B] C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 [d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2800" y="1916280"/>
            <a:ext cx="504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A: a is start &amp; successor of deletabl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A: a is start of several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C: d is start &amp; successor of deletabl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5400" y="156060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prints the following wa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2160" y="290844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leteness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43920" y="323676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there a production for every N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2880" y="36831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-redundanc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47520" y="4011480"/>
            <a:ext cx="573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the grammar contain productions which can never be reach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080" y="4419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rivabilit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47520" y="4748040"/>
            <a:ext cx="51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every NTS be derived into a string of terminal symbo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1080" y="51814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-circularit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52200" y="5510160"/>
            <a:ext cx="64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there NTS which can be derived (directly or indirectly) into themselv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062-EC2F-4569-815C-9D44A580DB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Pragma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1320" y="1231920"/>
            <a:ext cx="35182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agma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an occur anywhere in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are not part of the 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must be processed seman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compiler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040" y="2995560"/>
            <a:ext cx="4431240" cy="165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RAG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intOp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$print"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option[print] = tru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bgOp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$debug"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option[debug] = tru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2320" y="4964040"/>
            <a:ext cx="36601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the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$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ccurs in the input text the 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tion[print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E4C-B35D-44B3-B6D9-3C9740D818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The ANY Symb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9640" y="123192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n the declaration of character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24560" y="16495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describes complementary characte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92240" y="2093760"/>
            <a:ext cx="2314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= 'A' .. 'Z' + 'a' .. 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Letter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- let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3680" y="25131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characters which are not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22880" y="3441600"/>
            <a:ext cx="6206400" cy="2088360"/>
            <a:chOff x="722880" y="3441600"/>
            <a:chExt cx="6206400" cy="2088360"/>
          </a:xfrm>
        </p:grpSpPr>
        <p:sp>
          <p:nvSpPr>
            <p:cNvPr id="303" name=""/>
            <p:cNvSpPr/>
            <p:nvPr/>
          </p:nvSpPr>
          <p:spPr>
            <a:xfrm>
              <a:off x="722880" y="344160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prod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74600" y="3909960"/>
              <a:ext cx="585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describes any tokens which cannot be matched by other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3400" y="4367160"/>
              <a:ext cx="23540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laceHo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N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94760" y="5218200"/>
              <a:ext cx="2459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emAction = "(." {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NY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".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08280" y="476100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which is no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06480" y="5192640"/>
              <a:ext cx="282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which is no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.)"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67B-BCBF-40D2-BE0D-E2F7609F1D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flict Resolu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0720" y="130824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a multi-symbol look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7400" y="1839960"/>
            <a:ext cx="30992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IsAssignment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(" ActualParams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34360" y="1839960"/>
            <a:ext cx="374076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ea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sAssign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x = 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x.kind != _assign &amp;&amp; x.kind != _lp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canner.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x.kind == _as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00880" y="3274920"/>
            <a:ext cx="415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canner.Peek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ahead without rem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s from the input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19640" y="4280040"/>
            <a:ext cx="7459200" cy="2091960"/>
            <a:chOff x="719640" y="4280040"/>
            <a:chExt cx="7459200" cy="2091960"/>
          </a:xfrm>
        </p:grpSpPr>
        <p:sp>
          <p:nvSpPr>
            <p:cNvPr id="315" name=""/>
            <p:cNvSpPr/>
            <p:nvPr/>
          </p:nvSpPr>
          <p:spPr>
            <a:xfrm>
              <a:off x="719640" y="4280040"/>
              <a:ext cx="401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flict resolution by a semantic ch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9560" y="4786200"/>
              <a:ext cx="35985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=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Courier New"/>
                </a:rPr>
                <a:t>IF (IsCast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'(' ident ')' Fact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/* type cast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|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'(' Expr ')'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* nested expression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| ...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36880" y="4786200"/>
              <a:ext cx="34419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oolea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Cas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Token x = 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Courier New"/>
                </a:rPr>
                <a:t>Scanner.Pee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if (x.kind == _iden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ymbol s = Tab.Find(x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return s.kind == Symbol.Kinds.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 else return false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704120" y="3808440"/>
            <a:ext cx="40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nam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_assig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_lp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 are gener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rom the TOKENS 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51D-3052-454B-81FC-C1F61CDA46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Frame Fi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160" y="1268280"/>
            <a:ext cx="64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and the parser are generated from frame files (ordinary text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" y="1623960"/>
            <a:ext cx="176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Scanner.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600" y="2017800"/>
            <a:ext cx="454392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Scann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char EOL = '\n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 eofSy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decl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oken NextToke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ignore[ch]) 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sca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new Toke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pos = pos; t.col = pos - lineStart + 1; t.line = lin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tate = start[ch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Builder buf = new StringBuilder(16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sca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235240" y="2832120"/>
            <a:ext cx="32385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49760" y="2639880"/>
            <a:ext cx="18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insert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se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53360" y="3795840"/>
            <a:ext cx="286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modifying the fram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and the parser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apted to user nee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o a certain deg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BE8-9815-4C1D-A1F7-42A7E4009D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Interfac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5120" y="11304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4760" y="30351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3680" y="472428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messag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77840" y="1463760"/>
            <a:ext cx="501336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can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ing sourceFile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eam s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ca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ResetP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77840" y="3368520"/>
            <a:ext cx="5016600" cy="12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ars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ar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em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5240" y="5057640"/>
            <a:ext cx="5056200" cy="162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str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Msg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= "-- line {0} col {1}: {2}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yn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em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string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string msg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D3B-4F3F-486D-8DFB-2776483FB3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4840" y="29210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53E-A8A2-4559-A654-05C62F6DB2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- Yet another compiler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68040" y="1598760"/>
            <a:ext cx="517140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75 developed at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ogether with C and U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LALR(1)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under Unix, today also under Windows,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for C, today also for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22520" y="2921040"/>
            <a:ext cx="6716160" cy="907200"/>
            <a:chOff x="722520" y="2921040"/>
            <a:chExt cx="6716160" cy="907200"/>
          </a:xfrm>
        </p:grpSpPr>
        <p:sp>
          <p:nvSpPr>
            <p:cNvPr id="82" name=""/>
            <p:cNvSpPr/>
            <p:nvPr/>
          </p:nvSpPr>
          <p:spPr>
            <a:xfrm>
              <a:off x="722520" y="29210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1240" y="350352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3880" y="349092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7000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4964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27000" y="3503520"/>
              <a:ext cx="106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2960" y="3490920"/>
              <a:ext cx="6091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9908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52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93160" y="350352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21080" y="4241880"/>
            <a:ext cx="4915800" cy="1675440"/>
            <a:chOff x="721080" y="4241880"/>
            <a:chExt cx="4915800" cy="1675440"/>
          </a:xfrm>
        </p:grpSpPr>
        <p:sp>
          <p:nvSpPr>
            <p:cNvPr id="93" name=""/>
            <p:cNvSpPr/>
            <p:nvPr/>
          </p:nvSpPr>
          <p:spPr>
            <a:xfrm>
              <a:off x="721080" y="424188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jor Java versions 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5360" y="4773600"/>
              <a:ext cx="487152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is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NU version of 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gnu.org/software/bison/bison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ya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rkeley 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byaccj.sourceforge.ne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748680" y="3021120"/>
            <a:ext cx="29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 describe the Java vers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4D7-D303-4CB8-8AEB-83ED2CB0C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Input Langu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5520" y="13460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eneral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36800" y="1776240"/>
            <a:ext cx="34542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 Java package and import lines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acc decla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tokens, operator precedence rule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ava declarations (fields, metho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50920" y="1878120"/>
            <a:ext cx="3783960" cy="1372680"/>
            <a:chOff x="4750920" y="1878120"/>
            <a:chExt cx="3783960" cy="1372680"/>
          </a:xfrm>
        </p:grpSpPr>
        <p:sp>
          <p:nvSpPr>
            <p:cNvPr id="100" name=""/>
            <p:cNvSpPr/>
            <p:nvPr/>
          </p:nvSpPr>
          <p:spPr>
            <a:xfrm>
              <a:off x="6366960" y="1878120"/>
              <a:ext cx="216792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parser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yypar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2451240"/>
              <a:ext cx="1105200" cy="139680"/>
            </a:xfrm>
            <a:prstGeom prst="rightArrow">
              <a:avLst>
                <a:gd name="adj1" fmla="val 50000"/>
                <a:gd name="adj2" fmla="val 1978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0920" y="210672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ranslated i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B8C-1441-4ABD-9BC6-5DFCDA16B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Productions and Sem.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6960" y="12574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1680" y="1725480"/>
            <a:ext cx="42242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Production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T ":" Alternative {"|" Alternative}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NT | T} [SemAction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{"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 Java state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charC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6680" y="321156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3280" y="3567240"/>
            <a:ext cx="44618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$$ = $1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 '+' 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$$.ival = $1.ival + $3.ival; 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6600" y="4406760"/>
            <a:ext cx="5610960" cy="1953000"/>
            <a:chOff x="696600" y="4406760"/>
            <a:chExt cx="5610960" cy="1953000"/>
          </a:xfrm>
        </p:grpSpPr>
        <p:sp>
          <p:nvSpPr>
            <p:cNvPr id="109" name=""/>
            <p:cNvSpPr/>
            <p:nvPr/>
          </p:nvSpPr>
          <p:spPr>
            <a:xfrm>
              <a:off x="696600" y="44067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2320" y="4773600"/>
              <a:ext cx="38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contain arbitrary Java stat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only occur at the end of an 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are denoted by special nam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2640" y="5535720"/>
              <a:ext cx="534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of the left-hand side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of the right-hand side symbo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attr. of first symbol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attr. of second symbol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0A3-E57C-45AE-A206-FE7912CCA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3680" y="11811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6640" y="1547640"/>
            <a:ext cx="710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delivered by the scanner (scanner is either hand-written or generated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token has an attribut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99320" y="2190600"/>
            <a:ext cx="5950440" cy="216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if the token should have an int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if the token should have a double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, e.g. for ident and 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for more complex 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int val) {...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ru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double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String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Obj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3400" y="4354560"/>
            <a:ext cx="53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returns the attributes in the global variab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5960" y="46720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2640" y="4976640"/>
            <a:ext cx="22122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ylval = new parserval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9560" y="467208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cess in a sem.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34040" y="4976640"/>
            <a:ext cx="13190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... $1.ival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4040" y="5499000"/>
            <a:ext cx="7769160" cy="1229040"/>
            <a:chOff x="734040" y="5499000"/>
            <a:chExt cx="7769160" cy="1229040"/>
          </a:xfrm>
        </p:grpSpPr>
        <p:sp>
          <p:nvSpPr>
            <p:cNvPr id="122" name=""/>
            <p:cNvSpPr/>
            <p:nvPr/>
          </p:nvSpPr>
          <p:spPr>
            <a:xfrm>
              <a:off x="734040" y="5499000"/>
              <a:ext cx="26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12320" y="5853240"/>
              <a:ext cx="74908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NTS has an attribut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serva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more complex values stored i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.ob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assignment t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ushes the NTS attribute onto an attribute stack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esses t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op the attribute from the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82C-A36B-451C-A026-A46E1DB17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Java Variables and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60" y="1344600"/>
            <a:ext cx="29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declared after the second %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9600" y="1839960"/>
            <a:ext cx="21650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Java 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52320" y="3073320"/>
            <a:ext cx="520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66400" y="2894040"/>
            <a:ext cx="365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 fields and methods of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accessed in semantic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000" y="3808440"/>
            <a:ext cx="64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least the following methods must be implemented in the Java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6320" y="4303800"/>
            <a:ext cx="3273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60320" y="4278240"/>
            <a:ext cx="23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printing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4773600"/>
            <a:ext cx="32814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l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62840" y="4748040"/>
            <a:ext cx="396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(yields token numbers and fill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v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5268960"/>
            <a:ext cx="328140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initializations for yylex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y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57800" y="52308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169-0B3C-4EC7-B5F0-DB77C3AEE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4360" y="1370160"/>
            <a:ext cx="4141440" cy="47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all tokens which are not string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productions: first NTS is the start symb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put: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System.out.println($1.ival)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: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expr '+'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.ival = $1.ival + $3.ival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: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term '*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.ival = $1.ival * $3.ival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: 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2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l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040" y="13334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oken numbering 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4840" y="1662120"/>
            <a:ext cx="327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number of characters is thei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cii value (e.g. '+' == 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YERRCODE == 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 tokens are numbered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ecutively starting with 257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257)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y can be accessed in produc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using their declar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2A5-DA94-4F91-8C4F-3F9DB766CF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Gogo</cp:lastModifiedBy>
  <cp:lastPrinted>2001-09-28T08:52:55Z</cp:lastPrinted>
  <dcterms:modified xsi:type="dcterms:W3CDTF">2004-09-23T15:25:12Z</dcterms:modified>
  <cp:revision>595</cp:revision>
  <dc:subject/>
  <dc:title>Javascript-Anweisungen</dc:title>
</cp:coreProperties>
</file>