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2465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1808-41CF-4801-BAF7-3FB24EE52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1F48-4CC9-44AB-B982-347D4172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055C-551F-48C9-89FE-C8878E2FA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6E96-14AB-47D9-80D2-78EAEFF2D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90C3-3546-4ACA-9EE7-8D49964A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77D8-5131-4AF4-8FCD-BC21B7F5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58DB-DC3D-409D-81EF-3EB50405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A801-D22B-4F32-A4A8-DD92E8E7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6858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4418-3122-4002-8B3B-A25D3102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1242-E0A7-4FC2-8471-58AF1C98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3BB9-7AB2-44BD-A12C-770C91B0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BB6D-DEFE-4648-967A-D4CFD69D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0D70-58FF-4FB9-BAF8-872F7519F1B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21560" y="533520"/>
            <a:ext cx="83664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43000" y="2489040"/>
            <a:ext cx="6730920" cy="4194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15320" y="1835280"/>
            <a:ext cx="60512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Lexic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2.1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Tasks of a 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Regular Grammars and Finite Auto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canner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7F35-92FB-4E2F-A569-61E9D19751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The Scanner as a DFA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9320" y="1193760"/>
            <a:ext cx="393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The scanner can be viewed as a big DF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2082960"/>
            <a:ext cx="254160" cy="253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53440" y="20937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34680" y="1763640"/>
            <a:ext cx="19116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" 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90" idx="6"/>
            <a:endCxn id="190" idx="0"/>
          </p:cNvCxnSpPr>
          <p:nvPr/>
        </p:nvCxnSpPr>
        <p:spPr>
          <a:xfrm flipH="1" flipV="1">
            <a:off x="1193040" y="2082600"/>
            <a:ext cx="127800" cy="127440"/>
          </a:xfrm>
          <a:prstGeom prst="curvedConnector5">
            <a:avLst>
              <a:gd name="adj1" fmla="val -179943"/>
              <a:gd name="adj2" fmla="val 139943"/>
              <a:gd name="adj3" fmla="val -1799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2476440" y="2082960"/>
            <a:ext cx="279360" cy="279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75800" y="2106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94" idx="6"/>
            <a:endCxn id="195" idx="0"/>
          </p:cNvCxnSpPr>
          <p:nvPr/>
        </p:nvCxnSpPr>
        <p:spPr>
          <a:xfrm flipH="1" flipV="1">
            <a:off x="2620440" y="2106360"/>
            <a:ext cx="154800" cy="116640"/>
          </a:xfrm>
          <a:prstGeom prst="curvedConnector5">
            <a:avLst>
              <a:gd name="adj1" fmla="val -135897"/>
              <a:gd name="adj2" fmla="val 158823"/>
              <a:gd name="adj3" fmla="val -13589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4" idx="6"/>
            <a:endCxn id="194" idx="4"/>
          </p:cNvCxnSpPr>
          <p:nvPr/>
        </p:nvCxnSpPr>
        <p:spPr>
          <a:xfrm flipH="1">
            <a:off x="2615400" y="2222280"/>
            <a:ext cx="159480" cy="159480"/>
          </a:xfrm>
          <a:prstGeom prst="curvedConnector5">
            <a:avLst>
              <a:gd name="adj1" fmla="val -131900"/>
              <a:gd name="adj2" fmla="val 115837"/>
              <a:gd name="adj3" fmla="val -1319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1333440" y="2209680"/>
            <a:ext cx="113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10720" y="2004840"/>
            <a:ext cx="369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le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93400" y="1789200"/>
            <a:ext cx="369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le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92680" y="2398680"/>
            <a:ext cx="33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dig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76440" y="2870280"/>
            <a:ext cx="279360" cy="279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75800" y="2894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06360" y="2997360"/>
            <a:ext cx="125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10000" y="2792520"/>
            <a:ext cx="33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dig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81600" y="2881440"/>
            <a:ext cx="33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dig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202" idx="5"/>
            <a:endCxn id="202" idx="7"/>
          </p:cNvCxnSpPr>
          <p:nvPr/>
        </p:nvCxnSpPr>
        <p:spPr>
          <a:xfrm flipH="1" flipV="1" rot="5400000">
            <a:off x="2597760" y="3008880"/>
            <a:ext cx="235440" cy="2160"/>
          </a:xfrm>
          <a:prstGeom prst="curvedConnector5">
            <a:avLst>
              <a:gd name="adj1" fmla="val -20826"/>
              <a:gd name="adj2" fmla="val 10380000"/>
              <a:gd name="adj3" fmla="val -208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1193760" y="23367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76440" y="3594240"/>
            <a:ext cx="279360" cy="279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75800" y="36180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06360" y="3720960"/>
            <a:ext cx="125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12160" y="349092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76440" y="4343400"/>
            <a:ext cx="279360" cy="279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75800" y="43671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06360" y="4470480"/>
            <a:ext cx="125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12520" y="4240080"/>
            <a:ext cx="10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76720" y="4343400"/>
            <a:ext cx="279360" cy="279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375720" y="43671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755800" y="4483080"/>
            <a:ext cx="507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93680" y="4240080"/>
            <a:ext cx="10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53360" y="4722840"/>
            <a:ext cx="3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948120" y="1778040"/>
            <a:ext cx="1920240" cy="685800"/>
            <a:chOff x="3948120" y="1778040"/>
            <a:chExt cx="1920240" cy="685800"/>
          </a:xfrm>
        </p:grpSpPr>
        <p:sp>
          <p:nvSpPr>
            <p:cNvPr id="223" name=""/>
            <p:cNvSpPr/>
            <p:nvPr/>
          </p:nvSpPr>
          <p:spPr>
            <a:xfrm>
              <a:off x="3948120" y="177804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10920" y="209556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put:</a:t>
              </a: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max  &gt;=  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214160" y="2602080"/>
            <a:ext cx="4127760" cy="656640"/>
            <a:chOff x="4214160" y="2602080"/>
            <a:chExt cx="4127760" cy="656640"/>
          </a:xfrm>
        </p:grpSpPr>
        <p:sp>
          <p:nvSpPr>
            <p:cNvPr id="226" name=""/>
            <p:cNvSpPr/>
            <p:nvPr/>
          </p:nvSpPr>
          <p:spPr>
            <a:xfrm>
              <a:off x="4214160" y="270360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84600" y="28576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44560" y="270360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644720" y="2602080"/>
              <a:ext cx="61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m a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30920" y="2678040"/>
              <a:ext cx="2511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o transition with " " in 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den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recogniz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214160" y="3325680"/>
            <a:ext cx="4348440" cy="1143720"/>
            <a:chOff x="4214160" y="3325680"/>
            <a:chExt cx="4348440" cy="1143720"/>
          </a:xfrm>
        </p:grpSpPr>
        <p:sp>
          <p:nvSpPr>
            <p:cNvPr id="232" name=""/>
            <p:cNvSpPr/>
            <p:nvPr/>
          </p:nvSpPr>
          <p:spPr>
            <a:xfrm>
              <a:off x="4645800" y="332568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gt;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14160" y="342756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84600" y="35812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344560" y="342756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829120" y="3402000"/>
              <a:ext cx="2733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kips blanks at the begin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does not stop in s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o transition with " " in s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geq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recogniz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214160" y="4506840"/>
            <a:ext cx="4348440" cy="900360"/>
            <a:chOff x="4214160" y="4506840"/>
            <a:chExt cx="4348440" cy="900360"/>
          </a:xfrm>
        </p:grpSpPr>
        <p:sp>
          <p:nvSpPr>
            <p:cNvPr id="238" name=""/>
            <p:cNvSpPr/>
            <p:nvPr/>
          </p:nvSpPr>
          <p:spPr>
            <a:xfrm>
              <a:off x="4214160" y="460836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84600" y="47624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44560" y="460836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645440" y="45068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3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829120" y="4583160"/>
              <a:ext cx="2733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kips blanks at the begin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o transition with " " in 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number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recogniz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765360" y="5816520"/>
            <a:ext cx="55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After every recognized token the scanner starts in s0 a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67920" y="227160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ff0000"/>
                </a:solidFill>
                <a:latin typeface="Times New Roman"/>
              </a:rPr>
              <a:t>i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396160" y="3135240"/>
            <a:ext cx="54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ff0000"/>
                </a:solidFill>
                <a:latin typeface="Times New Roman"/>
              </a:rPr>
              <a:t>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72840" y="3859200"/>
            <a:ext cx="300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ff0000"/>
                </a:solidFill>
                <a:latin typeface="Times New Roman"/>
              </a:rPr>
              <a:t>lp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460600" y="4633920"/>
            <a:ext cx="210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ff0000"/>
                </a:solidFill>
                <a:latin typeface="Times New Roman"/>
              </a:rPr>
              <a:t>gt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48280" y="4633920"/>
            <a:ext cx="259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ff0000"/>
                </a:solidFill>
                <a:latin typeface="Times New Roman"/>
              </a:rPr>
              <a:t>ge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3C54-B8D4-4054-8265-BF9F2506FA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Transformation: reg. grammar </a:t>
            </a:r>
            <a:r>
              <a:rPr b="0" i="1" lang="de-AT" sz="3200" spc="-1" strike="noStrike">
                <a:solidFill>
                  <a:srgbClr val="3333cc"/>
                </a:solidFill>
                <a:latin typeface="MT Symbol"/>
                <a:ea typeface="MT Symbol"/>
              </a:rPr>
              <a:t>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 DFA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5680" y="1384200"/>
            <a:ext cx="82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 reg. grammar can be transformed into a DFA according to the following sch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13840" y="1941480"/>
            <a:ext cx="83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b 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175120" y="1924200"/>
            <a:ext cx="2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30600" y="1981080"/>
            <a:ext cx="253800" cy="254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05120" y="19922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16400" y="1981080"/>
            <a:ext cx="253800" cy="254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490920" y="19922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84400" y="2108160"/>
            <a:ext cx="41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1920" y="19033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114200" y="241128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175120" y="2394000"/>
            <a:ext cx="2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30600" y="2451240"/>
            <a:ext cx="253800" cy="253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05120" y="2462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984400" y="2577960"/>
            <a:ext cx="41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1920" y="23734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16400" y="2463840"/>
            <a:ext cx="596880" cy="26676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52480" y="2475000"/>
            <a:ext cx="300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722160" y="3187800"/>
            <a:ext cx="4696560" cy="1557000"/>
            <a:chOff x="722160" y="3187800"/>
            <a:chExt cx="4696560" cy="1557000"/>
          </a:xfrm>
        </p:grpSpPr>
        <p:sp>
          <p:nvSpPr>
            <p:cNvPr id="268" name=""/>
            <p:cNvSpPr/>
            <p:nvPr/>
          </p:nvSpPr>
          <p:spPr>
            <a:xfrm>
              <a:off x="722160" y="318780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975600" y="3643200"/>
              <a:ext cx="93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gramm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72800" y="4011480"/>
              <a:ext cx="1482120" cy="73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a B | b C | 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 = b B | 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 = a C | 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366440" y="3643200"/>
              <a:ext cx="105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utoma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987720" y="4290840"/>
            <a:ext cx="1917720" cy="1424160"/>
            <a:chOff x="3987720" y="4290840"/>
            <a:chExt cx="1917720" cy="1424160"/>
          </a:xfrm>
        </p:grpSpPr>
        <p:sp>
          <p:nvSpPr>
            <p:cNvPr id="273" name=""/>
            <p:cNvSpPr/>
            <p:nvPr/>
          </p:nvSpPr>
          <p:spPr>
            <a:xfrm>
              <a:off x="3987720" y="4368960"/>
              <a:ext cx="254160" cy="253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62240" y="43797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737240" y="4368960"/>
              <a:ext cx="253800" cy="253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811760" y="43797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41880" y="4495680"/>
              <a:ext cx="4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79760" y="429084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37240" y="4965840"/>
              <a:ext cx="253800" cy="253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811760" y="49766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127400" y="5092560"/>
              <a:ext cx="58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379040" y="4888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308560" y="5448240"/>
              <a:ext cx="596880" cy="26676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44640" y="5459400"/>
              <a:ext cx="300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st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14800" y="4622760"/>
              <a:ext cx="0" cy="96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114800" y="5587920"/>
              <a:ext cx="118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379760" y="537048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4772880" y="4646520"/>
            <a:ext cx="726120" cy="789120"/>
            <a:chOff x="4772880" y="4646520"/>
            <a:chExt cx="726120" cy="789120"/>
          </a:xfrm>
        </p:grpSpPr>
        <p:cxnSp>
          <p:nvCxnSpPr>
            <p:cNvPr id="289" name=""/>
            <p:cNvCxnSpPr>
              <a:stCxn id="279" idx="7"/>
              <a:endCxn id="279" idx="1"/>
            </p:cNvCxnSpPr>
            <p:nvPr/>
          </p:nvCxnSpPr>
          <p:spPr>
            <a:xfrm rot="5400000">
              <a:off x="4862520" y="4912200"/>
              <a:ext cx="2160" cy="181800"/>
            </a:xfrm>
            <a:prstGeom prst="curvedConnector5">
              <a:avLst>
                <a:gd name="adj1" fmla="val -16700000"/>
                <a:gd name="adj2" fmla="val 50000"/>
                <a:gd name="adj3" fmla="val -167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4951080" y="464652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991040" y="5092560"/>
              <a:ext cx="50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99000" y="509256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28920" y="488808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4772880" y="4049640"/>
            <a:ext cx="903960" cy="1386000"/>
            <a:chOff x="4772880" y="4049640"/>
            <a:chExt cx="903960" cy="1386000"/>
          </a:xfrm>
        </p:grpSpPr>
        <p:cxnSp>
          <p:nvCxnSpPr>
            <p:cNvPr id="295" name=""/>
            <p:cNvCxnSpPr>
              <a:stCxn id="275" idx="7"/>
              <a:endCxn id="275" idx="1"/>
            </p:cNvCxnSpPr>
            <p:nvPr/>
          </p:nvCxnSpPr>
          <p:spPr>
            <a:xfrm rot="5400000">
              <a:off x="4862520" y="4315320"/>
              <a:ext cx="2160" cy="181800"/>
            </a:xfrm>
            <a:prstGeom prst="curvedConnector5">
              <a:avLst>
                <a:gd name="adj1" fmla="val -16700000"/>
                <a:gd name="adj2" fmla="val 50000"/>
                <a:gd name="adj3" fmla="val -167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6" name=""/>
            <p:cNvSpPr/>
            <p:nvPr/>
          </p:nvSpPr>
          <p:spPr>
            <a:xfrm>
              <a:off x="4950720" y="4049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676840" y="4495680"/>
              <a:ext cx="0" cy="93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03640" y="4495680"/>
              <a:ext cx="67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192640" y="427824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3517920" y="4025880"/>
            <a:ext cx="4216320" cy="231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F390-0EE3-486F-8BEC-F5204BD499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800" spc="-1" strike="noStrike">
                <a:solidFill>
                  <a:srgbClr val="3333cc"/>
                </a:solidFill>
                <a:latin typeface="Times New Roman"/>
              </a:rPr>
              <a:t>Nondeterministic Finite Automaton (NDFA)</a:t>
            </a:r>
            <a:endParaRPr b="0" i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9560" y="132084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94240" y="1981080"/>
            <a:ext cx="253800" cy="254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680640" y="19922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0920" y="1968480"/>
            <a:ext cx="279360" cy="279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60280" y="19922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48040" y="2108160"/>
            <a:ext cx="800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046760" y="1903320"/>
            <a:ext cx="33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dig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660920" y="2451240"/>
            <a:ext cx="254160" cy="253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47320" y="2462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733920" y="25779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46760" y="2373480"/>
            <a:ext cx="33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dig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720960" y="223524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5" idx="5"/>
            <a:endCxn id="305" idx="7"/>
          </p:cNvCxnSpPr>
          <p:nvPr/>
        </p:nvCxnSpPr>
        <p:spPr>
          <a:xfrm flipH="1" flipV="1" rot="5400000">
            <a:off x="4781160" y="2106720"/>
            <a:ext cx="235440" cy="2520"/>
          </a:xfrm>
          <a:prstGeom prst="curvedConnector5">
            <a:avLst>
              <a:gd name="adj1" fmla="val -20214"/>
              <a:gd name="adj2" fmla="val 9683333"/>
              <a:gd name="adj3" fmla="val -202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>
            <a:off x="5253480" y="1979640"/>
            <a:ext cx="33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dig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6" name=""/>
          <p:cNvCxnSpPr>
            <a:stCxn id="309" idx="5"/>
            <a:endCxn id="309" idx="3"/>
          </p:cNvCxnSpPr>
          <p:nvPr/>
        </p:nvCxnSpPr>
        <p:spPr>
          <a:xfrm rot="5400000">
            <a:off x="4786200" y="2578680"/>
            <a:ext cx="2160" cy="181800"/>
          </a:xfrm>
          <a:prstGeom prst="curvedConnector5">
            <a:avLst>
              <a:gd name="adj1" fmla="val 9380000"/>
              <a:gd name="adj2" fmla="val 50000"/>
              <a:gd name="adj3" fmla="val 93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4670640" y="2817720"/>
            <a:ext cx="259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h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940280" y="2577960"/>
            <a:ext cx="44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065560" y="23734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97480" y="2451240"/>
            <a:ext cx="279360" cy="279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96840" y="24750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81000" y="1712880"/>
            <a:ext cx="52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ff0000"/>
                </a:solidFill>
                <a:latin typeface="Times New Roman"/>
              </a:rPr>
              <a:t>intN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293440" y="2716200"/>
            <a:ext cx="58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ff0000"/>
                </a:solidFill>
                <a:latin typeface="Times New Roman"/>
              </a:rPr>
              <a:t>hexN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04240" y="1890720"/>
            <a:ext cx="249516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Num 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igit { digit 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hexNum 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igit { hex } "H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igit 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0" | "1" | ... | "9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hex 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igit | "A" | ... | "F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39520" y="1865160"/>
            <a:ext cx="2651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ondeterministic beca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re are 2 possible trans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digi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in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707040" y="3594240"/>
            <a:ext cx="5761440" cy="1888200"/>
            <a:chOff x="707040" y="3594240"/>
            <a:chExt cx="5761440" cy="1888200"/>
          </a:xfrm>
        </p:grpSpPr>
        <p:sp>
          <p:nvSpPr>
            <p:cNvPr id="327" name=""/>
            <p:cNvSpPr/>
            <p:nvPr/>
          </p:nvSpPr>
          <p:spPr>
            <a:xfrm>
              <a:off x="707040" y="3594240"/>
              <a:ext cx="57614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very NDFA can be transformed into an equivalent DF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algorithm see for example: Aho, Sethi, Ullman: Compiler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092240" y="4902120"/>
              <a:ext cx="253800" cy="254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78640" y="4913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58920" y="4889520"/>
              <a:ext cx="279360" cy="279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58280" y="4913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346040" y="5029200"/>
              <a:ext cx="80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44760" y="4824360"/>
              <a:ext cx="331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dig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784680" y="4915080"/>
              <a:ext cx="253800" cy="253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871080" y="4925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451240" y="5041800"/>
              <a:ext cx="132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628000" y="4836960"/>
              <a:ext cx="922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A,B,C,D,E,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129040" y="5268960"/>
              <a:ext cx="331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dig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9" name=""/>
            <p:cNvCxnSpPr>
              <a:stCxn id="334" idx="5"/>
              <a:endCxn id="334" idx="3"/>
            </p:cNvCxnSpPr>
            <p:nvPr/>
          </p:nvCxnSpPr>
          <p:spPr>
            <a:xfrm rot="5400000">
              <a:off x="3909960" y="5042520"/>
              <a:ext cx="2160" cy="181800"/>
            </a:xfrm>
            <a:prstGeom prst="curvedConnector5">
              <a:avLst>
                <a:gd name="adj1" fmla="val 9280000"/>
                <a:gd name="adj2" fmla="val 50000"/>
                <a:gd name="adj3" fmla="val 928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0" name=""/>
            <p:cNvSpPr/>
            <p:nvPr/>
          </p:nvSpPr>
          <p:spPr>
            <a:xfrm>
              <a:off x="3794400" y="5256360"/>
              <a:ext cx="25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h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064040" y="50418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189320" y="4836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21240" y="4915080"/>
              <a:ext cx="279360" cy="279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20600" y="4938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926720" y="4633920"/>
              <a:ext cx="52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400" spc="-1" strike="noStrike">
                  <a:solidFill>
                    <a:srgbClr val="ff0000"/>
                  </a:solidFill>
                  <a:latin typeface="Times New Roman"/>
                </a:rPr>
                <a:t>intN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17200" y="5180040"/>
              <a:ext cx="58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400" spc="-1" strike="noStrike">
                  <a:solidFill>
                    <a:srgbClr val="ff0000"/>
                  </a:solidFill>
                  <a:latin typeface="Times New Roman"/>
                </a:rPr>
                <a:t>hexN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7" name=""/>
            <p:cNvCxnSpPr>
              <a:stCxn id="330" idx="5"/>
              <a:endCxn id="330" idx="3"/>
            </p:cNvCxnSpPr>
            <p:nvPr/>
          </p:nvCxnSpPr>
          <p:spPr>
            <a:xfrm rot="5400000">
              <a:off x="2297160" y="5048640"/>
              <a:ext cx="2520" cy="197640"/>
            </a:xfrm>
            <a:prstGeom prst="curvedConnector5">
              <a:avLst>
                <a:gd name="adj1" fmla="val 9283333"/>
                <a:gd name="adj2" fmla="val 50000"/>
                <a:gd name="adj3" fmla="val 92833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8" name=""/>
            <p:cNvCxnSpPr>
              <a:stCxn id="330" idx="7"/>
              <a:endCxn id="343" idx="1"/>
            </p:cNvCxnSpPr>
            <p:nvPr/>
          </p:nvCxnSpPr>
          <p:spPr>
            <a:xfrm flipH="1" rot="16200000">
              <a:off x="3467160" y="3841560"/>
              <a:ext cx="25920" cy="2166120"/>
            </a:xfrm>
            <a:prstGeom prst="curvedConnector5">
              <a:avLst>
                <a:gd name="adj1" fmla="val -987323"/>
                <a:gd name="adj2" fmla="val 50000"/>
                <a:gd name="adj3" fmla="val -98732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9" name=""/>
            <p:cNvSpPr/>
            <p:nvPr/>
          </p:nvSpPr>
          <p:spPr>
            <a:xfrm>
              <a:off x="3440160" y="4443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3CE3-4538-41B5-B505-637CB9745E61}" type="slidenum">
              <a:t>12</a:t>
            </a:fld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800" spc="-1" strike="noStrike">
                <a:solidFill>
                  <a:srgbClr val="3333cc"/>
                </a:solidFill>
                <a:latin typeface="Times New Roman"/>
              </a:rPr>
              <a:t>Implementation of a DFA (Variant 1)</a:t>
            </a:r>
            <a:endParaRPr b="0" i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85440" y="1290600"/>
            <a:ext cx="33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Implementation of </a:t>
            </a:r>
            <a:r>
              <a:rPr b="1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 as a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93960" y="1751040"/>
            <a:ext cx="3882600" cy="2012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[,] delta = new int[maxStates, maxSymbols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lastState, state = 0;   // DFA starts in state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o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sym =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next symbo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astState = stat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 =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delta[state, sym]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while (state !=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undefine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ssert(lastState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F);  // F is set of final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turn recognizedToken[lastState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580000" y="2055960"/>
            <a:ext cx="291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is is an example of a univers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able-driven algorit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698760" y="4033800"/>
            <a:ext cx="6711480" cy="2334600"/>
            <a:chOff x="698760" y="4033800"/>
            <a:chExt cx="6711480" cy="2334600"/>
          </a:xfrm>
        </p:grpSpPr>
        <p:sp>
          <p:nvSpPr>
            <p:cNvPr id="355" name=""/>
            <p:cNvSpPr/>
            <p:nvPr/>
          </p:nvSpPr>
          <p:spPr>
            <a:xfrm>
              <a:off x="698760" y="4033800"/>
              <a:ext cx="156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 for </a:t>
              </a:r>
              <a:r>
                <a:rPr b="1" lang="de-A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181160" y="5232240"/>
              <a:ext cx="253800" cy="254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267560" y="52434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27200" y="5219640"/>
              <a:ext cx="279360" cy="279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26560" y="52434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434960" y="5359320"/>
              <a:ext cx="41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636560" y="515448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854360" y="5232240"/>
              <a:ext cx="253800" cy="254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0760" y="52434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08160" y="5359320"/>
              <a:ext cx="41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09760" y="515448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6" name=""/>
            <p:cNvCxnSpPr>
              <a:stCxn id="362" idx="5"/>
              <a:endCxn id="362" idx="3"/>
            </p:cNvCxnSpPr>
            <p:nvPr/>
          </p:nvCxnSpPr>
          <p:spPr>
            <a:xfrm rot="5400000">
              <a:off x="1979640" y="5360040"/>
              <a:ext cx="2160" cy="181800"/>
            </a:xfrm>
            <a:prstGeom prst="curvedConnector5">
              <a:avLst>
                <a:gd name="adj1" fmla="val 10980000"/>
                <a:gd name="adj2" fmla="val 50000"/>
                <a:gd name="adj3" fmla="val 1098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7" name=""/>
            <p:cNvSpPr/>
            <p:nvPr/>
          </p:nvSpPr>
          <p:spPr>
            <a:xfrm>
              <a:off x="1915200" y="56116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48760" y="4519440"/>
              <a:ext cx="116208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a { b } 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626920" y="55483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03240" y="4386240"/>
              <a:ext cx="1451880" cy="10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0880"/>
                  <a:tab algn="l" pos="67320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380880"/>
                  <a:tab algn="l" pos="67320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0880"/>
                  <a:tab algn="l" pos="67320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0880"/>
                  <a:tab algn="l" pos="67320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   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08360" y="46864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911760" y="447048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69040" y="5522760"/>
              <a:ext cx="384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nt[,] delta = { {1, -1, -1}, {-1, 1, 2}, {-1, -1, -1} }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800600" y="447048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60320" y="6031080"/>
              <a:ext cx="53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is implementation would be too inefficient for a real scann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5D1A-26BE-4045-9185-85E4DBB782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800" spc="-1" strike="noStrike">
                <a:solidFill>
                  <a:srgbClr val="3333cc"/>
                </a:solidFill>
                <a:latin typeface="Times New Roman"/>
              </a:rPr>
              <a:t>Implementation of a DFA (Variant 2)</a:t>
            </a:r>
            <a:endParaRPr b="0" i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181160" y="1473120"/>
            <a:ext cx="253800" cy="254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67560" y="1484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527200" y="1460520"/>
            <a:ext cx="279360" cy="279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626560" y="1484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434960" y="1600200"/>
            <a:ext cx="41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36560" y="1395360"/>
            <a:ext cx="79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854360" y="1473120"/>
            <a:ext cx="253800" cy="254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940760" y="1484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108160" y="1600200"/>
            <a:ext cx="41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09760" y="1395360"/>
            <a:ext cx="79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7" name=""/>
          <p:cNvCxnSpPr>
            <a:stCxn id="383" idx="5"/>
            <a:endCxn id="383" idx="3"/>
          </p:cNvCxnSpPr>
          <p:nvPr/>
        </p:nvCxnSpPr>
        <p:spPr>
          <a:xfrm rot="5400000">
            <a:off x="1979640" y="1600560"/>
            <a:ext cx="2520" cy="181800"/>
          </a:xfrm>
          <a:prstGeom prst="curvedConnector5">
            <a:avLst>
              <a:gd name="adj1" fmla="val 10983333"/>
              <a:gd name="adj2" fmla="val 50000"/>
              <a:gd name="adj3" fmla="val 109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8" name=""/>
          <p:cNvSpPr/>
          <p:nvPr/>
        </p:nvSpPr>
        <p:spPr>
          <a:xfrm>
            <a:off x="1915200" y="18525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626920" y="17892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2200" y="2451240"/>
            <a:ext cx="38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Hard-coding the states in sourc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4586400" y="2550960"/>
            <a:ext cx="4275000" cy="3458880"/>
            <a:chOff x="4586400" y="2550960"/>
            <a:chExt cx="4275000" cy="3458880"/>
          </a:xfrm>
        </p:grpSpPr>
        <p:sp>
          <p:nvSpPr>
            <p:cNvPr id="392" name=""/>
            <p:cNvSpPr/>
            <p:nvPr/>
          </p:nvSpPr>
          <p:spPr>
            <a:xfrm>
              <a:off x="4586400" y="2932200"/>
              <a:ext cx="4275000" cy="3077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nt state = 0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oop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or (;;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ar ch = read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witch (state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ase 0: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ch == 'a') { state = 1; break; 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lse break loop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ase 1: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ch == 'b') { state = 1; break; 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lse if (ch == 'c') { state = 2; break; 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lse break loop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ase 2: return A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turn errorToken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594680" y="2550960"/>
              <a:ext cx="245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 Java this is more tediou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768600" y="2932200"/>
            <a:ext cx="3728520" cy="1798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ar ch = read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0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ch == 'a') { ch = read(); goto s1; 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goto er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ch == 'b') { ch = read(); goto s1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if (ch == 'c') { ch = read(); goto s2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goto er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2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turn 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rr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turn errorToke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F580-B935-4877-9C17-6C1E0AF5E6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143000" y="3365640"/>
            <a:ext cx="673092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5320" y="1835280"/>
            <a:ext cx="60512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Lexic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Tasks of a 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Regular Grammars and Finite Auto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2.3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Scanner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3C3A-EB55-4F78-A1E9-A4F7D58E15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canner Interfac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76880" y="1560600"/>
            <a:ext cx="3223440" cy="946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Scanner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TextReader r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Toke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198320" y="1560600"/>
            <a:ext cx="349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efficiency reasons methods are sta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there is just one scanner per compil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708120" y="2857680"/>
            <a:ext cx="3969000" cy="788040"/>
            <a:chOff x="708120" y="2857680"/>
            <a:chExt cx="3969000" cy="788040"/>
          </a:xfrm>
        </p:grpSpPr>
        <p:sp>
          <p:nvSpPr>
            <p:cNvPr id="402" name=""/>
            <p:cNvSpPr/>
            <p:nvPr/>
          </p:nvSpPr>
          <p:spPr>
            <a:xfrm>
              <a:off x="747360" y="3338640"/>
              <a:ext cx="392976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Scanner.Init(new StreamReader("myProg.zs")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08120" y="2857680"/>
              <a:ext cx="24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Initializing the scan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708840" y="4444920"/>
            <a:ext cx="4133160" cy="1640520"/>
            <a:chOff x="708840" y="4444920"/>
            <a:chExt cx="4133160" cy="1640520"/>
          </a:xfrm>
        </p:grpSpPr>
        <p:sp>
          <p:nvSpPr>
            <p:cNvPr id="405" name=""/>
            <p:cNvSpPr/>
            <p:nvPr/>
          </p:nvSpPr>
          <p:spPr>
            <a:xfrm>
              <a:off x="760320" y="4925880"/>
              <a:ext cx="4081680" cy="1159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oken 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or (;;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 =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Scanner.Next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08840" y="4444920"/>
              <a:ext cx="269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Reading the token stre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833E-FE0C-4712-9322-96FA14DCED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56720" y="1255680"/>
            <a:ext cx="4874760" cy="15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oke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kin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oken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in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oken line (for error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o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oken column (for error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oken value (for number and charC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oken string (for numbers and identifie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648360" y="3035160"/>
            <a:ext cx="7971120" cy="3340080"/>
            <a:chOff x="648360" y="3035160"/>
            <a:chExt cx="7971120" cy="3340080"/>
          </a:xfrm>
        </p:grpSpPr>
        <p:sp>
          <p:nvSpPr>
            <p:cNvPr id="410" name=""/>
            <p:cNvSpPr/>
            <p:nvPr/>
          </p:nvSpPr>
          <p:spPr>
            <a:xfrm>
              <a:off x="2992320" y="3867120"/>
              <a:ext cx="3351240" cy="2502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44440" y="3867120"/>
              <a:ext cx="1572840" cy="24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89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PLUS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4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/*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89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MINUS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5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/*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-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89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TIMES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6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/*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*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89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LASH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7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/*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/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89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REM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8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/*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%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89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Q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9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/*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==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89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GE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10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/*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&gt;=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89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GT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11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/*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&gt;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89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LE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12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/*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&lt;=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89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LT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13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/*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&lt;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89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NE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14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/*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!=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89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15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/*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&amp;&amp;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89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16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/*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||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574040" y="3873600"/>
              <a:ext cx="987480" cy="2501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408720" y="3873600"/>
              <a:ext cx="1101600" cy="2501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587600" y="3873600"/>
              <a:ext cx="1346040" cy="2501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11360" y="3873600"/>
              <a:ext cx="807840" cy="2501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70680" y="3035160"/>
              <a:ext cx="206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Token codes for Z#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82920" y="362736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const i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4000" y="3855960"/>
              <a:ext cx="92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NONE = 0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542600" y="3855960"/>
              <a:ext cx="1447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IDENT = 1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NUMBER = 2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CHARCONST = 3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94520" y="3863880"/>
              <a:ext cx="199296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8920"/>
                  <a:tab algn="l" pos="134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SSIGN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17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/*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8920"/>
                  <a:tab algn="l" pos="134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PPLUS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18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/*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++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8920"/>
                  <a:tab algn="l" pos="134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MMINUS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19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/*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--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8920"/>
                  <a:tab algn="l" pos="134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EMICOLON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20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/*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;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8920"/>
                  <a:tab algn="l" pos="134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COMMA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21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/*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8920"/>
                  <a:tab algn="l" pos="134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PERIOD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22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/*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8920"/>
                  <a:tab algn="l" pos="134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LPAR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23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/*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8920"/>
                  <a:tab algn="l" pos="134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RPAR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24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/*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8920"/>
                  <a:tab algn="l" pos="134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LBRACK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25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/*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[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8920"/>
                  <a:tab algn="l" pos="134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RBRACK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26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/*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]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8920"/>
                  <a:tab algn="l" pos="134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LBRACE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27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/*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{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8920"/>
                  <a:tab algn="l" pos="134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RBRACE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28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/*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}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357240" y="3855960"/>
              <a:ext cx="1201680" cy="21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REAK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29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30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CONST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31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LSE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32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IF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33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34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READ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35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RETURN = 36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VOID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37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WHILE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38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WRITE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39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22560" y="3855960"/>
              <a:ext cx="109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OF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40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48360" y="3414600"/>
              <a:ext cx="85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rror tok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78040" y="3414600"/>
              <a:ext cx="97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token class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26640" y="3414600"/>
              <a:ext cx="211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perators and special charact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59760" y="3414600"/>
              <a:ext cx="77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keywor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47120" y="3414600"/>
              <a:ext cx="80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nd of fi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413E-C5B4-4CB9-AC74-6A92BE37D3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canner Implementa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2200" y="1257480"/>
            <a:ext cx="31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tatic variables in the scan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65360" y="1636560"/>
            <a:ext cx="6521400" cy="1013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7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TextReader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input str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char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next input character (still unprocess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int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in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o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line and column number of the character 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257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st int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OF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= '\u0080'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character that is returned at the end of the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84360" y="2921040"/>
            <a:ext cx="6562440" cy="1539000"/>
            <a:chOff x="684360" y="2921040"/>
            <a:chExt cx="6562440" cy="1539000"/>
          </a:xfrm>
        </p:grpSpPr>
        <p:sp>
          <p:nvSpPr>
            <p:cNvPr id="432" name=""/>
            <p:cNvSpPr/>
            <p:nvPr/>
          </p:nvSpPr>
          <p:spPr>
            <a:xfrm>
              <a:off x="684360" y="292104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Init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85880" y="3300480"/>
              <a:ext cx="6460920" cy="1159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Ini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TextReader r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nput = r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ine = 1; col = 0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NextCh();  // reads the first character into ch and increments col to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84720" y="4699080"/>
            <a:ext cx="6644160" cy="1965240"/>
            <a:chOff x="684720" y="4699080"/>
            <a:chExt cx="6644160" cy="1965240"/>
          </a:xfrm>
        </p:grpSpPr>
        <p:sp>
          <p:nvSpPr>
            <p:cNvPr id="435" name=""/>
            <p:cNvSpPr/>
            <p:nvPr/>
          </p:nvSpPr>
          <p:spPr>
            <a:xfrm>
              <a:off x="684720" y="469908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NextCh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72200" y="5078520"/>
              <a:ext cx="3280320" cy="15858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NextCh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ry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 = (char) input.Read(); col++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ch == '\n') { line++; col = 0; 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lse if (ch == '\uffff') ch = EOF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 catch (IOException e) { ch = EOF; 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72480" y="5040360"/>
              <a:ext cx="3056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ch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= next input charac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turns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OF 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t the end of the 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crements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lin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c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F9A7-34E4-4FDD-BA9F-19A06243A4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Method Next()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75360" y="1128600"/>
            <a:ext cx="5580720" cy="5658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static Token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Next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hile (ch &lt;= ' ') NextCh();  // skip blanks, tabs, e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oken t = new Token(); t.line = line, t.col = co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witch (ch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se 'a': ... case 'z': case 'A': ... case 'Z': ReadName(t); 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se '0': case '1': ... case '9': ReadNumber(t); 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se ';': NextCh(); t.kind = Token.SEMICOLON; 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se '.': NextCh(); t.kind = Token.PERIOD; 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se EOF: t.kind = Token.EOF; break;  // no NextCh() any 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se '='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extCh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ch == '=') { NextCh(); t.kind = Token.EQ; 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t.kind = Token.AS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se '&amp;'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extCh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ch == '&amp;') { NextCh(); t.kind = Token.AND; 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t.kind = NON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se '/'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extCh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ch == '/'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o NextCh(); while (ch != '\n' &amp;&amp; ch != EOF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 = Next();  // call scanner recursive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else t.kind = Token.SLASH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efault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extCh(); t.kind = Token.NONE; 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turn 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// ch holds the next character that is still unproces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543720" y="1949400"/>
            <a:ext cx="98280" cy="236520"/>
          </a:xfrm>
          <a:custGeom>
            <a:avLst/>
            <a:gdLst>
              <a:gd name="textAreaLeft" fmla="*/ 0 w 98280"/>
              <a:gd name="textAreaRight" fmla="*/ 35280 w 98280"/>
              <a:gd name="textAreaTop" fmla="*/ 6120 h 236520"/>
              <a:gd name="textAreaBottom" fmla="*/ 230400 h 23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654960" y="187812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ames, key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540480" y="2181240"/>
            <a:ext cx="101520" cy="255600"/>
          </a:xfrm>
          <a:custGeom>
            <a:avLst/>
            <a:gdLst>
              <a:gd name="textAreaLeft" fmla="*/ 0 w 101520"/>
              <a:gd name="textAreaRight" fmla="*/ 36720 w 101520"/>
              <a:gd name="textAreaTop" fmla="*/ 6480 h 255600"/>
              <a:gd name="textAreaBottom" fmla="*/ 249120 h 25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654240" y="213516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553080" y="2441520"/>
            <a:ext cx="88920" cy="711360"/>
          </a:xfrm>
          <a:custGeom>
            <a:avLst/>
            <a:gdLst>
              <a:gd name="textAreaLeft" fmla="*/ 0 w 88920"/>
              <a:gd name="textAreaRight" fmla="*/ 32040 w 88920"/>
              <a:gd name="textAreaTop" fmla="*/ 18360 h 711360"/>
              <a:gd name="textAreaBottom" fmla="*/ 693000 h 71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655320" y="2639880"/>
            <a:ext cx="130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imple tok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562800" y="3162240"/>
            <a:ext cx="66600" cy="1614600"/>
          </a:xfrm>
          <a:custGeom>
            <a:avLst/>
            <a:gdLst>
              <a:gd name="textAreaLeft" fmla="*/ 0 w 66600"/>
              <a:gd name="textAreaRight" fmla="*/ 24120 w 66600"/>
              <a:gd name="textAreaTop" fmla="*/ 41760 h 1614600"/>
              <a:gd name="textAreaBottom" fmla="*/ 1572840 h 16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654960" y="3773520"/>
            <a:ext cx="159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mposite tok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553080" y="4788000"/>
            <a:ext cx="76320" cy="1117440"/>
          </a:xfrm>
          <a:custGeom>
            <a:avLst/>
            <a:gdLst>
              <a:gd name="textAreaLeft" fmla="*/ 0 w 76320"/>
              <a:gd name="textAreaRight" fmla="*/ 27360 w 76320"/>
              <a:gd name="textAreaTop" fmla="*/ 28800 h 1117440"/>
              <a:gd name="textAreaBottom" fmla="*/ 1088640 h 11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152360" y="1943280"/>
            <a:ext cx="52578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143000" y="2190600"/>
            <a:ext cx="52578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143000" y="2441520"/>
            <a:ext cx="52578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43000" y="3165480"/>
            <a:ext cx="52578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143000" y="4800600"/>
            <a:ext cx="52578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152360" y="5937120"/>
            <a:ext cx="52578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655320" y="515448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m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553080" y="5969160"/>
            <a:ext cx="88920" cy="253800"/>
          </a:xfrm>
          <a:custGeom>
            <a:avLst/>
            <a:gdLst>
              <a:gd name="textAreaLeft" fmla="*/ 0 w 88920"/>
              <a:gd name="textAreaRight" fmla="*/ 32040 w 88920"/>
              <a:gd name="textAreaTop" fmla="*/ 6480 h 253800"/>
              <a:gd name="textAreaBottom" fmla="*/ 24732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656760" y="5929200"/>
            <a:ext cx="15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valid charac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A9B5-C6F9-4198-838C-7235A82E8D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asks of a Scanne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6680" y="1244520"/>
            <a:ext cx="38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elivers terminal symbols (toke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79640" y="1752480"/>
            <a:ext cx="190440" cy="24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66400" y="1798560"/>
            <a:ext cx="3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70080" y="1752480"/>
            <a:ext cx="190440" cy="24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56840" y="17985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60520" y="1752480"/>
            <a:ext cx="190440" cy="24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50960" y="1752480"/>
            <a:ext cx="190440" cy="24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38440" y="179856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41400" y="1752480"/>
            <a:ext cx="190440" cy="24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28520" y="17985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31840" y="1752480"/>
            <a:ext cx="190800" cy="24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22640" y="1752480"/>
            <a:ext cx="190440" cy="24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09760" y="1798560"/>
            <a:ext cx="8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13080" y="1752480"/>
            <a:ext cx="190440" cy="24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99480" y="17985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03520" y="1752480"/>
            <a:ext cx="190440" cy="24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90640" y="179856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93960" y="1752480"/>
            <a:ext cx="190440" cy="24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84400" y="1752480"/>
            <a:ext cx="190440" cy="24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06720" y="1798560"/>
            <a:ext cx="8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45680" y="2144880"/>
            <a:ext cx="157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haracter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82360" y="1700280"/>
            <a:ext cx="80100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76400" y="1719360"/>
            <a:ext cx="438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, LPAR, IDENT, EQ, NUMBER, RPAR, ..., E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28840" y="18795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06160" y="2144880"/>
            <a:ext cx="188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oken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(must end with EO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04880" y="4317840"/>
            <a:ext cx="4086720" cy="2113920"/>
            <a:chOff x="704880" y="4317840"/>
            <a:chExt cx="4086720" cy="2113920"/>
          </a:xfrm>
        </p:grpSpPr>
        <p:sp>
          <p:nvSpPr>
            <p:cNvPr id="72" name=""/>
            <p:cNvSpPr/>
            <p:nvPr/>
          </p:nvSpPr>
          <p:spPr>
            <a:xfrm>
              <a:off x="704880" y="4317840"/>
              <a:ext cx="408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Tokens have a syntactical structure, e.g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07360" y="4799160"/>
              <a:ext cx="2633760" cy="1159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etter { letter | digit 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number 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igit { digit 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i" "f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ql 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=" "=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3920" y="6094440"/>
              <a:ext cx="317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hy is scanning not part of parsing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07400" y="2730600"/>
            <a:ext cx="3331800" cy="1370520"/>
            <a:chOff x="707400" y="2730600"/>
            <a:chExt cx="3331800" cy="1370520"/>
          </a:xfrm>
        </p:grpSpPr>
        <p:sp>
          <p:nvSpPr>
            <p:cNvPr id="76" name=""/>
            <p:cNvSpPr/>
            <p:nvPr/>
          </p:nvSpPr>
          <p:spPr>
            <a:xfrm>
              <a:off x="707400" y="2730600"/>
              <a:ext cx="33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kips meaningless charac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33920" y="3033720"/>
              <a:ext cx="2937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lan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abulator charac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nd-of-line characters (CR, LF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m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429080" y="1889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EA5E-6ED3-49F4-9D70-06C635A733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Further Method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46640" y="1359000"/>
            <a:ext cx="32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tatic void ReadName (Token 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55640" y="1763640"/>
            <a:ext cx="614700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t the beginning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holds the first letter of the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ads further letters, digits and '_' and stores them i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.s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ooks up the name in a keyword table (using hashing or binary search)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found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.kind =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oken number of th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keywor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therwise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.kind = Token.IDEN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t the end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 ch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holds the first character after the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747000" y="4000680"/>
            <a:ext cx="8171280" cy="2147760"/>
            <a:chOff x="747000" y="4000680"/>
            <a:chExt cx="8171280" cy="2147760"/>
          </a:xfrm>
        </p:grpSpPr>
        <p:sp>
          <p:nvSpPr>
            <p:cNvPr id="462" name=""/>
            <p:cNvSpPr/>
            <p:nvPr/>
          </p:nvSpPr>
          <p:spPr>
            <a:xfrm>
              <a:off x="747000" y="4000680"/>
              <a:ext cx="352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tatic void ReadNumber (Token 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3920" y="4405320"/>
              <a:ext cx="8154360" cy="17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1625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t the beginning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 ch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holds the first digit of the num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625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ads further digits, storing them i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t.str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; then converts the digit string into a number and stores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value i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t.val.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f overflow: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port an err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5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1625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.kind = Token.NUMBER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625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t the end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 ch 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holds the first character after the num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F3F3-54CD-402C-A51B-9FEAFC7BCB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fficiency Consideratio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45920" y="1359000"/>
            <a:ext cx="22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ypical program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015560" y="1801800"/>
            <a:ext cx="219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bout 1000 stat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bout 6000 tok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bout 60000 charac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948960" y="2716200"/>
            <a:ext cx="552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canning is one of the most time-consuming phases of a comp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takes about 20-30% of the compilation ti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744840" y="3543480"/>
            <a:ext cx="4795560" cy="729360"/>
            <a:chOff x="744840" y="3543480"/>
            <a:chExt cx="4795560" cy="729360"/>
          </a:xfrm>
        </p:grpSpPr>
        <p:sp>
          <p:nvSpPr>
            <p:cNvPr id="469" name=""/>
            <p:cNvSpPr/>
            <p:nvPr/>
          </p:nvSpPr>
          <p:spPr>
            <a:xfrm>
              <a:off x="744840" y="3543480"/>
              <a:ext cx="449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Touch every character as seldom as possi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961560" y="3935520"/>
              <a:ext cx="457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refor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ch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s global and not a parameter of N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xtCh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741960" y="4584600"/>
            <a:ext cx="6022080" cy="1770840"/>
            <a:chOff x="741960" y="4584600"/>
            <a:chExt cx="6022080" cy="1770840"/>
          </a:xfrm>
        </p:grpSpPr>
        <p:sp>
          <p:nvSpPr>
            <p:cNvPr id="472" name=""/>
            <p:cNvSpPr/>
            <p:nvPr/>
          </p:nvSpPr>
          <p:spPr>
            <a:xfrm>
              <a:off x="741960" y="4584600"/>
              <a:ext cx="602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For large input files it is a good idea to use buffered rea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28160" y="5027760"/>
              <a:ext cx="3617280" cy="946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ream file = new FileStream("MyProg.zs"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Stream buf = new BufferedStream(file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extReader r = new StreamReader(buf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canner.Init(r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83520" y="6018120"/>
              <a:ext cx="318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Does not pay off for small input fi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6894-5844-432A-839F-BC4F4DA86C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Why is Scanning not Part of Parsing?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0800" y="1270080"/>
            <a:ext cx="4702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It would make parsing more compli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e.g. difficult distinction between keywords and nam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82160" y="1967040"/>
            <a:ext cx="264744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m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 "=" Expr ";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f" "(" Expr ")" ..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90920" y="2538360"/>
            <a:ext cx="346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ne would have to write this as follow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79640" y="2894040"/>
            <a:ext cx="394128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054080"/>
                <a:tab algn="l" pos="12445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m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f" "(" Expr ")"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054080"/>
                <a:tab algn="l" pos="12445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otF {letter | digit} "=" Expr ";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054080"/>
                <a:tab algn="l" pos="12445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054080"/>
                <a:tab algn="l" pos="12445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otI {letter | digit} "=" Expr ";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18560" y="4102200"/>
            <a:ext cx="7840440" cy="1153440"/>
            <a:chOff x="718560" y="4102200"/>
            <a:chExt cx="7840440" cy="1153440"/>
          </a:xfrm>
        </p:grpSpPr>
        <p:sp>
          <p:nvSpPr>
            <p:cNvPr id="85" name=""/>
            <p:cNvSpPr/>
            <p:nvPr/>
          </p:nvSpPr>
          <p:spPr>
            <a:xfrm>
              <a:off x="718560" y="4102200"/>
              <a:ext cx="78404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The scanner must eliminate blanks, tabs, end-of-line characters and com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these characters can occur anywhere =&gt; would lead to very complex grammar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072800" y="4735440"/>
              <a:ext cx="511092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if"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{Blank}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"("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{Blank}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Expr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{Blank}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")"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{Blank}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... 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lank = " " | "\r" | "\n" | "\t" | Commen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719640" y="5587920"/>
            <a:ext cx="4923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okens can be described with regular gramm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simpler and more efficient than context-free gramma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8B11-F3C2-438D-850E-71402B5A74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43000" y="2921040"/>
            <a:ext cx="673092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15320" y="1835280"/>
            <a:ext cx="60512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Lexic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Tasks of a 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2.2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Regular Grammars and Finite Auto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canner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EBE8-8AEC-4959-B6FF-C3F2E5C7C9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Regular Grammar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7600" y="1282680"/>
            <a:ext cx="6477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grammar is called regular if it can be described by productions of the for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54800" y="1928880"/>
            <a:ext cx="82224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b 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43880" y="1898640"/>
            <a:ext cx="112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, b 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, B 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76800" y="2743200"/>
            <a:ext cx="7198560" cy="1703520"/>
            <a:chOff x="676800" y="2743200"/>
            <a:chExt cx="7198560" cy="1703520"/>
          </a:xfrm>
        </p:grpSpPr>
        <p:sp>
          <p:nvSpPr>
            <p:cNvPr id="96" name=""/>
            <p:cNvSpPr/>
            <p:nvPr/>
          </p:nvSpPr>
          <p:spPr>
            <a:xfrm>
              <a:off x="676800" y="2743200"/>
              <a:ext cx="278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  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Grammar for na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35720" y="3203640"/>
              <a:ext cx="1719720" cy="1243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8276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et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48276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etter Res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48276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s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et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48276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ig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48276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etter R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48276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igit Res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342600" y="3236760"/>
              <a:ext cx="273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.g., derivation of the name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y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95960" y="3726000"/>
              <a:ext cx="437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letter Rest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letter letter Rest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letter letter dig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87240" y="4749840"/>
            <a:ext cx="7843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lternative 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grammar is called regular if it can be described by a </a:t>
            </a: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single non-recursiv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EBNF produ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76800" y="5829480"/>
            <a:ext cx="2797560" cy="691200"/>
            <a:chOff x="676800" y="5829480"/>
            <a:chExt cx="2797560" cy="691200"/>
          </a:xfrm>
        </p:grpSpPr>
        <p:sp>
          <p:nvSpPr>
            <p:cNvPr id="102" name=""/>
            <p:cNvSpPr/>
            <p:nvPr/>
          </p:nvSpPr>
          <p:spPr>
            <a:xfrm>
              <a:off x="676800" y="5829480"/>
              <a:ext cx="278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  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Grammar for na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31040" y="6213600"/>
              <a:ext cx="244332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276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etter { letter | digit 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2082-C78C-48FB-99AE-FADE11ACD6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2280" y="1384200"/>
            <a:ext cx="676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an we transform the following grammar into a regular gramm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09080" y="1903320"/>
            <a:ext cx="132228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 = T { "+" T 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 = F { "*" F 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 = i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292200" y="1814400"/>
            <a:ext cx="2373840" cy="637560"/>
            <a:chOff x="3292200" y="1814400"/>
            <a:chExt cx="2373840" cy="637560"/>
          </a:xfrm>
        </p:grpSpPr>
        <p:sp>
          <p:nvSpPr>
            <p:cNvPr id="108" name=""/>
            <p:cNvSpPr/>
            <p:nvPr/>
          </p:nvSpPr>
          <p:spPr>
            <a:xfrm>
              <a:off x="3292200" y="1814400"/>
              <a:ext cx="237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fter substitution of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50400" y="2144880"/>
              <a:ext cx="133884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 = id { "*" id 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692280" y="3886200"/>
            <a:ext cx="6762960" cy="1039320"/>
            <a:chOff x="692280" y="3886200"/>
            <a:chExt cx="6762960" cy="1039320"/>
          </a:xfrm>
        </p:grpSpPr>
        <p:sp>
          <p:nvSpPr>
            <p:cNvPr id="111" name=""/>
            <p:cNvSpPr/>
            <p:nvPr/>
          </p:nvSpPr>
          <p:spPr>
            <a:xfrm>
              <a:off x="692280" y="3886200"/>
              <a:ext cx="676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Can we transform the following grammar into a regular grammar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08720" y="4405320"/>
              <a:ext cx="142272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 = F { "*" F 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 = id | "(" E ")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292200" y="4316400"/>
            <a:ext cx="3718440" cy="1522440"/>
            <a:chOff x="3292200" y="4316400"/>
            <a:chExt cx="3718440" cy="1522440"/>
          </a:xfrm>
        </p:grpSpPr>
        <p:sp>
          <p:nvSpPr>
            <p:cNvPr id="114" name=""/>
            <p:cNvSpPr/>
            <p:nvPr/>
          </p:nvSpPr>
          <p:spPr>
            <a:xfrm>
              <a:off x="3292200" y="4316400"/>
              <a:ext cx="238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fter substitution of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639600" y="4646520"/>
              <a:ext cx="326988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 = ( id | "(" E ")" ) { "*" ( id | "(" E ")" ) 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92560" y="5014800"/>
              <a:ext cx="3718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ubstituting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does not help any mor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entral recursion cannot be elimina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grammar is </a:t>
              </a:r>
              <a:r>
                <a:rPr b="0" lang="de-AT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o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regula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292200" y="2513160"/>
            <a:ext cx="3047400" cy="1023120"/>
            <a:chOff x="3292200" y="2513160"/>
            <a:chExt cx="3047400" cy="1023120"/>
          </a:xfrm>
        </p:grpSpPr>
        <p:sp>
          <p:nvSpPr>
            <p:cNvPr id="118" name=""/>
            <p:cNvSpPr/>
            <p:nvPr/>
          </p:nvSpPr>
          <p:spPr>
            <a:xfrm>
              <a:off x="3292200" y="2513160"/>
              <a:ext cx="237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fter substitution of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642840" y="2868480"/>
              <a:ext cx="269676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 = id { "*" id } { "+" id { "*" id } 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94360" y="3198960"/>
              <a:ext cx="208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grammar is regul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276720" y="1854360"/>
            <a:ext cx="4470120" cy="165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4343400"/>
            <a:ext cx="4470120" cy="165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F2EF-06A1-496A-ABF5-D9672C6665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Limitations of Regular Grammar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4800" y="1231920"/>
            <a:ext cx="5366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Regular grammars cannot deal with </a:t>
            </a:r>
            <a:r>
              <a:rPr b="1" i="1" lang="de-AT" sz="1800" spc="-1" strike="noStrike">
                <a:solidFill>
                  <a:srgbClr val="000000"/>
                </a:solidFill>
                <a:latin typeface="Times New Roman"/>
              </a:rPr>
              <a:t>nested stru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ecause they cannot handl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entral recursion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0920" y="2057400"/>
            <a:ext cx="63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But central recursion is important in most programming langu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50920" y="3141720"/>
            <a:ext cx="270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Clas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"class" "{" ...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Clas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 "}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52200" y="2462040"/>
            <a:ext cx="18907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ested expres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ested stat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ested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53440" y="2506680"/>
            <a:ext cx="195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 "("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")"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49480" y="2824200"/>
            <a:ext cx="382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Statem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"do"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Statem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"while" "(" Expr ")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8160" y="3516480"/>
            <a:ext cx="495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productions like these we need context-free gramma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93000" y="4191120"/>
            <a:ext cx="3954240" cy="678600"/>
            <a:chOff x="693000" y="4191120"/>
            <a:chExt cx="3954240" cy="678600"/>
          </a:xfrm>
        </p:grpSpPr>
        <p:sp>
          <p:nvSpPr>
            <p:cNvPr id="132" name=""/>
            <p:cNvSpPr/>
            <p:nvPr/>
          </p:nvSpPr>
          <p:spPr>
            <a:xfrm>
              <a:off x="693000" y="4191120"/>
              <a:ext cx="395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But most lexical structures are regu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93600" y="4532400"/>
              <a:ext cx="324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ame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etter { letter | digit 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997560" y="4773600"/>
            <a:ext cx="26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igit { digit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4320" y="5027760"/>
            <a:ext cx="319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\"" { noQuote } "\"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5760" y="5281560"/>
            <a:ext cx="276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keyword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etter { letter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00080" y="5535720"/>
            <a:ext cx="22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perator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&gt;" "=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297400" y="4191120"/>
            <a:ext cx="2715480" cy="1315440"/>
            <a:chOff x="5297400" y="4191120"/>
            <a:chExt cx="2715480" cy="1315440"/>
          </a:xfrm>
        </p:grpSpPr>
        <p:sp>
          <p:nvSpPr>
            <p:cNvPr id="139" name=""/>
            <p:cNvSpPr/>
            <p:nvPr/>
          </p:nvSpPr>
          <p:spPr>
            <a:xfrm>
              <a:off x="5297400" y="4191120"/>
              <a:ext cx="268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ception:</a:t>
              </a: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ested com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35720" y="4557600"/>
              <a:ext cx="1617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* ..... /* ... */ ..... *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26560" y="4925880"/>
              <a:ext cx="2686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scanner must treat them 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special w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0E7C-AF9B-4EE0-AE09-7A5C5F5B2A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Regular Expressio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4160" y="1181160"/>
            <a:ext cx="40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Alternative notation for regular gramm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9560" y="176544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8200" y="2228760"/>
            <a:ext cx="393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(the empty string) is a regular ex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7840" y="2627280"/>
            <a:ext cx="386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terminal symbol is a regular ex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2880" y="3054240"/>
            <a:ext cx="670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re regular expressions the following expressions are also regula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3240" y="3473280"/>
            <a:ext cx="2708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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?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*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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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|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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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|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709560" y="4940280"/>
            <a:ext cx="3357720" cy="1266840"/>
            <a:chOff x="709560" y="4940280"/>
            <a:chExt cx="3357720" cy="1266840"/>
          </a:xfrm>
        </p:grpSpPr>
        <p:sp>
          <p:nvSpPr>
            <p:cNvPr id="150" name=""/>
            <p:cNvSpPr/>
            <p:nvPr/>
          </p:nvSpPr>
          <p:spPr>
            <a:xfrm>
              <a:off x="709560" y="4940280"/>
              <a:ext cx="113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91520" y="5383080"/>
              <a:ext cx="2975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w" "h" "i" "l" "e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h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etter ( letter | digit )*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a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igit+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umb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DD04-9EB9-4AA7-83B8-3A2F9FCBAF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Deterministic Finite Automaton (DFA)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9240" y="1333440"/>
            <a:ext cx="42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an be used to analyze regular langu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1400" y="19051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74720" y="2641680"/>
            <a:ext cx="254160" cy="253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61120" y="26528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2629080"/>
            <a:ext cx="279360" cy="279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75520" y="26528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49640" y="2374920"/>
            <a:ext cx="279360" cy="279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17840" y="232236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inal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91240" y="2868480"/>
            <a:ext cx="51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dig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41480" y="2768760"/>
            <a:ext cx="622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6400" y="2513160"/>
            <a:ext cx="5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le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17880" y="2360520"/>
            <a:ext cx="5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le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57" idx="6"/>
            <a:endCxn id="158" idx="0"/>
          </p:cNvCxnSpPr>
          <p:nvPr/>
        </p:nvCxnSpPr>
        <p:spPr>
          <a:xfrm flipH="1" flipV="1">
            <a:off x="1820520" y="2652480"/>
            <a:ext cx="154800" cy="116640"/>
          </a:xfrm>
          <a:prstGeom prst="curvedConnector5">
            <a:avLst>
              <a:gd name="adj1" fmla="val -135897"/>
              <a:gd name="adj2" fmla="val 158823"/>
              <a:gd name="adj3" fmla="val -13589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7" idx="6"/>
            <a:endCxn id="157" idx="4"/>
          </p:cNvCxnSpPr>
          <p:nvPr/>
        </p:nvCxnSpPr>
        <p:spPr>
          <a:xfrm flipH="1">
            <a:off x="1815480" y="2768400"/>
            <a:ext cx="159480" cy="159480"/>
          </a:xfrm>
          <a:prstGeom prst="curvedConnector5">
            <a:avLst>
              <a:gd name="adj1" fmla="val -131900"/>
              <a:gd name="adj2" fmla="val 115837"/>
              <a:gd name="adj3" fmla="val -1319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3098160" y="2703600"/>
            <a:ext cx="191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art state is alway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ate 0 by 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162040" y="2119320"/>
            <a:ext cx="3490920" cy="1259280"/>
            <a:chOff x="5162040" y="2119320"/>
            <a:chExt cx="3490920" cy="1259280"/>
          </a:xfrm>
        </p:grpSpPr>
        <p:sp>
          <p:nvSpPr>
            <p:cNvPr id="169" name=""/>
            <p:cNvSpPr/>
            <p:nvPr/>
          </p:nvSpPr>
          <p:spPr>
            <a:xfrm>
              <a:off x="5245200" y="2501640"/>
              <a:ext cx="1434960" cy="838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62040" y="2119320"/>
              <a:ext cx="3091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State transition function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s a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84680" y="2500200"/>
              <a:ext cx="57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et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080" y="2500200"/>
              <a:ext cx="5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ig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270400" y="27558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5320" y="2603160"/>
              <a:ext cx="0" cy="71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04880" y="280476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04880" y="307152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56360" y="2457360"/>
              <a:ext cx="2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99880" y="280476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56360" y="2804760"/>
              <a:ext cx="5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rr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99880" y="307152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46000" y="307152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20200" y="2495520"/>
              <a:ext cx="1832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"finite", because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an be written dow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xplicit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08760" y="3530520"/>
            <a:ext cx="5301000" cy="1979640"/>
            <a:chOff x="608760" y="3530520"/>
            <a:chExt cx="5301000" cy="1979640"/>
          </a:xfrm>
        </p:grpSpPr>
        <p:sp>
          <p:nvSpPr>
            <p:cNvPr id="184" name=""/>
            <p:cNvSpPr/>
            <p:nvPr/>
          </p:nvSpPr>
          <p:spPr>
            <a:xfrm>
              <a:off x="671400" y="3530520"/>
              <a:ext cx="115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8760" y="3879720"/>
              <a:ext cx="5301000" cy="1630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tabLst>
                  <a:tab algn="l" pos="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deterministic finite automaton is a 5 tuple (S, I,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s0, F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et of sta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et of input symbo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: S x I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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tate transition fun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0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tar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et of final sta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697320" y="5764320"/>
            <a:ext cx="811944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DFA has recognized a sen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it is in a final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an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if the input is totally consumed </a:t>
            </a: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there is no possible transition with the next inpu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06040" y="4303800"/>
            <a:ext cx="344520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cognized by a DFA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set of all symbol sequences that l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rom the start state into one of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inal st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E1D0-AF12-4663-BE20-3E052BDE84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2T09:29:13Z</dcterms:created>
  <dc:creator>Mössenböck</dc:creator>
  <dc:description/>
  <dc:language>en-US</dc:language>
  <cp:lastModifiedBy>ml</cp:lastModifiedBy>
  <cp:lastPrinted>2001-09-28T08:52:55Z</cp:lastPrinted>
  <dcterms:modified xsi:type="dcterms:W3CDTF">2005-02-14T14:27:40Z</dcterms:modified>
  <cp:revision>372</cp:revision>
  <dc:subject/>
  <dc:title>Javascript-Anweisungen</dc:title>
</cp:coreProperties>
</file>