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BC04-E474-4895-89BB-EAF35646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1E8-9ACD-464E-A416-5B9C4F3D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296-0D0E-49D5-AFB1-A4FD2A38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B0A9-6DA0-4625-8E86-EE4EA186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04DD-1CEE-40CB-ADDE-CCC41F61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F1C3-0F45-4292-ADCF-4611CD92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9D3-84AF-4B56-8F03-45003B33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17D-98C9-41E6-95AA-38954BF8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6858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1C5-D417-45E6-97A4-173E1071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4F75-7025-40BD-8E10-2027329D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7762-B58B-4A1C-995D-4294F947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E645-D3AA-4DB4-8703-83BD0585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E469-6218-43E3-BFC0-763A4D0C5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560" y="533520"/>
            <a:ext cx="83664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2489040"/>
            <a:ext cx="6730920" cy="419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8920" y="1835280"/>
            <a:ext cx="28598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Symbol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5.1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79B-6E8D-4917-B7B8-802D1F0AE4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ntering Names into the Symbol Tab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4520" y="1308240"/>
            <a:ext cx="60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 following method is called whenever a name is decl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13840" y="1928880"/>
            <a:ext cx="36432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 sym = Tab.Insert(kind, name, typ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90800" y="2475000"/>
            <a:ext cx="5444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reates a new object node with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kin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s i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s already declared (if so =&gt; error mess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ssigns successive addresses to variables and fie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nters the declaration level for variables (0 = global, 1 = 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ppends the new node to the end of the symbol table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turns the new node to the c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07760" y="4305240"/>
            <a:ext cx="5365800" cy="1647000"/>
            <a:chOff x="707760" y="4305240"/>
            <a:chExt cx="5365800" cy="1647000"/>
          </a:xfrm>
        </p:grpSpPr>
        <p:sp>
          <p:nvSpPr>
            <p:cNvPr id="190" name=""/>
            <p:cNvSpPr/>
            <p:nvPr/>
          </p:nvSpPr>
          <p:spPr>
            <a:xfrm>
              <a:off x="707760" y="4305240"/>
              <a:ext cx="28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 for calling </a:t>
              </a:r>
              <a:r>
                <a:rPr b="1" i="1" lang="de-AT" sz="1800" spc="-1" strike="noStrike">
                  <a:solidFill>
                    <a:srgbClr val="000000"/>
                  </a:solidFill>
                  <a:latin typeface="Times New Roman"/>
                </a:rPr>
                <a:t>Insert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14920" y="4792680"/>
              <a:ext cx="495864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VarDecl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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ymbol.Kinds kind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typ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Tab.insert(Obj.Var, name, type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";" 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Tab.insert(Obj.Var, name, type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EB6-B954-4644-A150-C55150E1927A}" type="slidenum">
              <a:t>10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redeclared Nam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4840" y="1384200"/>
            <a:ext cx="38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hich names are predeclared in Z#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8040" y="1776240"/>
            <a:ext cx="40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ndard types: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ndard constants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ndard methods: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rd(ch)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r(i)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n(ar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43040" y="2781360"/>
            <a:ext cx="6762960" cy="3379680"/>
            <a:chOff x="743040" y="2781360"/>
            <a:chExt cx="6762960" cy="3379680"/>
          </a:xfrm>
        </p:grpSpPr>
        <p:sp>
          <p:nvSpPr>
            <p:cNvPr id="196" name=""/>
            <p:cNvSpPr/>
            <p:nvPr/>
          </p:nvSpPr>
          <p:spPr>
            <a:xfrm>
              <a:off x="743040" y="2781360"/>
              <a:ext cx="676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Predeclared names are also stored in the symbol table ("Universe"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9640" y="3170160"/>
              <a:ext cx="5893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Ar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Lo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63040" y="3170160"/>
              <a:ext cx="52056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int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94040" y="33656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28400" y="3170160"/>
              <a:ext cx="58464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char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16280" y="3365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40560" y="3170160"/>
              <a:ext cx="57996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on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null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19440" y="3365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28240" y="3170160"/>
              <a:ext cx="52056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Me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ord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30800" y="33656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74520" y="3170160"/>
              <a:ext cx="52056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Me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chr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05520" y="33656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49240" y="3170160"/>
              <a:ext cx="52056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Me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len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80240" y="3365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32520" y="328932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46400" y="4780080"/>
              <a:ext cx="5893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Ar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Lo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57760" y="4789440"/>
              <a:ext cx="44892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ch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86360" y="4411800"/>
              <a:ext cx="288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12680" y="4789440"/>
              <a:ext cx="41832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i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26160" y="44179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72640" y="4789440"/>
              <a:ext cx="47340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arr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13480" y="442260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77D3-F249-4FB0-969B-31E468455F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pecial Names as Keyword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7040" y="1346040"/>
            <a:ext cx="53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could also be implemented as keywor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1440" y="1763640"/>
            <a:ext cx="36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quires a special treatment in the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55080" y="2265480"/>
            <a:ext cx="61196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truct 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Symbol sym = Tab.Find(token.str); type = sym.typ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nt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type = Tab.intTyp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har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type = Tab.charTyp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704160" y="3835440"/>
            <a:ext cx="6370560" cy="1823760"/>
            <a:chOff x="704160" y="3835440"/>
            <a:chExt cx="6370560" cy="1823760"/>
          </a:xfrm>
        </p:grpSpPr>
        <p:sp>
          <p:nvSpPr>
            <p:cNvPr id="223" name=""/>
            <p:cNvSpPr/>
            <p:nvPr/>
          </p:nvSpPr>
          <p:spPr>
            <a:xfrm>
              <a:off x="704160" y="3835440"/>
              <a:ext cx="586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t is simpler to have them predeclared in the symbol tab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55080" y="4373640"/>
              <a:ext cx="611964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truct typ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Symbol sym = Tab.Find(token.str); type = sym.type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25920" y="5078520"/>
              <a:ext cx="511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uniform treatment of predeclared and user-declared n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ne can redeclare "int" as a user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E807-FD3A-4A58-8DEA-CDE48496D5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3000" y="337824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8920" y="1835280"/>
            <a:ext cx="28598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5.3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ADB-D6E3-424C-85C0-5C73FB8E733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Scope = Range in which a Name is Valid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5680" y="1244520"/>
            <a:ext cx="7756200" cy="13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Aft>
                <a:spcPts val="451"/>
              </a:spcAft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re are separate scopes (object lists)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"universe"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tains the predeclared names (and the program symb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tains global names (= constants, global variables, classes, metho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very metho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tains local names (= argument and local variab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very clas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tains fie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22160" y="2806560"/>
            <a:ext cx="7846560" cy="3568680"/>
            <a:chOff x="722160" y="2806560"/>
            <a:chExt cx="7846560" cy="3568680"/>
          </a:xfrm>
        </p:grpSpPr>
        <p:sp>
          <p:nvSpPr>
            <p:cNvPr id="232" name=""/>
            <p:cNvSpPr/>
            <p:nvPr/>
          </p:nvSpPr>
          <p:spPr>
            <a:xfrm>
              <a:off x="800280" y="3263760"/>
              <a:ext cx="1701720" cy="31114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4400" y="3924360"/>
              <a:ext cx="1460520" cy="2324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79640" y="4432320"/>
              <a:ext cx="1206360" cy="1295280"/>
            </a:xfrm>
            <a:custGeom>
              <a:avLst/>
              <a:gdLst/>
              <a:ahLst/>
              <a:rect l="l" t="t" r="r" b="b"/>
              <a:pathLst>
                <a:path w="760" h="816">
                  <a:moveTo>
                    <a:pt x="0" y="160"/>
                  </a:moveTo>
                  <a:lnTo>
                    <a:pt x="408" y="160"/>
                  </a:lnTo>
                  <a:lnTo>
                    <a:pt x="408" y="0"/>
                  </a:lnTo>
                  <a:lnTo>
                    <a:pt x="760" y="0"/>
                  </a:lnTo>
                  <a:lnTo>
                    <a:pt x="760" y="816"/>
                  </a:lnTo>
                  <a:lnTo>
                    <a:pt x="0" y="816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2160" y="280656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9400" y="3630600"/>
              <a:ext cx="1445760" cy="26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lass 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 a, b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M  (int x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 b, c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16920" y="4646520"/>
              <a:ext cx="225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cope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all names declared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16920" y="3897360"/>
              <a:ext cx="220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cope 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all names declared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55160" y="3059280"/>
              <a:ext cx="1829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univer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predeclared nam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006080" y="5586480"/>
            <a:ext cx="497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arching for a name always starts 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opSc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not found, the search continues in the next outer sc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ample: search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17600" y="4735440"/>
            <a:ext cx="362520" cy="28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x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70280" y="4800600"/>
            <a:ext cx="457200" cy="33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70280" y="4800600"/>
            <a:ext cx="228600" cy="152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98880" y="4800600"/>
            <a:ext cx="228600" cy="152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24240" y="483696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13000" y="4889520"/>
            <a:ext cx="78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67120" y="4735440"/>
            <a:ext cx="371880" cy="28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78320" y="488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44720" y="4735440"/>
            <a:ext cx="362520" cy="28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46560" y="488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17600" y="3970440"/>
            <a:ext cx="371880" cy="28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70280" y="4025880"/>
            <a:ext cx="457200" cy="33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70280" y="4025880"/>
            <a:ext cx="228600" cy="152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8880" y="4025880"/>
            <a:ext cx="228600" cy="152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13000" y="4114800"/>
            <a:ext cx="78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85840" y="3970440"/>
            <a:ext cx="371880" cy="28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97400" y="41241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4160" y="3970440"/>
            <a:ext cx="420480" cy="28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6564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984400" y="4355640"/>
            <a:ext cx="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30760" y="4443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14000" y="3173400"/>
            <a:ext cx="461880" cy="285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n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70280" y="3238560"/>
            <a:ext cx="457200" cy="33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70280" y="3238560"/>
            <a:ext cx="228600" cy="152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98880" y="3238560"/>
            <a:ext cx="228600" cy="152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13000" y="3327480"/>
            <a:ext cx="78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67560" y="3173400"/>
            <a:ext cx="620280" cy="285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har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83080" y="33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21360" y="3173400"/>
            <a:ext cx="391680" cy="285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P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9640" y="3327480"/>
            <a:ext cx="15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984400" y="3568680"/>
            <a:ext cx="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830920" y="3317400"/>
            <a:ext cx="18720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984400" y="513072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02600" y="54594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top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997360" y="316188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21040" y="314964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583960" y="3141720"/>
            <a:ext cx="295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D2B-7868-4145-A647-0542F62A78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cope Nod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7280" y="1370160"/>
            <a:ext cx="6843960" cy="137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856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co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856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o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out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 the next outer 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856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ocal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 the symbols in this 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856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Arg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number of arguments in this scope (for address allo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856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Loc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number of local variables in this scope (for address allo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856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69960" y="2895480"/>
            <a:ext cx="8138520" cy="1815840"/>
            <a:chOff x="669960" y="2895480"/>
            <a:chExt cx="8138520" cy="1815840"/>
          </a:xfrm>
        </p:grpSpPr>
        <p:sp>
          <p:nvSpPr>
            <p:cNvPr id="281" name=""/>
            <p:cNvSpPr/>
            <p:nvPr/>
          </p:nvSpPr>
          <p:spPr>
            <a:xfrm>
              <a:off x="669960" y="2895480"/>
              <a:ext cx="28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Method for opening a sco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38240" y="3338640"/>
              <a:ext cx="3449880" cy="1372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OpenScop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 // in class Ta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cope s = new Scope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.nArgs = 0; s.nLocs = 0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.outer = topScop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pScope = s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01080" y="3300480"/>
              <a:ext cx="43074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alled at the beginning of a method or cl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inks the new scope with the existing 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ew scope become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opSco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ab.Insert()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lways creates symbols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opSco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69600" y="5105520"/>
            <a:ext cx="7211520" cy="1176120"/>
            <a:chOff x="669600" y="5105520"/>
            <a:chExt cx="7211520" cy="1176120"/>
          </a:xfrm>
        </p:grpSpPr>
        <p:sp>
          <p:nvSpPr>
            <p:cNvPr id="285" name=""/>
            <p:cNvSpPr/>
            <p:nvPr/>
          </p:nvSpPr>
          <p:spPr>
            <a:xfrm>
              <a:off x="669600" y="5105520"/>
              <a:ext cx="278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Method for closing a sco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37880" y="5548320"/>
              <a:ext cx="3480480" cy="733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CloseScop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 // in class Ta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pScope = topScope.outer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01440" y="5510160"/>
              <a:ext cx="337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alled at the end of a method or cl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ext outer scope become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opSco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448-4C89-4491-814B-2534B89AFA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ntering Names in Scop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0120" y="1154160"/>
            <a:ext cx="330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ames are always entered 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opSc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14240" y="1611360"/>
            <a:ext cx="5831640" cy="478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Tab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op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opSco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Zeiger auf aktuellen 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ymb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ymbol.Kinds kind, string name, Struct typ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--- create symbol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 sym = new Symbol(name, kind, typ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kind == Symbol.Kinds.Arg) sym.adr = topScope.nArgs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kind == Symbol.Kinds.Local) sym.adr = topScope.nLocs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--- insert symbol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 cur = topScope.locals, last = nul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cur != null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ur.name == name) Error(name + " declared twice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ast = cur; cur = cur.nex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st == null) topScope.locals = sym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last.next = sy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 sy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AC2A-8C1C-4DE8-908C-D6351B7C3B1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Opening and Closing a Scop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5560" y="4816440"/>
            <a:ext cx="56368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method name is entered in the method's enclosing sc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efore a scope is closed its local objects are assigned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.lo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opes are also opened and closed for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5000" y="1459080"/>
            <a:ext cx="6962040" cy="3077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ethodDec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Struct typ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urMethod = Tab.insert(Symbol.Kinds.Meth, token.str, typ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Tab.OpenScope(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{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}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urMethod.nArgs = topScope.nArg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urMethod.nLocs = topScope.nLoc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urMethod.locals = Tab.topScope.local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Tab.CloseScope(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24960" y="1454040"/>
            <a:ext cx="1393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lobal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590640" y="1746360"/>
            <a:ext cx="1522440" cy="1825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27E5-54CC-469D-A7E5-565CF2C3036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5880" y="1662120"/>
            <a:ext cx="14857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2489040"/>
            <a:ext cx="457200" cy="330480"/>
          </a:xfrm>
          <a:prstGeom prst="rect">
            <a:avLst/>
          </a:prstGeom>
          <a:solidFill>
            <a:srgbClr val="ccff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48320" y="2489040"/>
            <a:ext cx="228600" cy="152640"/>
          </a:xfrm>
          <a:prstGeom prst="rect">
            <a:avLst/>
          </a:prstGeom>
          <a:solidFill>
            <a:srgbClr val="ccff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76920" y="2489040"/>
            <a:ext cx="228600" cy="152640"/>
          </a:xfrm>
          <a:prstGeom prst="rect">
            <a:avLst/>
          </a:prstGeom>
          <a:solidFill>
            <a:srgbClr val="ccff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93120" y="1633680"/>
            <a:ext cx="49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n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48320" y="1701720"/>
            <a:ext cx="457200" cy="33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483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769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991040" y="179064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81600" y="1633680"/>
            <a:ext cx="656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har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92800" y="178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940160" y="1633680"/>
            <a:ext cx="427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P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42200" y="178920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762440" y="2031480"/>
            <a:ext cx="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762440" y="283212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80640" y="31608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top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4775040" y="16257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99080" y="161280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58880" y="2513160"/>
            <a:ext cx="164844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OpenScop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91040" y="25812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07040" y="251784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75760" y="15876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40720" y="17906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AC0-8D71-43DD-8E16-CD2E6152C1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5880" y="1662120"/>
            <a:ext cx="148572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nt a,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90240" y="2421000"/>
            <a:ext cx="40788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2489040"/>
            <a:ext cx="457200" cy="3304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8320" y="248904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76920" y="248904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91040" y="257796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98440" y="2421000"/>
            <a:ext cx="40788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05680" y="2584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1701720"/>
            <a:ext cx="457200" cy="33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83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769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91040" y="179064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762440" y="2031480"/>
            <a:ext cx="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762440" y="283212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80640" y="31608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top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775040" y="16257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99080" y="161280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52760" y="2398680"/>
            <a:ext cx="1884600" cy="52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Insert(..., "a", ...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Insert(..., "b", ...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0560" y="2286000"/>
            <a:ext cx="254160" cy="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3120" y="1633680"/>
            <a:ext cx="49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n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681600" y="1633680"/>
            <a:ext cx="656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har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92800" y="178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940160" y="1633680"/>
            <a:ext cx="427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P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42200" y="178920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75760" y="15876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740720" y="17906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F34D-4FA6-4692-8638-DB503E47BF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Responsibilities of the Symbol Tab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160" y="1320840"/>
            <a:ext cx="50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1. It stores all declared names and their 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8640" y="1674720"/>
            <a:ext cx="4530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value (for consta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ress (for local variables and method argum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ameters (for metho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3440" y="31496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2. It is used to retrieve the attributes of a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59120" y="3511440"/>
            <a:ext cx="381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pping: name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type, value, address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07400" y="4330800"/>
            <a:ext cx="4969080" cy="2068920"/>
            <a:chOff x="707400" y="4330800"/>
            <a:chExt cx="4969080" cy="2068920"/>
          </a:xfrm>
        </p:grpSpPr>
        <p:sp>
          <p:nvSpPr>
            <p:cNvPr id="51" name=""/>
            <p:cNvSpPr/>
            <p:nvPr/>
          </p:nvSpPr>
          <p:spPr>
            <a:xfrm>
              <a:off x="707400" y="4330800"/>
              <a:ext cx="296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ntents of the symbol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29000" y="4684680"/>
              <a:ext cx="446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3333cc"/>
                  </a:solidFill>
                  <a:latin typeface="Times New Roman"/>
                </a:rPr>
                <a:t>Symbol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nodes: information about declared n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3333cc"/>
                  </a:solidFill>
                  <a:latin typeface="Times New Roman"/>
                </a:rPr>
                <a:t>Structur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nodes: information about type struct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240" y="5332320"/>
              <a:ext cx="49172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=&gt; most suitably implemented as a dynamic data stru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 linear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 binary t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 has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2F6-D492-42C5-A38D-1DC14676F31B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85880" y="1662120"/>
            <a:ext cx="148572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a,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void M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2489040"/>
            <a:ext cx="457200" cy="3304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48320" y="248904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76920" y="248904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91040" y="257796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1701720"/>
            <a:ext cx="457200" cy="33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769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91040" y="179064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762440" y="2031480"/>
            <a:ext cx="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762440" y="360684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80640" y="39355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top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775040" y="16257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99080" y="161280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53120" y="2398680"/>
            <a:ext cx="1933200" cy="52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Insert(..., "M", ...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OpenScop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98720" y="2421000"/>
            <a:ext cx="45648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13520" y="2584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48320" y="3276720"/>
            <a:ext cx="457200" cy="330120"/>
          </a:xfrm>
          <a:prstGeom prst="rect">
            <a:avLst/>
          </a:prstGeom>
          <a:solidFill>
            <a:srgbClr val="ccff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48320" y="3276720"/>
            <a:ext cx="228600" cy="152280"/>
          </a:xfrm>
          <a:prstGeom prst="rect">
            <a:avLst/>
          </a:prstGeom>
          <a:solidFill>
            <a:srgbClr val="ccff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3276720"/>
            <a:ext cx="228600" cy="152280"/>
          </a:xfrm>
          <a:prstGeom prst="rect">
            <a:avLst/>
          </a:prstGeom>
          <a:solidFill>
            <a:srgbClr val="ccff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762440" y="2819520"/>
            <a:ext cx="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16600" y="335268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19640" y="328932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0560" y="2476440"/>
            <a:ext cx="254160" cy="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96720" y="2421000"/>
            <a:ext cx="40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97000" y="2421000"/>
            <a:ext cx="40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05680" y="2584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93120" y="1633680"/>
            <a:ext cx="49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n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81600" y="1633680"/>
            <a:ext cx="656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har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92800" y="178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940160" y="1633680"/>
            <a:ext cx="427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P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42200" y="178920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475760" y="15876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740720" y="17906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88E-E2DC-4FD8-B7B6-CBE6177BF2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5880" y="1662120"/>
            <a:ext cx="148572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a,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M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nt x, 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48320" y="2489040"/>
            <a:ext cx="457200" cy="3304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48320" y="248904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76920" y="248904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91040" y="257796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48320" y="1701720"/>
            <a:ext cx="457200" cy="33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483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769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91040" y="179064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4762440" y="2031480"/>
            <a:ext cx="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762440" y="360684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80640" y="39355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top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775040" y="16257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99080" y="161280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52760" y="3198960"/>
            <a:ext cx="1875240" cy="52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Insert(..., "x", ...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Insert(..., "y", ...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48320" y="3276720"/>
            <a:ext cx="457200" cy="33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648320" y="3276720"/>
            <a:ext cx="228600" cy="152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76920" y="3276720"/>
            <a:ext cx="228600" cy="152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4762440" y="2819520"/>
            <a:ext cx="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82320" y="3208320"/>
            <a:ext cx="39852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x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991040" y="336564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66400" y="3208320"/>
            <a:ext cx="39852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y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191280" y="33717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0560" y="2666880"/>
            <a:ext cx="254160" cy="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397280" y="2421000"/>
            <a:ext cx="456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013520" y="2584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96720" y="2421000"/>
            <a:ext cx="40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97000" y="2421000"/>
            <a:ext cx="40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205680" y="2584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93120" y="1633680"/>
            <a:ext cx="49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n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81600" y="1633680"/>
            <a:ext cx="656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har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292800" y="178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940160" y="1633680"/>
            <a:ext cx="427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P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42200" y="178920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75760" y="15876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740720" y="17906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D73-CC2A-4349-856E-D13B13D2B9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5880" y="1662120"/>
            <a:ext cx="1485720" cy="179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a,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M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x, 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48320" y="2489040"/>
            <a:ext cx="457200" cy="3304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48320" y="248904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76920" y="248904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991040" y="257796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1701720"/>
            <a:ext cx="457200" cy="33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483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769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91040" y="179064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4762440" y="2031480"/>
            <a:ext cx="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762440" y="281952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80640" y="314784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top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775040" y="16257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99080" y="161280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25360" y="3192480"/>
            <a:ext cx="39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x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209800" y="3200400"/>
            <a:ext cx="39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y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826400" y="3355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68520" y="2513160"/>
            <a:ext cx="204012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eth.locals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topScope.local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CloseScop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4800" y="273204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0560" y="3327480"/>
            <a:ext cx="254160" cy="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7280" y="2421000"/>
            <a:ext cx="456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013520" y="2584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96720" y="2421000"/>
            <a:ext cx="40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97000" y="2421000"/>
            <a:ext cx="40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205680" y="2584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93120" y="1633680"/>
            <a:ext cx="49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n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681600" y="1633680"/>
            <a:ext cx="656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har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92800" y="178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940160" y="1633680"/>
            <a:ext cx="427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P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42200" y="178920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475760" y="15876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40720" y="17906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B9BB-36FF-4CBC-B2D5-47DCBD6362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5880" y="1662120"/>
            <a:ext cx="1485720" cy="222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a,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M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x, 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1701720"/>
            <a:ext cx="457200" cy="33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6483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991040" y="179064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62440" y="20448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80640" y="237348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top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775040" y="16257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99080" y="161280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468520" y="2373480"/>
            <a:ext cx="204012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g.locals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topScope.local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CloseScop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0560" y="3733920"/>
            <a:ext cx="254160" cy="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25360" y="3192480"/>
            <a:ext cx="39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x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209800" y="3200400"/>
            <a:ext cx="39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y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826400" y="3355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4800" y="27320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397280" y="2421000"/>
            <a:ext cx="456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013520" y="2584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96720" y="2421000"/>
            <a:ext cx="40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597000" y="2421000"/>
            <a:ext cx="40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05680" y="2584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793120" y="1633680"/>
            <a:ext cx="49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n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681600" y="1633680"/>
            <a:ext cx="656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har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292800" y="178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940160" y="1633680"/>
            <a:ext cx="427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P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342200" y="178920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475760" y="15876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740720" y="17906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992920" y="2193840"/>
            <a:ext cx="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85000" y="2193840"/>
            <a:ext cx="21700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8155080" y="1944720"/>
            <a:ext cx="0" cy="24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B7A-1379-418F-B1C2-E88F0EE2D0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earching Names in the Symbol Tab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5960" y="1308240"/>
            <a:ext cx="56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 following method is called whenever a name is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20320" y="1801800"/>
            <a:ext cx="26740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 sym = Tab.Find(nam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07760" y="4762440"/>
            <a:ext cx="7084440" cy="1968480"/>
            <a:chOff x="707760" y="4762440"/>
            <a:chExt cx="7084440" cy="1968480"/>
          </a:xfrm>
        </p:grpSpPr>
        <p:sp>
          <p:nvSpPr>
            <p:cNvPr id="487" name=""/>
            <p:cNvSpPr/>
            <p:nvPr/>
          </p:nvSpPr>
          <p:spPr>
            <a:xfrm>
              <a:off x="707760" y="4762440"/>
              <a:ext cx="49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f a name is not found the method returns </a:t>
              </a:r>
              <a:r>
                <a:rPr b="1" i="1" lang="de-AT" sz="1800" spc="-1" strike="noStrike">
                  <a:solidFill>
                    <a:srgbClr val="000000"/>
                  </a:solidFill>
                  <a:latin typeface="Times New Roman"/>
                </a:rPr>
                <a:t>noSy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91440" y="5141880"/>
              <a:ext cx="4100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redeclared dummy 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etter tha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null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because it avoids aftereffects 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exception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42800" y="5176800"/>
              <a:ext cx="5893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Ar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Lo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18080" y="5176800"/>
              <a:ext cx="930960" cy="15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on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noSymbol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08240" y="5207040"/>
              <a:ext cx="62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21080" y="508968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oSy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368440" y="6563880"/>
              <a:ext cx="615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90880" y="648972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78160" y="5676840"/>
              <a:ext cx="60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65320" y="5537160"/>
              <a:ext cx="69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o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981160" y="5516640"/>
              <a:ext cx="665280" cy="317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740520" y="2284560"/>
            <a:ext cx="7384320" cy="2465640"/>
            <a:chOff x="740520" y="2284560"/>
            <a:chExt cx="7384320" cy="2465640"/>
          </a:xfrm>
        </p:grpSpPr>
        <p:sp>
          <p:nvSpPr>
            <p:cNvPr id="499" name=""/>
            <p:cNvSpPr/>
            <p:nvPr/>
          </p:nvSpPr>
          <p:spPr>
            <a:xfrm>
              <a:off x="841680" y="2970360"/>
              <a:ext cx="5022360" cy="1585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Symbol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in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string name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 (Scope s = topScope; s != null; s = s.out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 (Symbol sym = s.locals; sym != null; sym = sym.nex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sym.name == name) return sym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arser.Error(name + " is undeclared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turn noSym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0520" y="2284560"/>
              <a:ext cx="5237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okup starts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opSco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not found, the lookup is continued in the next outer sco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18200" y="4152960"/>
              <a:ext cx="291960" cy="1904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54920" y="4160880"/>
              <a:ext cx="14904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448040" y="4160880"/>
              <a:ext cx="15804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13680" y="4260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854840" y="4160880"/>
              <a:ext cx="14904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13640" y="42512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10160" y="4254480"/>
              <a:ext cx="6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70280" y="426240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18200" y="3606840"/>
              <a:ext cx="291960" cy="1904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57440" y="3614760"/>
              <a:ext cx="15804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467120" y="3614760"/>
              <a:ext cx="15804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232760" y="37148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867800" y="3614760"/>
              <a:ext cx="19908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32720" y="37148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10160" y="3708360"/>
              <a:ext cx="6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80200" y="390672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6257880" y="379728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18200" y="3060720"/>
              <a:ext cx="291960" cy="1904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44840" y="3068640"/>
              <a:ext cx="23436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26880" y="3068640"/>
              <a:ext cx="37008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h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89640" y="3168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410160" y="3162240"/>
              <a:ext cx="6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6257880" y="325116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6270480" y="2984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219720" y="297180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6257880" y="4343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99040" y="4567320"/>
              <a:ext cx="64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opSc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896240" y="31748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9CA-2232-4CF6-9690-53EDCDF96E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143000" y="3809880"/>
            <a:ext cx="6730920" cy="419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18920" y="1835280"/>
            <a:ext cx="28598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5.4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F78-3BFB-4D3D-B7A5-58AE07E1F68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yp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11360" y="1231920"/>
            <a:ext cx="48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very object has a type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ith the following prop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50600" y="1585800"/>
            <a:ext cx="484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ize (in Z# determined by meta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ructure (fields for classes, element type for arrays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708840" y="2374920"/>
            <a:ext cx="2458080" cy="1177920"/>
            <a:chOff x="708840" y="2374920"/>
            <a:chExt cx="2458080" cy="1177920"/>
          </a:xfrm>
        </p:grpSpPr>
        <p:sp>
          <p:nvSpPr>
            <p:cNvPr id="536" name=""/>
            <p:cNvSpPr/>
            <p:nvPr/>
          </p:nvSpPr>
          <p:spPr>
            <a:xfrm>
              <a:off x="708840" y="2374920"/>
              <a:ext cx="226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Kinds of types in Z#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50960" y="2728800"/>
              <a:ext cx="2415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rimitive types 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a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r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la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707760" y="3797280"/>
            <a:ext cx="4411440" cy="1945800"/>
            <a:chOff x="707760" y="3797280"/>
            <a:chExt cx="4411440" cy="1945800"/>
          </a:xfrm>
        </p:grpSpPr>
        <p:sp>
          <p:nvSpPr>
            <p:cNvPr id="539" name=""/>
            <p:cNvSpPr/>
            <p:nvPr/>
          </p:nvSpPr>
          <p:spPr>
            <a:xfrm>
              <a:off x="707760" y="3797280"/>
              <a:ext cx="423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ypes are represented by structure no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22680" y="4303800"/>
              <a:ext cx="4196520" cy="1439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lass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truc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enum Kinds { None, Int, Char, Arr, Class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Kind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ruc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lemTyp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Arr: element 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ymbol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ield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Class: list of fiel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7030-CBA1-45AA-BBA1-6FF0CC41218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ructure Nodes for Primitive Typ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07760" y="142092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object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25200" y="312408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ructure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5587920" y="1587600"/>
            <a:ext cx="393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6108840" y="3441600"/>
            <a:ext cx="241200" cy="241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951920" y="4951440"/>
            <a:ext cx="54860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re is just one structure node for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n the whole symbol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l symbols of typ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reference this 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ame is true for structure nodes of typ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28640" y="1417680"/>
            <a:ext cx="546480" cy="1736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86280" y="3657600"/>
            <a:ext cx="520560" cy="774720"/>
          </a:xfrm>
          <a:custGeom>
            <a:avLst/>
            <a:gdLst>
              <a:gd name="textAreaLeft" fmla="*/ 29160 w 520560"/>
              <a:gd name="textAreaRight" fmla="*/ 491400 w 520560"/>
              <a:gd name="textAreaTop" fmla="*/ 29160 h 774720"/>
              <a:gd name="textAreaBottom" fmla="*/ 745560 h 774720"/>
            </a:gdLst>
            <a:ahLst/>
            <a:rect l="textAreaLeft" t="textAreaTop" r="textAreaRight" b="textAreaBottom"/>
            <a:pathLst>
              <a:path w="21600" h="32139">
                <a:moveTo>
                  <a:pt x="4149" y="0"/>
                </a:moveTo>
                <a:arcTo wR="4149" hR="4149" stAng="16200000" swAng="-5400000"/>
                <a:lnTo>
                  <a:pt x="0" y="27990"/>
                </a:lnTo>
                <a:arcTo wR="4149" hR="4149" stAng="10800000" swAng="-5400000"/>
                <a:lnTo>
                  <a:pt x="17451" y="32139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11000" y="1407960"/>
            <a:ext cx="778320" cy="520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ar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02240" y="1417680"/>
            <a:ext cx="579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r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V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8240" y="1417680"/>
            <a:ext cx="546480" cy="1736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005080" y="1417680"/>
            <a:ext cx="546480" cy="1736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c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2760" y="3703680"/>
            <a:ext cx="85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lem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35240" y="3703680"/>
            <a:ext cx="351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050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14680" y="190008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74840" y="19051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17920" y="19051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705040" y="208296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75120" y="208296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613480" y="3657600"/>
            <a:ext cx="520560" cy="773280"/>
          </a:xfrm>
          <a:custGeom>
            <a:avLst/>
            <a:gdLst>
              <a:gd name="textAreaLeft" fmla="*/ 29160 w 520560"/>
              <a:gd name="textAreaRight" fmla="*/ 491400 w 520560"/>
              <a:gd name="textAreaTop" fmla="*/ 29160 h 773280"/>
              <a:gd name="textAreaBottom" fmla="*/ 744120 h 773280"/>
            </a:gdLst>
            <a:ahLst/>
            <a:rect l="textAreaLeft" t="textAreaTop" r="textAreaRight" b="textAreaBottom"/>
            <a:pathLst>
              <a:path w="21600" h="32079">
                <a:moveTo>
                  <a:pt x="4149" y="0"/>
                </a:moveTo>
                <a:arcTo wR="4149" hR="4149" stAng="16200000" swAng="-5400000"/>
                <a:lnTo>
                  <a:pt x="0" y="27930"/>
                </a:lnTo>
                <a:arcTo wR="4149" hR="4149" stAng="10800000" swAng="-5400000"/>
                <a:lnTo>
                  <a:pt x="17451" y="32079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610960" y="3703680"/>
            <a:ext cx="51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232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702400" y="19051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F6A-5D9B-4AA7-9FED-2831E2B65A1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ructure Nodes for Array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47240" y="4951440"/>
            <a:ext cx="381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length of an array is statically unkn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t is stored in the array at run 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28640" y="1417680"/>
            <a:ext cx="546480" cy="1736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86280" y="3657600"/>
            <a:ext cx="520560" cy="744480"/>
          </a:xfrm>
          <a:custGeom>
            <a:avLst/>
            <a:gdLst>
              <a:gd name="textAreaLeft" fmla="*/ 29160 w 520560"/>
              <a:gd name="textAreaRight" fmla="*/ 491400 w 520560"/>
              <a:gd name="textAreaTop" fmla="*/ 29160 h 744480"/>
              <a:gd name="textAreaBottom" fmla="*/ 715320 h 744480"/>
            </a:gdLst>
            <a:ahLst/>
            <a:rect l="textAreaLeft" t="textAreaTop" r="textAreaRight" b="textAreaBottom"/>
            <a:pathLst>
              <a:path w="21600" h="30885">
                <a:moveTo>
                  <a:pt x="4149" y="0"/>
                </a:moveTo>
                <a:arcTo wR="4149" hR="4149" stAng="16200000" swAng="-5400000"/>
                <a:lnTo>
                  <a:pt x="0" y="26736"/>
                </a:lnTo>
                <a:arcTo wR="4149" hR="4149" stAng="10800000" swAng="-5400000"/>
                <a:lnTo>
                  <a:pt x="17451" y="30885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11000" y="1407960"/>
            <a:ext cx="669960" cy="520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[]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02240" y="1417680"/>
            <a:ext cx="579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r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V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38240" y="1417680"/>
            <a:ext cx="546480" cy="1736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82760" y="3703680"/>
            <a:ext cx="85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lem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135600" y="3703680"/>
            <a:ext cx="383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050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74840" y="19051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05040" y="208296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327480" y="402912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67080" y="3657600"/>
            <a:ext cx="520920" cy="755640"/>
          </a:xfrm>
          <a:custGeom>
            <a:avLst/>
            <a:gdLst>
              <a:gd name="textAreaLeft" fmla="*/ 29160 w 520920"/>
              <a:gd name="textAreaRight" fmla="*/ 491760 w 520920"/>
              <a:gd name="textAreaTop" fmla="*/ 29160 h 755640"/>
              <a:gd name="textAreaBottom" fmla="*/ 726480 h 755640"/>
            </a:gdLst>
            <a:ahLst/>
            <a:rect l="textAreaLeft" t="textAreaTop" r="textAreaRight" b="textAreaBottom"/>
            <a:pathLst>
              <a:path w="21600" h="31326">
                <a:moveTo>
                  <a:pt x="4149" y="0"/>
                </a:moveTo>
                <a:arcTo wR="4149" hR="4149" stAng="16200000" swAng="-5400000"/>
                <a:lnTo>
                  <a:pt x="0" y="27177"/>
                </a:lnTo>
                <a:arcTo wR="4149" hR="4149" stAng="10800000" swAng="-5400000"/>
                <a:lnTo>
                  <a:pt x="17451" y="31326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54200" y="3703680"/>
            <a:ext cx="351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21120" y="190512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70480" y="19051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619-1FE9-41B6-A12F-7329FE7F73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ructure Nodes for Class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99360" y="4363920"/>
            <a:ext cx="511560" cy="1736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x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29720" y="1417680"/>
            <a:ext cx="520560" cy="1736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C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86280" y="3781440"/>
            <a:ext cx="520560" cy="755640"/>
          </a:xfrm>
          <a:custGeom>
            <a:avLst/>
            <a:gdLst>
              <a:gd name="textAreaLeft" fmla="*/ 29160 w 520560"/>
              <a:gd name="textAreaRight" fmla="*/ 491400 w 520560"/>
              <a:gd name="textAreaTop" fmla="*/ 29160 h 755640"/>
              <a:gd name="textAreaBottom" fmla="*/ 726480 h 755640"/>
            </a:gdLst>
            <a:ahLst/>
            <a:rect l="textAreaLeft" t="textAreaTop" r="textAreaRight" b="textAreaBottom"/>
            <a:pathLst>
              <a:path w="21600" h="31348">
                <a:moveTo>
                  <a:pt x="4149" y="0"/>
                </a:moveTo>
                <a:arcTo wR="4149" hR="4149" stAng="16200000" swAng="-5400000"/>
                <a:lnTo>
                  <a:pt x="0" y="27199"/>
                </a:lnTo>
                <a:arcTo wR="4149" hR="4149" stAng="10800000" swAng="-5400000"/>
                <a:lnTo>
                  <a:pt x="17451" y="31348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11360" y="1407960"/>
            <a:ext cx="877320" cy="1372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02240" y="1417680"/>
            <a:ext cx="579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r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V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738240" y="1417680"/>
            <a:ext cx="622800" cy="1736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v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82760" y="3827520"/>
            <a:ext cx="85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lem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84120" y="3827520"/>
            <a:ext cx="56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050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74840" y="190512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05040" y="208296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14880" y="4381560"/>
            <a:ext cx="128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32520" y="3065400"/>
            <a:ext cx="520560" cy="744480"/>
          </a:xfrm>
          <a:custGeom>
            <a:avLst/>
            <a:gdLst>
              <a:gd name="textAreaLeft" fmla="*/ 29160 w 520560"/>
              <a:gd name="textAreaRight" fmla="*/ 491400 w 520560"/>
              <a:gd name="textAreaTop" fmla="*/ 29160 h 744480"/>
              <a:gd name="textAreaBottom" fmla="*/ 715320 h 744480"/>
            </a:gdLst>
            <a:ahLst/>
            <a:rect l="textAreaLeft" t="textAreaTop" r="textAreaRight" b="textAreaBottom"/>
            <a:pathLst>
              <a:path w="21600" h="30885">
                <a:moveTo>
                  <a:pt x="4149" y="0"/>
                </a:moveTo>
                <a:arcTo wR="4149" hR="4149" stAng="16200000" swAng="-5400000"/>
                <a:lnTo>
                  <a:pt x="0" y="26736"/>
                </a:lnTo>
                <a:arcTo wR="4149" hR="4149" stAng="10800000" swAng="-5400000"/>
                <a:lnTo>
                  <a:pt x="17451" y="30885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100560" y="3103560"/>
            <a:ext cx="351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49236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492360" y="1905120"/>
            <a:ext cx="0" cy="18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972600" y="4363920"/>
            <a:ext cx="579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r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V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64520" y="4363920"/>
            <a:ext cx="511560" cy="1736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y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542640" y="4363920"/>
            <a:ext cx="511560" cy="1736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z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51360" y="50418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29480" y="50418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38760" y="487692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829480" y="4876920"/>
            <a:ext cx="44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0" y="487692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295960" y="4114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6286680" y="384804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7302600" y="4114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295960" y="3772080"/>
            <a:ext cx="74916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6540120" y="3772080"/>
            <a:ext cx="76212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ED4-CE8C-4785-8CC4-2D0E79BBB1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mbol Table as a Linear Lis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0000" y="12574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Given the following decla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33200" y="1738440"/>
            <a:ext cx="14594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t int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1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8920" y="295920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e get the following linear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27600" y="3327480"/>
            <a:ext cx="559080" cy="3254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02880" y="3033720"/>
            <a:ext cx="214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very declared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re is a Symbol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91000" y="4164120"/>
            <a:ext cx="6490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claration order is retained (important if addresses are assigned only la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low if there are many decla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20720" y="5283360"/>
            <a:ext cx="5758920" cy="1349640"/>
            <a:chOff x="720720" y="5283360"/>
            <a:chExt cx="5758920" cy="1349640"/>
          </a:xfrm>
        </p:grpSpPr>
        <p:sp>
          <p:nvSpPr>
            <p:cNvPr id="62" name=""/>
            <p:cNvSpPr/>
            <p:nvPr/>
          </p:nvSpPr>
          <p:spPr>
            <a:xfrm>
              <a:off x="720720" y="528336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Basic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18440" y="5686560"/>
              <a:ext cx="546120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class Tab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atic Symbol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nser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Symbol.Kinds kind, string name, ...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atic Symbol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in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string name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982080" y="3484440"/>
            <a:ext cx="61092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32760" y="3475080"/>
            <a:ext cx="5410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90840" y="3736800"/>
            <a:ext cx="24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93880" y="3475080"/>
            <a:ext cx="530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81400" y="373680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54280" y="3475080"/>
            <a:ext cx="530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32080" y="373680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4680" y="3475080"/>
            <a:ext cx="530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92480" y="373680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69960" y="3475080"/>
            <a:ext cx="5410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e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43520" y="3736800"/>
            <a:ext cx="21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723F-0E0A-4865-8F03-6FD2C20418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Type Compatibility: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Name Equivalenc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45200" y="1382760"/>
            <a:ext cx="554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wo types are equal if they are represented by the same type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i.e. if they are denoted by the same type </a:t>
            </a: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0960" y="4659480"/>
            <a:ext cx="676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types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re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ame equivalence is used in Java, C/C++/C#, Pascal, ..., Z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ceptio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 C# (and Z#) two array types are the same if they have the same element type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97040" y="2271600"/>
            <a:ext cx="1168200" cy="733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T {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92000" y="2255760"/>
            <a:ext cx="484560" cy="80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T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516480" y="2255760"/>
            <a:ext cx="586800" cy="80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550040" y="2246400"/>
            <a:ext cx="586800" cy="80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22560" y="3454560"/>
            <a:ext cx="520920" cy="744480"/>
          </a:xfrm>
          <a:custGeom>
            <a:avLst/>
            <a:gdLst>
              <a:gd name="textAreaLeft" fmla="*/ 29160 w 520920"/>
              <a:gd name="textAreaRight" fmla="*/ 491760 w 520920"/>
              <a:gd name="textAreaTop" fmla="*/ 29160 h 744480"/>
              <a:gd name="textAreaBottom" fmla="*/ 715320 h 744480"/>
            </a:gdLst>
            <a:ahLst/>
            <a:rect l="textAreaLeft" t="textAreaTop" r="textAreaRight" b="textAreaBottom"/>
            <a:pathLst>
              <a:path w="21600" h="30864">
                <a:moveTo>
                  <a:pt x="4149" y="0"/>
                </a:moveTo>
                <a:arcTo wR="4149" hR="4149" stAng="16200000" swAng="-5400000"/>
                <a:lnTo>
                  <a:pt x="0" y="26715"/>
                </a:lnTo>
                <a:arcTo wR="4149" hR="4149" stAng="10800000" swAng="-5400000"/>
                <a:lnTo>
                  <a:pt x="17451" y="30864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11040" y="3500280"/>
            <a:ext cx="56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811600" y="27687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213000" y="2768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794040" y="2768760"/>
            <a:ext cx="42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16320" y="2768760"/>
            <a:ext cx="0" cy="81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73320" y="238752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02200" y="2387520"/>
            <a:ext cx="44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470480" y="27687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457880" y="2768760"/>
            <a:ext cx="0" cy="81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354348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0AD-6400-490C-86C5-F6E50A7ABE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Type Compatibility: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Structural Equivalenc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52040" y="1382760"/>
            <a:ext cx="545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wo types are the same if they have the </a:t>
            </a: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same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i.e. the same fields of the same types, the same element type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45560" y="5599080"/>
            <a:ext cx="69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types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re equal (but not in Z#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ructural equivalence is used in Modula-3 but not in Z# and most other language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94880" y="2271600"/>
            <a:ext cx="1704600" cy="946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T1 { int a, b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T2 { int c, d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1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2 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98000" y="2255760"/>
            <a:ext cx="52056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T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64240" y="2255760"/>
            <a:ext cx="586800" cy="80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x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27480" y="3454560"/>
            <a:ext cx="520560" cy="685800"/>
          </a:xfrm>
          <a:custGeom>
            <a:avLst/>
            <a:gdLst>
              <a:gd name="textAreaLeft" fmla="*/ 29160 w 520560"/>
              <a:gd name="textAreaRight" fmla="*/ 491400 w 520560"/>
              <a:gd name="textAreaTop" fmla="*/ 29160 h 685800"/>
              <a:gd name="textAreaBottom" fmla="*/ 656640 h 685800"/>
            </a:gdLst>
            <a:ahLst/>
            <a:rect l="textAreaLeft" t="textAreaTop" r="textAreaRight" b="textAreaBottom"/>
            <a:pathLst>
              <a:path w="21600" h="28452">
                <a:moveTo>
                  <a:pt x="4149" y="0"/>
                </a:moveTo>
                <a:arcTo wR="4149" hR="4149" stAng="16200000" swAng="-5400000"/>
                <a:lnTo>
                  <a:pt x="0" y="24303"/>
                </a:lnTo>
                <a:arcTo wR="4149" hR="4149" stAng="10800000" swAng="-5400000"/>
                <a:lnTo>
                  <a:pt x="17451" y="28452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25680" y="3500280"/>
            <a:ext cx="56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156120" y="2768760"/>
            <a:ext cx="34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17920" y="2768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48280" y="2768760"/>
            <a:ext cx="42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68760" y="2768760"/>
            <a:ext cx="0" cy="81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425760" y="238752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3847680" y="3581280"/>
            <a:ext cx="70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080960" y="3894120"/>
            <a:ext cx="475560" cy="80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09680" y="3894120"/>
            <a:ext cx="475560" cy="80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613320" y="4013280"/>
            <a:ext cx="46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52920" y="40132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297040" y="2255760"/>
            <a:ext cx="484560" cy="80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T2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32680" y="2255760"/>
            <a:ext cx="586800" cy="80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y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65760" y="3454560"/>
            <a:ext cx="520920" cy="696600"/>
          </a:xfrm>
          <a:custGeom>
            <a:avLst/>
            <a:gdLst>
              <a:gd name="textAreaLeft" fmla="*/ 29160 w 520920"/>
              <a:gd name="textAreaRight" fmla="*/ 491760 w 520920"/>
              <a:gd name="textAreaTop" fmla="*/ 29160 h 696600"/>
              <a:gd name="textAreaBottom" fmla="*/ 667440 h 696600"/>
            </a:gdLst>
            <a:ahLst/>
            <a:rect l="textAreaLeft" t="textAreaTop" r="textAreaRight" b="textAreaBottom"/>
            <a:pathLst>
              <a:path w="21600" h="28880">
                <a:moveTo>
                  <a:pt x="4149" y="0"/>
                </a:moveTo>
                <a:arcTo wR="4149" hR="4149" stAng="16200000" swAng="-5400000"/>
                <a:lnTo>
                  <a:pt x="0" y="24731"/>
                </a:lnTo>
                <a:arcTo wR="4149" hR="4149" stAng="10800000" swAng="-5400000"/>
                <a:lnTo>
                  <a:pt x="17451" y="28880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63600" y="3500280"/>
            <a:ext cx="56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553000" y="276876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956200" y="2768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496200" y="2768760"/>
            <a:ext cx="45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950160" y="2768760"/>
            <a:ext cx="0" cy="81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788080" y="238752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6286680" y="3581280"/>
            <a:ext cx="66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519240" y="3894120"/>
            <a:ext cx="475560" cy="80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c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338240" y="3894120"/>
            <a:ext cx="475560" cy="80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d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043680" y="4013280"/>
            <a:ext cx="4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000920" y="401328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454640" y="2387520"/>
            <a:ext cx="82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65760" y="4863960"/>
            <a:ext cx="520920" cy="755640"/>
          </a:xfrm>
          <a:custGeom>
            <a:avLst/>
            <a:gdLst>
              <a:gd name="textAreaLeft" fmla="*/ 29160 w 520920"/>
              <a:gd name="textAreaRight" fmla="*/ 491760 w 520920"/>
              <a:gd name="textAreaTop" fmla="*/ 29160 h 755640"/>
              <a:gd name="textAreaBottom" fmla="*/ 726480 h 755640"/>
            </a:gdLst>
            <a:ahLst/>
            <a:rect l="textAreaLeft" t="textAreaTop" r="textAreaRight" b="textAreaBottom"/>
            <a:pathLst>
              <a:path w="21600" h="31326">
                <a:moveTo>
                  <a:pt x="4149" y="0"/>
                </a:moveTo>
                <a:arcTo wR="4149" hR="4149" stAng="16200000" swAng="-5400000"/>
                <a:lnTo>
                  <a:pt x="0" y="27177"/>
                </a:lnTo>
                <a:arcTo wR="4149" hR="4149" stAng="10800000" swAng="-5400000"/>
                <a:lnTo>
                  <a:pt x="17451" y="31326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49640" y="4910040"/>
            <a:ext cx="351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321080" y="439416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11680" y="4394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53040" y="439416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24560" y="4394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711680" y="501660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51800" y="4394160"/>
            <a:ext cx="41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162920" y="4394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05720" y="4394160"/>
            <a:ext cx="36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975440" y="4394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6286320" y="5003640"/>
            <a:ext cx="1688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4EE-7498-40F2-93C4-FA0981CF0D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Methods for Checking Type Compatibility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09560" y="1395360"/>
            <a:ext cx="181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13520" y="1263600"/>
            <a:ext cx="7845840" cy="5073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Struc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checks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, if two types are compatible (e.g. in comparis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bool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CompatibleWit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truct other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is.Equals(other) |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is == Tab.nullType &amp;&amp; other.IsRefType() |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ther == Tab.nullType &amp;&amp; this.isRefTyp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checks, if this can be assigned to d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bool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AssignableTo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truct dest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is.Equals(dest) ||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is == Tab.nullType &amp;&amp; dest.IsRefType() |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kind == Kinds.Arr &amp;&amp; dest.kind == Kinds.Arr &amp;&amp; dest.elemType == Tab.objTyp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checks, if two types are equal (structural equivalence for array, name equivalence otherwi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bool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Equals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uct other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kind == Kinds.Arr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ther.kind == Kinds.Arr &amp;&amp; elemType.Equals(other.elemTyp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 other == thi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bool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IsRef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 return kind == Kinds.Class || kind = Kinds.Arr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79320" y="4145040"/>
            <a:ext cx="3349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cessary for standard function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n(ar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 rot="16200000">
            <a:off x="4738680" y="949320"/>
            <a:ext cx="139680" cy="6220080"/>
          </a:xfrm>
          <a:custGeom>
            <a:avLst/>
            <a:gdLst>
              <a:gd name="textAreaLeft" fmla="*/ 89280 w 139680"/>
              <a:gd name="textAreaRight" fmla="*/ 140040 w 139680"/>
              <a:gd name="textAreaTop" fmla="*/ 162000 h 6220080"/>
              <a:gd name="textAreaBottom" fmla="*/ 6058080 h 622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5278"/>
                </a:lnTo>
                <a:cubicBezTo>
                  <a:pt x="10800" y="6178"/>
                  <a:pt x="5400" y="7078"/>
                  <a:pt x="0" y="7078"/>
                </a:cubicBezTo>
                <a:cubicBezTo>
                  <a:pt x="5400" y="7078"/>
                  <a:pt x="10800" y="7978"/>
                  <a:pt x="10800" y="887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DF48-1D08-4A6B-B6B9-D7EF5CD96FB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Solving LL(1) Conflicts with the Symbol Table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99920" y="130644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ethod syntax in Z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047600" y="1776240"/>
            <a:ext cx="107532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oo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0; 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3851640" y="1306440"/>
            <a:ext cx="4542120" cy="3849120"/>
            <a:chOff x="3851640" y="1306440"/>
            <a:chExt cx="4542120" cy="3849120"/>
          </a:xfrm>
        </p:grpSpPr>
        <p:sp>
          <p:nvSpPr>
            <p:cNvPr id="684" name=""/>
            <p:cNvSpPr/>
            <p:nvPr/>
          </p:nvSpPr>
          <p:spPr>
            <a:xfrm>
              <a:off x="3853440" y="1306440"/>
              <a:ext cx="340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ctually we are used to write it like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096440" y="1776240"/>
              <a:ext cx="1162080" cy="946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oo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 a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0; ..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851640" y="2944800"/>
              <a:ext cx="350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ut this would result in an LL(1) confli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090680" y="3782880"/>
              <a:ext cx="3663000" cy="1372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ock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{" { VarDecl | Statement } "}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arDecl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ype ident { "," ident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yp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[ "[" "]" 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 "=" Expr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{ "." ident | "[" Expr "]"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638680" y="3772080"/>
              <a:ext cx="1663920" cy="29196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20320" y="3346560"/>
              <a:ext cx="367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VarDecl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tateme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de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6286680" y="3606480"/>
              <a:ext cx="164880" cy="165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391E-30AA-4E4A-9DA3-117EEACB73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Solving the Conflict With Semantic Information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43600" y="1558800"/>
            <a:ext cx="32115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ock = "{" { VarDecl | Statement } "}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85880" y="1509840"/>
            <a:ext cx="3849480" cy="265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lock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LBRAC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NextTokenIsType(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 VarDecl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la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irst(Statement)) Stateme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la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rbrace, eof})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("...");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recov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RBRAC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85880" y="4264200"/>
            <a:ext cx="3844800" cy="1159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extTokenIs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!= ident) return fal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 sym = Tab.Find(laToken.st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 sym.kind == Symbol.Kinds.Typ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C2D9-DEDF-4A9B-A378-6B52C57426C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143000" y="422928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18920" y="1835280"/>
            <a:ext cx="28598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5.5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37FB-EAE2-4CA1-8B15-4DE4A1C4AC9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ructure of the "universe"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934320" y="5143680"/>
            <a:ext cx="520560" cy="753840"/>
          </a:xfrm>
          <a:custGeom>
            <a:avLst/>
            <a:gdLst>
              <a:gd name="textAreaLeft" fmla="*/ 29160 w 520560"/>
              <a:gd name="textAreaRight" fmla="*/ 491400 w 520560"/>
              <a:gd name="textAreaTop" fmla="*/ 29160 h 753840"/>
              <a:gd name="textAreaBottom" fmla="*/ 724680 h 753840"/>
            </a:gdLst>
            <a:ahLst/>
            <a:rect l="textAreaLeft" t="textAreaTop" r="textAreaRight" b="textAreaBottom"/>
            <a:pathLst>
              <a:path w="21600" h="31273">
                <a:moveTo>
                  <a:pt x="4149" y="0"/>
                </a:moveTo>
                <a:arcTo wR="4149" hR="4149" stAng="16200000" swAng="-5400000"/>
                <a:lnTo>
                  <a:pt x="0" y="27124"/>
                </a:lnTo>
                <a:arcTo wR="4149" hR="4149" stAng="10800000" swAng="-5400000"/>
                <a:lnTo>
                  <a:pt x="17451" y="31273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44400" y="1481040"/>
            <a:ext cx="589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r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L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290240" y="1481040"/>
            <a:ext cx="484560" cy="153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int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54600" y="1481040"/>
            <a:ext cx="548640" cy="153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cha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77640" y="1481040"/>
            <a:ext cx="543960" cy="153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null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074840" y="1481040"/>
            <a:ext cx="484560" cy="153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M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ch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057640" y="1481040"/>
            <a:ext cx="484560" cy="153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M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ord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982840" y="1481040"/>
            <a:ext cx="484560" cy="153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M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len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790640" y="161280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22720" y="3322800"/>
            <a:ext cx="382320" cy="153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i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091840" y="3341520"/>
            <a:ext cx="412920" cy="153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ch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003360" y="3332160"/>
            <a:ext cx="437400" cy="153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ar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17840" y="288288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305320" y="288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226200" y="288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752480" y="5143680"/>
            <a:ext cx="520920" cy="744480"/>
          </a:xfrm>
          <a:custGeom>
            <a:avLst/>
            <a:gdLst>
              <a:gd name="textAreaLeft" fmla="*/ 29160 w 520920"/>
              <a:gd name="textAreaRight" fmla="*/ 491760 w 520920"/>
              <a:gd name="textAreaTop" fmla="*/ 29160 h 744480"/>
              <a:gd name="textAreaBottom" fmla="*/ 715320 h 744480"/>
            </a:gdLst>
            <a:ahLst/>
            <a:rect l="textAreaLeft" t="textAreaTop" r="textAreaRight" b="textAreaBottom"/>
            <a:pathLst>
              <a:path w="21600" h="30864">
                <a:moveTo>
                  <a:pt x="4149" y="0"/>
                </a:moveTo>
                <a:arcTo wR="4149" hR="4149" stAng="16200000" swAng="-5400000"/>
                <a:lnTo>
                  <a:pt x="0" y="26715"/>
                </a:lnTo>
                <a:arcTo wR="4149" hR="4149" stAng="10800000" swAng="-5400000"/>
                <a:lnTo>
                  <a:pt x="17451" y="30864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01800" y="5189400"/>
            <a:ext cx="351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705040" y="161280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625920" y="1612800"/>
            <a:ext cx="45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565520" y="1612800"/>
            <a:ext cx="47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537160" y="1612800"/>
            <a:ext cx="428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531800" y="1994040"/>
            <a:ext cx="3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1994040"/>
            <a:ext cx="0" cy="31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79840" y="5143680"/>
            <a:ext cx="520560" cy="755640"/>
          </a:xfrm>
          <a:custGeom>
            <a:avLst/>
            <a:gdLst>
              <a:gd name="textAreaLeft" fmla="*/ 29160 w 520560"/>
              <a:gd name="textAreaRight" fmla="*/ 491400 w 520560"/>
              <a:gd name="textAreaTop" fmla="*/ 29160 h 755640"/>
              <a:gd name="textAreaBottom" fmla="*/ 726480 h 755640"/>
            </a:gdLst>
            <a:ahLst/>
            <a:rect l="textAreaLeft" t="textAreaTop" r="textAreaRight" b="textAreaBottom"/>
            <a:pathLst>
              <a:path w="21600" h="31348">
                <a:moveTo>
                  <a:pt x="4149" y="0"/>
                </a:moveTo>
                <a:arcTo wR="4149" hR="4149" stAng="16200000" swAng="-5400000"/>
                <a:lnTo>
                  <a:pt x="0" y="27199"/>
                </a:lnTo>
                <a:arcTo wR="4149" hR="4149" stAng="10800000" swAng="-5400000"/>
                <a:lnTo>
                  <a:pt x="17451" y="31348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702520" y="5199120"/>
            <a:ext cx="51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421000" y="2003400"/>
            <a:ext cx="38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806560" y="2014560"/>
            <a:ext cx="0" cy="311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81280" y="5143680"/>
            <a:ext cx="520920" cy="745920"/>
          </a:xfrm>
          <a:custGeom>
            <a:avLst/>
            <a:gdLst>
              <a:gd name="textAreaLeft" fmla="*/ 29160 w 520920"/>
              <a:gd name="textAreaRight" fmla="*/ 491760 w 520920"/>
              <a:gd name="textAreaTop" fmla="*/ 29160 h 745920"/>
              <a:gd name="textAreaBottom" fmla="*/ 716760 h 745920"/>
            </a:gdLst>
            <a:ahLst/>
            <a:rect l="textAreaLeft" t="textAreaTop" r="textAreaRight" b="textAreaBottom"/>
            <a:pathLst>
              <a:path w="21600" h="30923">
                <a:moveTo>
                  <a:pt x="4149" y="0"/>
                </a:moveTo>
                <a:arcTo wR="4149" hR="4149" stAng="16200000" swAng="-5400000"/>
                <a:lnTo>
                  <a:pt x="0" y="26774"/>
                </a:lnTo>
                <a:arcTo wR="4149" hR="4149" stAng="10800000" swAng="-5400000"/>
                <a:lnTo>
                  <a:pt x="17451" y="30923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579480" y="5189400"/>
            <a:ext cx="56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343320" y="2003400"/>
            <a:ext cx="41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759120" y="200664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984480" y="2003400"/>
            <a:ext cx="3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984120" y="2003400"/>
            <a:ext cx="1800" cy="11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2920680" y="3098880"/>
            <a:ext cx="105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921040" y="3098880"/>
            <a:ext cx="0" cy="20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902120" y="2003400"/>
            <a:ext cx="3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898880" y="2003400"/>
            <a:ext cx="0" cy="11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1981080" y="3174840"/>
            <a:ext cx="386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981080" y="3174840"/>
            <a:ext cx="0" cy="195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45320" y="2003400"/>
            <a:ext cx="39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842080" y="2006640"/>
            <a:ext cx="0" cy="11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082600" y="3822840"/>
            <a:ext cx="221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082960" y="3822840"/>
            <a:ext cx="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3022200" y="3898440"/>
            <a:ext cx="2282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22560" y="389880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24560" y="5143680"/>
            <a:ext cx="520560" cy="753840"/>
          </a:xfrm>
          <a:custGeom>
            <a:avLst/>
            <a:gdLst>
              <a:gd name="textAreaLeft" fmla="*/ 29160 w 520560"/>
              <a:gd name="textAreaRight" fmla="*/ 491400 w 520560"/>
              <a:gd name="textAreaTop" fmla="*/ 29160 h 753840"/>
              <a:gd name="textAreaBottom" fmla="*/ 724680 h 753840"/>
            </a:gdLst>
            <a:ahLst/>
            <a:rect l="textAreaLeft" t="textAreaTop" r="textAreaRight" b="textAreaBottom"/>
            <a:pathLst>
              <a:path w="21600" h="31273">
                <a:moveTo>
                  <a:pt x="4149" y="0"/>
                </a:moveTo>
                <a:arcTo wR="4149" hR="4149" stAng="16200000" swAng="-5400000"/>
                <a:lnTo>
                  <a:pt x="0" y="27124"/>
                </a:lnTo>
                <a:arcTo wR="4149" hR="4149" stAng="10800000" swAng="-5400000"/>
                <a:lnTo>
                  <a:pt x="17451" y="31273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596200" y="5189400"/>
            <a:ext cx="383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5791320" y="3822840"/>
            <a:ext cx="41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791320" y="382284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324920" y="1481040"/>
            <a:ext cx="930960" cy="153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noSymbol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918120" y="5189400"/>
            <a:ext cx="54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7200720" y="2009880"/>
            <a:ext cx="60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191360" y="2014560"/>
            <a:ext cx="9720" cy="312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78952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1981080" y="58863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586880" y="6049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ff0000"/>
                </a:solidFill>
                <a:latin typeface="Times New Roman"/>
              </a:rPr>
              <a:t>int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2946240" y="58863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487600" y="604980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ff0000"/>
                </a:solidFill>
                <a:latin typeface="Times New Roman"/>
              </a:rPr>
              <a:t>char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886200" y="58863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66080" y="604980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ff0000"/>
                </a:solidFill>
                <a:latin typeface="Times New Roman"/>
              </a:rPr>
              <a:t>null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7188120" y="58863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31000" y="604980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ff0000"/>
                </a:solidFill>
                <a:latin typeface="Times New Roman"/>
              </a:rPr>
              <a:t>n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343400" y="131112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98880" y="10270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ff0000"/>
                </a:solidFill>
                <a:latin typeface="Times New Roman"/>
              </a:rPr>
              <a:t>chrSy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283360" y="131112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938480" y="10270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ff0000"/>
                </a:solidFill>
                <a:latin typeface="Times New Roman"/>
              </a:rPr>
              <a:t>ordSy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197760" y="131112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853600" y="10270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ff0000"/>
                </a:solidFill>
                <a:latin typeface="Times New Roman"/>
              </a:rPr>
              <a:t>lenSy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783560" y="131112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422840" y="102708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ff0000"/>
                </a:solidFill>
                <a:latin typeface="Times New Roman"/>
              </a:rPr>
              <a:t>noSy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48960" y="5189400"/>
            <a:ext cx="85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lem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242040" y="5149800"/>
            <a:ext cx="520560" cy="754200"/>
          </a:xfrm>
          <a:custGeom>
            <a:avLst/>
            <a:gdLst>
              <a:gd name="textAreaLeft" fmla="*/ 29160 w 520560"/>
              <a:gd name="textAreaRight" fmla="*/ 491400 w 520560"/>
              <a:gd name="textAreaTop" fmla="*/ 29160 h 754200"/>
              <a:gd name="textAreaBottom" fmla="*/ 725040 h 754200"/>
            </a:gdLst>
            <a:ahLst/>
            <a:rect l="textAreaLeft" t="textAreaTop" r="textAreaRight" b="textAreaBottom"/>
            <a:pathLst>
              <a:path w="21600" h="31288">
                <a:moveTo>
                  <a:pt x="4149" y="0"/>
                </a:moveTo>
                <a:arcTo wR="4149" hR="4149" stAng="16200000" swAng="-5400000"/>
                <a:lnTo>
                  <a:pt x="0" y="27139"/>
                </a:lnTo>
                <a:arcTo wR="4149" hR="4149" stAng="10800000" swAng="-5400000"/>
                <a:lnTo>
                  <a:pt x="17451" y="31288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207120" y="5195880"/>
            <a:ext cx="58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496200" y="589284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139080" y="605628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ff0000"/>
                </a:solidFill>
                <a:latin typeface="Times New Roman"/>
              </a:rPr>
              <a:t>obj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158-863A-4712-ACCE-8D6A1865CB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terface of the Symbol Tab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981720" y="1293840"/>
            <a:ext cx="6047640" cy="394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co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opSco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current top 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tru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nt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predefined 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tru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har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tru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ull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tru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o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hrSy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predefined symb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ordSy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enSy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oSy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ymbol.Kinds kind, string name, Struct type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tring name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OpenScope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loseScope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nit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...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builds the universe and initializes T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D55-645E-4E08-B9D2-BCF03F2090A4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mbol Table as a Binary Tre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1800" y="125748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cla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33200" y="1738440"/>
            <a:ext cx="14594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t int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1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1080" y="295920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Resulting binary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32640" y="3656160"/>
            <a:ext cx="3594600" cy="17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 can degenerate unless it is 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 larger memory consum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 declaration order is l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nly useful if there are many decla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28240" y="5135400"/>
            <a:ext cx="61092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48880" y="3522600"/>
            <a:ext cx="5410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e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20720" y="4363920"/>
            <a:ext cx="530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7160" y="5135400"/>
            <a:ext cx="530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09360" y="5135400"/>
            <a:ext cx="530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22040" y="4335480"/>
            <a:ext cx="5410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438200" y="4861080"/>
            <a:ext cx="17784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49560" y="4870440"/>
            <a:ext cx="15228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40240" y="4842000"/>
            <a:ext cx="17784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146320" y="4027320"/>
            <a:ext cx="496800" cy="34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92480" y="4021200"/>
            <a:ext cx="531720" cy="3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3FA4-03F2-441B-9209-B2AA1EAC1E63}" type="slidenum">
              <a:t>4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mbol Table as a Hashtab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1800" y="125748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cla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33200" y="1738440"/>
            <a:ext cx="14594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t int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1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2880" y="29592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Resulting hash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38360" y="3656160"/>
            <a:ext cx="3108240" cy="9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 more complicated than a linear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 declaration order is l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4000" y="5294160"/>
            <a:ext cx="389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our purposes a linear list is 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very scope is a list of its own any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scope has hardly more than 10 n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18640" y="4929120"/>
            <a:ext cx="61092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18640" y="3598920"/>
            <a:ext cx="5410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e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19000" y="4249800"/>
            <a:ext cx="530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19000" y="5570640"/>
            <a:ext cx="530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89120" y="5573880"/>
            <a:ext cx="530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8120" y="4249800"/>
            <a:ext cx="5410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92240" y="3543480"/>
            <a:ext cx="291960" cy="66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92240" y="4203720"/>
            <a:ext cx="291960" cy="66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2240" y="4863960"/>
            <a:ext cx="291960" cy="66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92240" y="5524560"/>
            <a:ext cx="291960" cy="66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44520" y="3860640"/>
            <a:ext cx="47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44520" y="4508640"/>
            <a:ext cx="47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44520" y="5181480"/>
            <a:ext cx="47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4520" y="5829480"/>
            <a:ext cx="47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47840" y="582948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47840" y="451152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11080" y="3681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1080" y="4367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1080" y="5014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11080" y="5675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8C2-6BC8-4AC9-96CA-DA0436458ED3}" type="slidenum">
              <a:t>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292104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8920" y="1835280"/>
            <a:ext cx="28598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C8B-FB94-4D6F-B2C6-6E609803558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mbol Nod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2320" y="111600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very declared name is stored in a Symbol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9960" y="158760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Kinds of symbols in Z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5800" y="1903320"/>
            <a:ext cx="1877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lobal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ethod arg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06440" y="1814400"/>
            <a:ext cx="1748880" cy="2225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num Kind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loba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el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r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ca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eth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87240" y="4044960"/>
            <a:ext cx="8062200" cy="2356560"/>
            <a:chOff x="687240" y="4044960"/>
            <a:chExt cx="8062200" cy="2356560"/>
          </a:xfrm>
        </p:grpSpPr>
        <p:sp>
          <p:nvSpPr>
            <p:cNvPr id="126" name=""/>
            <p:cNvSpPr/>
            <p:nvPr/>
          </p:nvSpPr>
          <p:spPr>
            <a:xfrm>
              <a:off x="759240" y="4044960"/>
              <a:ext cx="438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What information is needed about object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7240" y="4360680"/>
              <a:ext cx="806220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2693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all symbol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ame, type structure, symbol kind, pointer to the next 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2693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constant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2693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method argument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ddress (= order of declar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2693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local variable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ddress (= order of declar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2693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method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umber of arguments and local variables, 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cal symbols (args + local var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2693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program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lobal symbols (= local to the progra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2693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global vars, fields, type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AB8C-B00E-4F80-9F01-04FABA9A59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ossible Object-oriented Architectur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2200" y="1181160"/>
            <a:ext cx="34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ossible class hierarchy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95880" y="4011480"/>
            <a:ext cx="6557040" cy="1327680"/>
            <a:chOff x="695880" y="4011480"/>
            <a:chExt cx="6557040" cy="1327680"/>
          </a:xfrm>
        </p:grpSpPr>
        <p:sp>
          <p:nvSpPr>
            <p:cNvPr id="131" name=""/>
            <p:cNvSpPr/>
            <p:nvPr/>
          </p:nvSpPr>
          <p:spPr>
            <a:xfrm>
              <a:off x="695880" y="4011480"/>
              <a:ext cx="65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owever, this is too complicated because it would require too many type ca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83160" y="4392720"/>
              <a:ext cx="4152240" cy="946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ymbol sym = Tab.Find("x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sym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rgument) ((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rgu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sym).adr = ...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if (sym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Method) ((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Metho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sym).nArgs = ...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13000" y="5443560"/>
            <a:ext cx="764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refore we choose a "flat implementation": all information is stored in a single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is is ok beca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tensibility is not required: we never need to add new object vari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e do not need dynamically bound method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31840" y="1655640"/>
            <a:ext cx="732240" cy="8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30400" y="1930320"/>
            <a:ext cx="73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6880" y="2979720"/>
            <a:ext cx="840600" cy="49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61840" y="325440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92440" y="2979720"/>
            <a:ext cx="666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32280" y="2979720"/>
            <a:ext cx="5461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77760" y="2979720"/>
            <a:ext cx="721800" cy="8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r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V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70560" y="325440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136600" y="28224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800440" y="28224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632040" y="28256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448160" y="28224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98160" y="2816280"/>
            <a:ext cx="54133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25960" y="2530440"/>
            <a:ext cx="152280" cy="139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301920" y="26650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65480" y="2981160"/>
            <a:ext cx="900000" cy="49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Arg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71960" y="3252960"/>
            <a:ext cx="89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09000" y="2981160"/>
            <a:ext cx="808560" cy="49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03960" y="3236760"/>
            <a:ext cx="81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61960" y="2982960"/>
            <a:ext cx="579960" cy="49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62320" y="3257640"/>
            <a:ext cx="57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716880" y="28256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98520" y="28256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105520" y="28224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30440" y="2976480"/>
            <a:ext cx="5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835600" y="2823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9462-82F0-46AE-8F16-2ED3C6F0DD22}" type="slidenum">
              <a:t>8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lass Symbol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0240" y="1122480"/>
            <a:ext cx="7404480" cy="271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num Kinds { Const, Global, Field, Arg, Local, Type, Meth, Prog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Kind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ki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Const: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d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Arg, Local: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Arg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Meth: number of argu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Loc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Meth: number of local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ocal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Meth: parameters &amp; local variables; Prog: symbol table of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96960" y="4124160"/>
            <a:ext cx="8207280" cy="2283120"/>
            <a:chOff x="696960" y="4124160"/>
            <a:chExt cx="8207280" cy="2283120"/>
          </a:xfrm>
        </p:grpSpPr>
        <p:sp>
          <p:nvSpPr>
            <p:cNvPr id="163" name=""/>
            <p:cNvSpPr/>
            <p:nvPr/>
          </p:nvSpPr>
          <p:spPr>
            <a:xfrm>
              <a:off x="3062880" y="4221000"/>
              <a:ext cx="579960" cy="15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on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n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5360" y="4516560"/>
              <a:ext cx="1703160" cy="1372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int </a:t>
              </a: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10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lass </a:t>
              </a: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 ...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 </a:t>
              </a: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</a:t>
              </a: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M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int </a:t>
              </a: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, int </a:t>
              </a: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ar </a:t>
              </a: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ch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...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47640" y="4221000"/>
              <a:ext cx="5893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Ar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Lo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349800" y="4708080"/>
              <a:ext cx="447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99800" y="4221000"/>
              <a:ext cx="520560" cy="15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T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25880" y="4708440"/>
              <a:ext cx="458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87400" y="4221000"/>
              <a:ext cx="622800" cy="15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Glob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a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62440" y="470844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2760" y="4221000"/>
              <a:ext cx="622800" cy="15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Glob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b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59480" y="4708440"/>
              <a:ext cx="44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2080" y="4221000"/>
              <a:ext cx="520560" cy="15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Me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M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86680" y="5667480"/>
              <a:ext cx="50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84560" y="4846680"/>
              <a:ext cx="418320" cy="15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x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61120" y="470844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05720" y="464508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10280" y="54100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6960" y="412416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42120" y="4853160"/>
              <a:ext cx="546480" cy="15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ch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59640" y="54118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904240" y="534816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67120" y="4853160"/>
              <a:ext cx="418320" cy="15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y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93200" y="541656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31E0-64EA-482D-B5CC-EA8A8D4323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29:13Z</dcterms:created>
  <dc:creator>Mössenböck</dc:creator>
  <dc:description/>
  <dc:language>en-US</dc:language>
  <cp:lastModifiedBy>ml</cp:lastModifiedBy>
  <cp:lastPrinted>2001-09-28T08:52:55Z</cp:lastPrinted>
  <dcterms:modified xsi:type="dcterms:W3CDTF">2006-02-08T16:49:44Z</dcterms:modified>
  <cp:revision>532</cp:revision>
  <dc:subject/>
  <dc:title>Javascript-Anweisungen</dc:title>
</cp:coreProperties>
</file>