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979-589D-49FD-8977-44F9582A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796-973D-457C-94F0-BFEE2A40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359-2FEB-417B-AFCE-3F77D2D5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C50-0BF7-4940-B338-481F5048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419-C2A1-49CB-92A3-853A898C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753-26F6-4D07-A303-7501F3A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C0B-385A-49E2-97BE-D305AEB9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09B-9BF6-466C-9FB6-FA49C7DA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682-CB12-447A-9642-D0F25FCF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3DB-5AE2-4EDF-AB32-D5D9B10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ACE-B65E-4176-B941-0A35E3A5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68B-40D2-40D4-B7EA-2099A13D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3FE5-DC85-4A8F-A322-59FA3B6D2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489040"/>
            <a:ext cx="698508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1835280"/>
            <a:ext cx="7421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ntext-Free Grammars and Push-Dow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cursive Descent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FF5-A822-408E-876F-3802F27186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cursive Descent Par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1800" y="1154160"/>
            <a:ext cx="629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-down parsing 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yntax tree is build from the start symbol to the sentence (top-d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19120" y="2095560"/>
            <a:ext cx="4497480" cy="724320"/>
            <a:chOff x="519120" y="2095560"/>
            <a:chExt cx="4497480" cy="724320"/>
          </a:xfrm>
        </p:grpSpPr>
        <p:sp>
          <p:nvSpPr>
            <p:cNvPr id="368" name=""/>
            <p:cNvSpPr/>
            <p:nvPr/>
          </p:nvSpPr>
          <p:spPr>
            <a:xfrm>
              <a:off x="519120" y="209556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80440" y="211896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8440" y="211896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3160" y="2512800"/>
              <a:ext cx="13572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A c |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59200" y="2512800"/>
              <a:ext cx="11574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246360" y="3257640"/>
            <a:ext cx="1030320" cy="1399320"/>
            <a:chOff x="6246360" y="3257640"/>
            <a:chExt cx="1030320" cy="1399320"/>
          </a:xfrm>
        </p:grpSpPr>
        <p:sp>
          <p:nvSpPr>
            <p:cNvPr id="374" name=""/>
            <p:cNvSpPr/>
            <p:nvPr/>
          </p:nvSpPr>
          <p:spPr>
            <a:xfrm>
              <a:off x="624636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7648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76480" y="408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616800" y="430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8140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81400" y="408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921360" y="4305600"/>
              <a:ext cx="0" cy="126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616800" y="40255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921360" y="40255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11760" y="4025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781680" y="393660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29480" y="368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299280" y="3924000"/>
              <a:ext cx="0" cy="50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46360" y="368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5960" y="4443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238880" y="3924000"/>
              <a:ext cx="0" cy="50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8596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299280" y="36068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781680" y="3483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226280" y="36068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94600" y="3603600"/>
              <a:ext cx="9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29480" y="3257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47720" y="3186000"/>
            <a:ext cx="3621240" cy="1531080"/>
            <a:chOff x="747720" y="3186000"/>
            <a:chExt cx="3621240" cy="1531080"/>
          </a:xfrm>
        </p:grpSpPr>
        <p:sp>
          <p:nvSpPr>
            <p:cNvPr id="397" name=""/>
            <p:cNvSpPr/>
            <p:nvPr/>
          </p:nvSpPr>
          <p:spPr>
            <a:xfrm>
              <a:off x="748800" y="3186000"/>
              <a:ext cx="118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7720" y="437976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3400" y="444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23520" y="444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28440" y="444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33000" y="444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76520" y="3257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10920" y="349236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4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31800" y="3541320"/>
              <a:ext cx="10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t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709520" y="3257640"/>
            <a:ext cx="1030320" cy="1399320"/>
            <a:chOff x="4709520" y="3257640"/>
            <a:chExt cx="1030320" cy="1399320"/>
          </a:xfrm>
        </p:grpSpPr>
        <p:sp>
          <p:nvSpPr>
            <p:cNvPr id="407" name=""/>
            <p:cNvSpPr/>
            <p:nvPr/>
          </p:nvSpPr>
          <p:spPr>
            <a:xfrm>
              <a:off x="470952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3964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4456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2640" y="368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4762440" y="3924000"/>
              <a:ext cx="0" cy="50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09520" y="368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49120" y="4443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702400" y="3924000"/>
              <a:ext cx="0" cy="50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4912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762440" y="36068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245200" y="3483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689440" y="36068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57760" y="3603600"/>
              <a:ext cx="9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92640" y="3257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78160" y="3940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41960" y="5257800"/>
            <a:ext cx="4275720" cy="1023480"/>
            <a:chOff x="741960" y="5257800"/>
            <a:chExt cx="4275720" cy="1023480"/>
          </a:xfrm>
        </p:grpSpPr>
        <p:sp>
          <p:nvSpPr>
            <p:cNvPr id="423" name=""/>
            <p:cNvSpPr/>
            <p:nvPr/>
          </p:nvSpPr>
          <p:spPr>
            <a:xfrm>
              <a:off x="741960" y="5257800"/>
              <a:ext cx="42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correct alternative is selected using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1120" y="5700600"/>
              <a:ext cx="397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 lookahead toke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rom th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 terminal start symbol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f the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10E-1784-4460-9FD9-D984D52631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atic Variables of the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7320" y="133344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okahead 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27080" y="2335320"/>
            <a:ext cx="5221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number of the lookahea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2720" y="1852560"/>
            <a:ext cx="45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any moment the parser knows the next input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08480" y="2868480"/>
            <a:ext cx="5402520" cy="964800"/>
            <a:chOff x="708480" y="2868480"/>
            <a:chExt cx="5402520" cy="964800"/>
          </a:xfrm>
        </p:grpSpPr>
        <p:sp>
          <p:nvSpPr>
            <p:cNvPr id="430" name=""/>
            <p:cNvSpPr/>
            <p:nvPr/>
          </p:nvSpPr>
          <p:spPr>
            <a:xfrm>
              <a:off x="708480" y="2868480"/>
              <a:ext cx="47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 remembers two input tokens (for semantic processi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13760" y="3313080"/>
              <a:ext cx="50972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most recently recognized 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laToke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lookahead token (still unrecogniz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05240" y="4087800"/>
            <a:ext cx="6789600" cy="2059920"/>
            <a:chOff x="705240" y="4087800"/>
            <a:chExt cx="6789600" cy="2059920"/>
          </a:xfrm>
        </p:grpSpPr>
        <p:sp>
          <p:nvSpPr>
            <p:cNvPr id="433" name=""/>
            <p:cNvSpPr/>
            <p:nvPr/>
          </p:nvSpPr>
          <p:spPr>
            <a:xfrm>
              <a:off x="705240" y="4087800"/>
              <a:ext cx="376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se variables are set in the metho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can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4481640"/>
              <a:ext cx="246060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= laToke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Token = Scanner.Next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 = laToken.kin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57080" y="463392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ken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12320" y="494820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lready recogn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9680" y="5810400"/>
              <a:ext cx="526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can()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called at the beginning of parsing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 token is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11320" y="4707000"/>
              <a:ext cx="449640" cy="254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9960" y="4707000"/>
              <a:ext cx="525600" cy="254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s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89240" y="4707000"/>
              <a:ext cx="449640" cy="254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42640" y="4707000"/>
              <a:ext cx="39924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p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45200" y="4707000"/>
              <a:ext cx="44964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45080" y="4626000"/>
              <a:ext cx="0" cy="44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22640" y="443088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79920" y="4430880"/>
              <a:ext cx="76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la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66760" y="496404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Times New Roman"/>
                </a:rPr>
                <a:t>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8C7-E7F6-4072-AF1E-65E2503527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Terminal Symb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9200" y="12952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9760" y="1649520"/>
            <a:ext cx="30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o be parsed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 action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heck(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08120" y="2216160"/>
            <a:ext cx="6613560" cy="2656440"/>
            <a:chOff x="708120" y="2216160"/>
            <a:chExt cx="6613560" cy="2656440"/>
          </a:xfrm>
        </p:grpSpPr>
        <p:sp>
          <p:nvSpPr>
            <p:cNvPr id="451" name=""/>
            <p:cNvSpPr/>
            <p:nvPr/>
          </p:nvSpPr>
          <p:spPr>
            <a:xfrm>
              <a:off x="708120" y="2216160"/>
              <a:ext cx="39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eeds the following auxilia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16000" y="2671920"/>
              <a:ext cx="616572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expected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expected) Scan();  //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recognized =&gt; read a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Error(                                                               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16000" y="3713040"/>
              <a:ext cx="62056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"– line {0}, col {1}: {2}", laToken.line, laToken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row new Exception("Panic Mode");  //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for a better solution see l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87320" y="5408640"/>
            <a:ext cx="6299640" cy="1089000"/>
            <a:chOff x="787320" y="5408640"/>
            <a:chExt cx="6299640" cy="1089000"/>
          </a:xfrm>
        </p:grpSpPr>
        <p:sp>
          <p:nvSpPr>
            <p:cNvPr id="455" name=""/>
            <p:cNvSpPr/>
            <p:nvPr/>
          </p:nvSpPr>
          <p:spPr>
            <a:xfrm>
              <a:off x="787320" y="5408640"/>
              <a:ext cx="629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names of the terminal symbols are declared as constants in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08000" y="5764320"/>
              <a:ext cx="3756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263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onst 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ONE = 0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263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= 1, NUMBER = 2, ...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263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LUS = 4, MINUS = 5, ...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116000" y="3103560"/>
            <a:ext cx="7372080" cy="2396880"/>
            <a:chOff x="1116000" y="3103560"/>
            <a:chExt cx="7372080" cy="2396880"/>
          </a:xfrm>
        </p:grpSpPr>
        <p:sp>
          <p:nvSpPr>
            <p:cNvPr id="458" name=""/>
            <p:cNvSpPr/>
            <p:nvPr/>
          </p:nvSpPr>
          <p:spPr>
            <a:xfrm>
              <a:off x="1116000" y="5037120"/>
              <a:ext cx="61768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string[]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{"?", "identifier", "number", ..., "+", "-", ...}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41120" y="4919760"/>
              <a:ext cx="114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rdered 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60000" y="3103560"/>
              <a:ext cx="31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oken.names[expected] + " expecte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26080" y="474192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ke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B83-7D03-42D5-B1D4-953CC8F2BD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Nonterminal Symb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9200" y="12952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39680" y="1649520"/>
            <a:ext cx="503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o be parsed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 action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();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all of the parsing method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04520" y="2502000"/>
            <a:ext cx="8166600" cy="1277640"/>
            <a:chOff x="704520" y="2502000"/>
            <a:chExt cx="8166600" cy="1277640"/>
          </a:xfrm>
        </p:grpSpPr>
        <p:sp>
          <p:nvSpPr>
            <p:cNvPr id="466" name=""/>
            <p:cNvSpPr/>
            <p:nvPr/>
          </p:nvSpPr>
          <p:spPr>
            <a:xfrm>
              <a:off x="704520" y="2502000"/>
              <a:ext cx="81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very nonterminal symbol is recognized by a parsing method with the same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0640" y="3046320"/>
              <a:ext cx="41342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ivate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ing actions for the right-hand side of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07400" y="4216320"/>
            <a:ext cx="6125400" cy="1704240"/>
            <a:chOff x="707400" y="4216320"/>
            <a:chExt cx="6125400" cy="1704240"/>
          </a:xfrm>
        </p:grpSpPr>
        <p:sp>
          <p:nvSpPr>
            <p:cNvPr id="469" name=""/>
            <p:cNvSpPr/>
            <p:nvPr/>
          </p:nvSpPr>
          <p:spPr>
            <a:xfrm>
              <a:off x="707400" y="421632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itialization of the Z# 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72800" y="4761000"/>
              <a:ext cx="576000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(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initializes token, laToken and 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ram(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alls the parsing method of the start 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Token.EOF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at the end the input must be emp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E64-5E35-452D-9ABF-733D1BA694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098880" y="2006640"/>
            <a:ext cx="3606840" cy="1536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Sequenc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9200" y="12193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37160" y="1573200"/>
            <a:ext cx="5601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duction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 method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a contains a terminal start symbol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heck(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heck(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a contains a follower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530520" y="4468680"/>
            <a:ext cx="1721520" cy="307080"/>
            <a:chOff x="3530520" y="4468680"/>
            <a:chExt cx="1721520" cy="307080"/>
          </a:xfrm>
        </p:grpSpPr>
        <p:sp>
          <p:nvSpPr>
            <p:cNvPr id="476" name=""/>
            <p:cNvSpPr/>
            <p:nvPr/>
          </p:nvSpPr>
          <p:spPr>
            <a:xfrm>
              <a:off x="3530520" y="463536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82880" y="4468680"/>
              <a:ext cx="56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374920" y="4775040"/>
            <a:ext cx="2877120" cy="1283400"/>
            <a:chOff x="2374920" y="4775040"/>
            <a:chExt cx="2877120" cy="1283400"/>
          </a:xfrm>
        </p:grpSpPr>
        <p:sp>
          <p:nvSpPr>
            <p:cNvPr id="479" name=""/>
            <p:cNvSpPr/>
            <p:nvPr/>
          </p:nvSpPr>
          <p:spPr>
            <a:xfrm flipH="1">
              <a:off x="2374920" y="477504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74920" y="4775040"/>
              <a:ext cx="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74920" y="57531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30520" y="591804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2880" y="5751360"/>
              <a:ext cx="56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530520" y="6018120"/>
            <a:ext cx="1572840" cy="307080"/>
            <a:chOff x="3530520" y="6018120"/>
            <a:chExt cx="1572840" cy="307080"/>
          </a:xfrm>
        </p:grpSpPr>
        <p:sp>
          <p:nvSpPr>
            <p:cNvPr id="485" name=""/>
            <p:cNvSpPr/>
            <p:nvPr/>
          </p:nvSpPr>
          <p:spPr>
            <a:xfrm>
              <a:off x="3530520" y="618480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83600" y="601812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30520" y="6297480"/>
            <a:ext cx="1424520" cy="307080"/>
            <a:chOff x="3530520" y="6297480"/>
            <a:chExt cx="1424520" cy="307080"/>
          </a:xfrm>
        </p:grpSpPr>
        <p:sp>
          <p:nvSpPr>
            <p:cNvPr id="488" name=""/>
            <p:cNvSpPr/>
            <p:nvPr/>
          </p:nvSpPr>
          <p:spPr>
            <a:xfrm>
              <a:off x="3530520" y="646416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4320" y="6297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530520" y="4735440"/>
            <a:ext cx="1424520" cy="307080"/>
            <a:chOff x="3530520" y="4735440"/>
            <a:chExt cx="1424520" cy="307080"/>
          </a:xfrm>
        </p:grpSpPr>
        <p:sp>
          <p:nvSpPr>
            <p:cNvPr id="491" name=""/>
            <p:cNvSpPr/>
            <p:nvPr/>
          </p:nvSpPr>
          <p:spPr>
            <a:xfrm>
              <a:off x="3530520" y="490212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84320" y="4735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530520" y="518148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09560" y="3657600"/>
            <a:ext cx="5462280" cy="3066480"/>
            <a:chOff x="709560" y="3657600"/>
            <a:chExt cx="5462280" cy="3066480"/>
          </a:xfrm>
        </p:grpSpPr>
        <p:sp>
          <p:nvSpPr>
            <p:cNvPr id="495" name=""/>
            <p:cNvSpPr/>
            <p:nvPr/>
          </p:nvSpPr>
          <p:spPr>
            <a:xfrm>
              <a:off x="709560" y="36576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10880" y="4100400"/>
              <a:ext cx="96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32240" y="4100400"/>
              <a:ext cx="143496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B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30520" y="438156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81800" y="421488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85040" y="39355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maining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4EF-4D1A-4EAE-BF04-895D1D724C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Alternativ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6600" y="13460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53280" y="1378080"/>
            <a:ext cx="8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9000" y="1378080"/>
            <a:ext cx="33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arbitrary EBNF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6240" y="19558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73800" y="2036880"/>
            <a:ext cx="411588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"...");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find a meaninful error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96960" y="3174840"/>
            <a:ext cx="6222600" cy="3216960"/>
            <a:chOff x="696960" y="3174840"/>
            <a:chExt cx="6222600" cy="3216960"/>
          </a:xfrm>
        </p:grpSpPr>
        <p:sp>
          <p:nvSpPr>
            <p:cNvPr id="508" name=""/>
            <p:cNvSpPr/>
            <p:nvPr/>
          </p:nvSpPr>
          <p:spPr>
            <a:xfrm>
              <a:off x="696960" y="31748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22760" y="3605040"/>
              <a:ext cx="12369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|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c |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31960" y="3567240"/>
              <a:ext cx="248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aB) = {a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Bb) = First(B) = {c, d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14840" y="4379760"/>
              <a:ext cx="2876760" cy="2012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a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if (la == c || la == d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Error ("invalid start of A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52600" y="4379760"/>
              <a:ext cx="27669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c) 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la == d) Check(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Error ("invalid start of B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099680" y="570060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64040" y="4241880"/>
            <a:ext cx="3924360" cy="21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5FA-215E-408E-B9A5-4B63F66027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EBNF Op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6600" y="13460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560" y="13780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76760" y="137808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an arbitrary EBNF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6240" y="19558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0080" y="2036880"/>
            <a:ext cx="41281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  // no error branch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84360" y="2882880"/>
            <a:ext cx="2215080" cy="3385800"/>
            <a:chOff x="684360" y="2882880"/>
            <a:chExt cx="2215080" cy="3385800"/>
          </a:xfrm>
        </p:grpSpPr>
        <p:sp>
          <p:nvSpPr>
            <p:cNvPr id="522" name=""/>
            <p:cNvSpPr/>
            <p:nvPr/>
          </p:nvSpPr>
          <p:spPr>
            <a:xfrm>
              <a:off x="684360" y="2882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5400" y="3325680"/>
              <a:ext cx="1143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[ a b ]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5040" y="3871800"/>
              <a:ext cx="143496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a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37440" y="5688000"/>
              <a:ext cx="196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D65-9910-4B8C-8124-BC8254CA02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EBNF Ite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6600" y="13460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1400" y="13780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76760" y="137808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an arbitrary EBNF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6240" y="19558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09080" y="2036880"/>
            <a:ext cx="29210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84360" y="2882880"/>
            <a:ext cx="2867400" cy="3296880"/>
            <a:chOff x="684360" y="2882880"/>
            <a:chExt cx="2867400" cy="3296880"/>
          </a:xfrm>
        </p:grpSpPr>
        <p:sp>
          <p:nvSpPr>
            <p:cNvPr id="533" name=""/>
            <p:cNvSpPr/>
            <p:nvPr/>
          </p:nvSpPr>
          <p:spPr>
            <a:xfrm>
              <a:off x="684360" y="2882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96840" y="3325680"/>
              <a:ext cx="11912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{ B }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c |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93600" y="4125960"/>
              <a:ext cx="25581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c || la == d) 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36000" y="5599080"/>
              <a:ext cx="225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c d c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927680" y="3770280"/>
            <a:ext cx="3460320" cy="2409480"/>
            <a:chOff x="4927680" y="3770280"/>
            <a:chExt cx="3460320" cy="2409480"/>
          </a:xfrm>
        </p:grpSpPr>
        <p:sp>
          <p:nvSpPr>
            <p:cNvPr id="538" name=""/>
            <p:cNvSpPr/>
            <p:nvPr/>
          </p:nvSpPr>
          <p:spPr>
            <a:xfrm>
              <a:off x="4927680" y="4125960"/>
              <a:ext cx="34192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!= b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amp;&amp; la != Token.EO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68000" y="377028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ternatively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30560" y="5599080"/>
              <a:ext cx="3457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out EOF: danger of an infinite loop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missing in th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8A0-F13A-4C94-B011-61C50E6F24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Deal with Large First Se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1880" y="127008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the set has more than 4 elements: use class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Bit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2400" y="1712880"/>
            <a:ext cx="298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rst(A) = {a, b, c, d, 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rst(B) = {f, g, h, i, j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56000" y="2436840"/>
            <a:ext cx="6511680" cy="1724400"/>
            <a:chOff x="756000" y="2436840"/>
            <a:chExt cx="6511680" cy="1724400"/>
          </a:xfrm>
        </p:grpSpPr>
        <p:sp>
          <p:nvSpPr>
            <p:cNvPr id="545" name=""/>
            <p:cNvSpPr/>
            <p:nvPr/>
          </p:nvSpPr>
          <p:spPr>
            <a:xfrm>
              <a:off x="756000" y="2436840"/>
              <a:ext cx="523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The First sets are initialized at the beginning of the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42920" y="2868480"/>
              <a:ext cx="6224760" cy="129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 System.Collection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itArray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rst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new BitArray(Token.names.Length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A[a] = true; firstA[b] = true; firstA[c] = true; firstA[d] = true; firstA[e] = tr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itArray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rst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new BitArray(Token.names.Length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B[f] = true; firstB[g] = true; firstB[h] = true; firstB[i] = true; firstB[j] = true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49520" y="4430880"/>
            <a:ext cx="4150800" cy="1540080"/>
            <a:chOff x="749520" y="4430880"/>
            <a:chExt cx="4150800" cy="1540080"/>
          </a:xfrm>
        </p:grpSpPr>
        <p:sp>
          <p:nvSpPr>
            <p:cNvPr id="548" name=""/>
            <p:cNvSpPr/>
            <p:nvPr/>
          </p:nvSpPr>
          <p:spPr>
            <a:xfrm>
              <a:off x="749520" y="44308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Set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73440" y="4811400"/>
              <a:ext cx="21268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C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firstA[la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A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firstB[la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Error("invalid C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24920" y="4811400"/>
              <a:ext cx="947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= A |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A72-4B43-4DED-A71E-D6AA51A1E5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Deal with Large First Se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0440" y="1270080"/>
            <a:ext cx="69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the set has less than 5 elements: use explicit checks (which is fa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2400" y="172548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: First(A) = {a, b, 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44160" y="2195640"/>
            <a:ext cx="26524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a || la == b || la == c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731520" y="2781360"/>
            <a:ext cx="4335120" cy="762480"/>
            <a:chOff x="731520" y="2781360"/>
            <a:chExt cx="4335120" cy="762480"/>
          </a:xfrm>
        </p:grpSpPr>
        <p:sp>
          <p:nvSpPr>
            <p:cNvPr id="556" name=""/>
            <p:cNvSpPr/>
            <p:nvPr/>
          </p:nvSpPr>
          <p:spPr>
            <a:xfrm>
              <a:off x="731520" y="2781360"/>
              <a:ext cx="433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f the set is an interval: use an interval 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46680" y="3236760"/>
              <a:ext cx="20613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a &lt;= la &amp;&amp; la &lt;= c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166760" y="4164120"/>
            <a:ext cx="6620040" cy="2312280"/>
            <a:chOff x="1166760" y="4164120"/>
            <a:chExt cx="6620040" cy="2312280"/>
          </a:xfrm>
        </p:grpSpPr>
        <p:sp>
          <p:nvSpPr>
            <p:cNvPr id="559" name=""/>
            <p:cNvSpPr/>
            <p:nvPr/>
          </p:nvSpPr>
          <p:spPr>
            <a:xfrm>
              <a:off x="1177920" y="4164120"/>
              <a:ext cx="66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codes can often be chosen so that frequently checked sets form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66760" y="462132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20560" y="5052960"/>
              <a:ext cx="2284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54080"/>
                  <a:tab algn="l" pos="1244520"/>
                  <a:tab algn="l" pos="1434960"/>
                  <a:tab algn="l" pos="162576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A) = 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,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,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54080"/>
                  <a:tab algn="l" pos="1244520"/>
                  <a:tab algn="l" pos="1434960"/>
                  <a:tab algn="l" pos="162576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B) = 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,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54080"/>
                  <a:tab algn="l" pos="1244520"/>
                  <a:tab algn="l" pos="1434960"/>
                  <a:tab algn="l" pos="162576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C) = 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,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24240" y="5103720"/>
              <a:ext cx="8481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0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 = 1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= 2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3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4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95960" y="5384880"/>
              <a:ext cx="88920" cy="59688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5480 h 596880"/>
                <a:gd name="textAreaBottom" fmla="*/ 5814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85600" y="552276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29200" y="5410080"/>
              <a:ext cx="88920" cy="35568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9000 h 355680"/>
                <a:gd name="textAreaBottom" fmla="*/ 346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85600" y="525636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95960" y="6019920"/>
              <a:ext cx="76320" cy="3682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9360 h 368280"/>
                <a:gd name="textAreaBottom" fmla="*/ 35892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98200" y="601812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130720" y="5435280"/>
              <a:ext cx="317520" cy="152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2EC-B91C-445C-B6EE-FEB29B474F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ntext-Free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400" y="1244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8280" y="1598760"/>
            <a:ext cx="43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gular Grammars cannot handle central recu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7000" y="194148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 = x | "(" E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8280" y="222084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such cases we need context-free gram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8120" y="2806560"/>
            <a:ext cx="8215200" cy="1334520"/>
            <a:chOff x="708120" y="2806560"/>
            <a:chExt cx="8215200" cy="1334520"/>
          </a:xfrm>
        </p:grpSpPr>
        <p:sp>
          <p:nvSpPr>
            <p:cNvPr id="51" name=""/>
            <p:cNvSpPr/>
            <p:nvPr/>
          </p:nvSpPr>
          <p:spPr>
            <a:xfrm>
              <a:off x="708120" y="280656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6920" y="3147840"/>
              <a:ext cx="72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called 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context-fre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CFG) if all its productions have the following for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86000" y="3522600"/>
              <a:ext cx="666720" cy="30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98240" y="3511440"/>
              <a:ext cx="41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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TS,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on-empty sequence of TS and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71600" y="3803760"/>
              <a:ext cx="665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EBNF the right-hand side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also contain the meta symbols |, (), [] and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08120" y="4457880"/>
            <a:ext cx="5747040" cy="1176120"/>
            <a:chOff x="708120" y="4457880"/>
            <a:chExt cx="5747040" cy="1176120"/>
          </a:xfrm>
        </p:grpSpPr>
        <p:sp>
          <p:nvSpPr>
            <p:cNvPr id="57" name=""/>
            <p:cNvSpPr/>
            <p:nvPr/>
          </p:nvSpPr>
          <p:spPr>
            <a:xfrm>
              <a:off x="708120" y="4457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4900680"/>
              <a:ext cx="29239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Term { ( "+" | "-" ) Term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= Factor { ( "*" | "/" ) Factor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= id | "(" Expr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111480" y="5473800"/>
              <a:ext cx="1028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45840" y="528156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direct central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4520" y="5942160"/>
            <a:ext cx="56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ext-free grammars can be recognized by </a:t>
            </a: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push-down autom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3A2-E098-44E5-86E3-42D2D59C0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timiz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8840" y="11811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voiding multiple 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71560" y="1662120"/>
            <a:ext cx="89856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|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61480" y="2144880"/>
            <a:ext cx="307656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a)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can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o Check(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== b)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can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"invalid A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915800" y="1662120"/>
            <a:ext cx="3067200" cy="2459160"/>
            <a:chOff x="4915800" y="1662120"/>
            <a:chExt cx="3067200" cy="2459160"/>
          </a:xfrm>
        </p:grpSpPr>
        <p:sp>
          <p:nvSpPr>
            <p:cNvPr id="575" name=""/>
            <p:cNvSpPr/>
            <p:nvPr/>
          </p:nvSpPr>
          <p:spPr>
            <a:xfrm>
              <a:off x="4920840" y="1662120"/>
              <a:ext cx="128700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{ a | B 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15800" y="2322360"/>
              <a:ext cx="3067200" cy="1798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a || la == b || la == c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a)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{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// no check any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 Check(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// no error 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29000" y="4241880"/>
            <a:ext cx="6124320" cy="2408040"/>
            <a:chOff x="729000" y="4241880"/>
            <a:chExt cx="6124320" cy="2408040"/>
          </a:xfrm>
        </p:grpSpPr>
        <p:sp>
          <p:nvSpPr>
            <p:cNvPr id="578" name=""/>
            <p:cNvSpPr/>
            <p:nvPr/>
          </p:nvSpPr>
          <p:spPr>
            <a:xfrm>
              <a:off x="729000" y="4241880"/>
              <a:ext cx="612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ore efficient scheme for parsing alternatives in an it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6720" y="5064120"/>
              <a:ext cx="385488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a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la == b || la == c) { B(); Check(d)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6800" y="4672080"/>
              <a:ext cx="12870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{ a | B 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724-061E-4BC5-870A-D8BCC30FB6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timiz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8120" y="13842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requent iteration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4840" y="1998720"/>
            <a:ext cx="15202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separator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90800" y="1992240"/>
            <a:ext cx="14533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{ "," ident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21680" y="15732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46280" y="2627280"/>
            <a:ext cx="7793280" cy="1937520"/>
            <a:chOff x="746280" y="2627280"/>
            <a:chExt cx="7793280" cy="1937520"/>
          </a:xfrm>
        </p:grpSpPr>
        <p:sp>
          <p:nvSpPr>
            <p:cNvPr id="587" name=""/>
            <p:cNvSpPr/>
            <p:nvPr/>
          </p:nvSpPr>
          <p:spPr>
            <a:xfrm>
              <a:off x="746280" y="2627280"/>
              <a:ext cx="338256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separator) Scan(); else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84680" y="2627280"/>
              <a:ext cx="385488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ident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Token.COMMA) Scan(); else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04760" y="4227480"/>
              <a:ext cx="179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 e.g.: 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, b , c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6B2-17D3-4B95-9E51-6DE92F3B40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Computing Terminal Start Symbols Correctly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21800" y="12319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87560" y="1687680"/>
            <a:ext cx="10202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b }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 d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22160" y="1459080"/>
            <a:ext cx="3869280" cy="4955400"/>
            <a:chOff x="722160" y="1459080"/>
            <a:chExt cx="3869280" cy="4955400"/>
          </a:xfrm>
        </p:grpSpPr>
        <p:sp>
          <p:nvSpPr>
            <p:cNvPr id="594" name=""/>
            <p:cNvSpPr/>
            <p:nvPr/>
          </p:nvSpPr>
          <p:spPr>
            <a:xfrm>
              <a:off x="722160" y="2921040"/>
              <a:ext cx="18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arsing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90440" y="3376440"/>
              <a:ext cx="28688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 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80360" y="4189320"/>
              <a:ext cx="2511000" cy="222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b || la == c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b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if (la == d || la == a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d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if (la ==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Error("invalid B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015640" y="1984320"/>
              <a:ext cx="546120" cy="7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02440" y="18018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03880" y="2119320"/>
              <a:ext cx="10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!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984320" y="2273400"/>
              <a:ext cx="55728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1968120" y="2488680"/>
              <a:ext cx="544680" cy="101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602440" y="243684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07840" y="1459080"/>
              <a:ext cx="19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inal start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002200" y="1623960"/>
            <a:ext cx="3612600" cy="4149720"/>
            <a:chOff x="5002200" y="1623960"/>
            <a:chExt cx="3612600" cy="4149720"/>
          </a:xfrm>
        </p:grpSpPr>
        <p:sp>
          <p:nvSpPr>
            <p:cNvPr id="605" name=""/>
            <p:cNvSpPr/>
            <p:nvPr/>
          </p:nvSpPr>
          <p:spPr>
            <a:xfrm>
              <a:off x="5038200" y="1687680"/>
              <a:ext cx="93024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841720" y="1790640"/>
              <a:ext cx="546120" cy="7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80360" y="1623960"/>
              <a:ext cx="21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deletable!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842080" y="2069640"/>
              <a:ext cx="557280" cy="50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75680" y="194148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02200" y="3376440"/>
              <a:ext cx="256392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d || la ==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(); Check(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if (la == f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Error("invalid C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02200" y="5040360"/>
              <a:ext cx="25639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d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F54-78C8-449F-87EB-94941DC839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cursive Descent and the Syntax Tre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0760" y="12063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syntax tree is only built implici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5960" y="1560600"/>
            <a:ext cx="518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is denoted by the methods that are currently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.e. by the productions that are currently under exa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684360" y="2273400"/>
            <a:ext cx="6022800" cy="1595160"/>
            <a:chOff x="684360" y="2273400"/>
            <a:chExt cx="6022800" cy="1595160"/>
          </a:xfrm>
        </p:grpSpPr>
        <p:sp>
          <p:nvSpPr>
            <p:cNvPr id="616" name=""/>
            <p:cNvSpPr/>
            <p:nvPr/>
          </p:nvSpPr>
          <p:spPr>
            <a:xfrm>
              <a:off x="684360" y="22734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47800" y="2309760"/>
              <a:ext cx="96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d 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15840" y="2830680"/>
              <a:ext cx="7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93960" y="3135240"/>
              <a:ext cx="22989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 B(); 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95840" y="35798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15680" y="3579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62520" y="35798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3835440" y="342864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368960" y="330192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889520" y="342864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35440" y="342900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03440" y="3046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41880" y="304812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11600" y="331308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i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914040" y="4011480"/>
            <a:ext cx="5793120" cy="1475640"/>
            <a:chOff x="914040" y="4011480"/>
            <a:chExt cx="5793120" cy="1475640"/>
          </a:xfrm>
        </p:grpSpPr>
        <p:sp>
          <p:nvSpPr>
            <p:cNvPr id="631" name=""/>
            <p:cNvSpPr/>
            <p:nvPr/>
          </p:nvSpPr>
          <p:spPr>
            <a:xfrm>
              <a:off x="914040" y="4011480"/>
              <a:ext cx="112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01880" y="4557600"/>
              <a:ext cx="21952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d); Check(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95840" y="47480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15680" y="4748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62520" y="47480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835440" y="459756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368960" y="44701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889520" y="459756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835440" y="45975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03440" y="4214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41880" y="421632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25240" y="5243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06840" y="52434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178160" y="51181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546440" y="51181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4177800" y="511812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68960" y="499104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41880" y="473724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11600" y="4443480"/>
              <a:ext cx="119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i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 i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914760" y="5751360"/>
            <a:ext cx="5792400" cy="777240"/>
            <a:chOff x="914760" y="5751360"/>
            <a:chExt cx="5792400" cy="777240"/>
          </a:xfrm>
        </p:grpSpPr>
        <p:sp>
          <p:nvSpPr>
            <p:cNvPr id="651" name=""/>
            <p:cNvSpPr/>
            <p:nvPr/>
          </p:nvSpPr>
          <p:spPr>
            <a:xfrm>
              <a:off x="914760" y="5904000"/>
              <a:ext cx="160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 from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95840" y="62848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15680" y="6284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62520" y="62848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835440" y="613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4368960" y="600696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889520" y="613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835440" y="613404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03440" y="5751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41880" y="575316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11600" y="585324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i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629040" y="3632040"/>
            <a:ext cx="1702440" cy="2349720"/>
            <a:chOff x="6629040" y="3632040"/>
            <a:chExt cx="1702440" cy="2349720"/>
          </a:xfrm>
        </p:grpSpPr>
        <p:sp>
          <p:nvSpPr>
            <p:cNvPr id="663" name=""/>
            <p:cNvSpPr/>
            <p:nvPr/>
          </p:nvSpPr>
          <p:spPr>
            <a:xfrm>
              <a:off x="6908760" y="4737240"/>
              <a:ext cx="5461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629040" y="3632040"/>
              <a:ext cx="825480" cy="9525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718320" y="4889520"/>
              <a:ext cx="736560" cy="1092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68640" y="458316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stack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3E3-CF5D-47A7-924F-142F99FC9C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143000" y="3365640"/>
            <a:ext cx="698508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7480" y="1835280"/>
            <a:ext cx="7421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ext-Free Grammars and Push-Dow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cursive Descent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L(1)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33C-158F-4D6E-B96A-BD2AA3786E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Proper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7880" y="124308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econdition for recursive descent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10280" y="1649520"/>
            <a:ext cx="600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L(1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analyzed from </a:t>
            </a:r>
            <a:r>
              <a:rPr b="1" lang="de-AT" sz="1600" spc="-1" strike="noStrike" u="sng">
                <a:solidFill>
                  <a:srgbClr val="ff0000"/>
                </a:solidFill>
                <a:uFillTx/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de-AT" sz="1600" spc="-1" strike="noStrike" u="sng">
                <a:solidFill>
                  <a:srgbClr val="ff0000"/>
                </a:solidFill>
                <a:uFillTx/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-canonical derivations (leftmost NTS is derived fir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de-AT" sz="16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okahead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71400" y="2755800"/>
            <a:ext cx="4693680" cy="1820880"/>
            <a:chOff x="671400" y="2755800"/>
            <a:chExt cx="4693680" cy="1820880"/>
          </a:xfrm>
        </p:grpSpPr>
        <p:sp>
          <p:nvSpPr>
            <p:cNvPr id="674" name=""/>
            <p:cNvSpPr/>
            <p:nvPr/>
          </p:nvSpPr>
          <p:spPr>
            <a:xfrm>
              <a:off x="671400" y="275580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720" y="3122640"/>
              <a:ext cx="46803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LL(1) if all its productions are LL(1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production is LL(1) if for all its 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|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| ... |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following condition hol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= {}   (for an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71400" y="4927680"/>
            <a:ext cx="7444800" cy="1305000"/>
            <a:chOff x="671400" y="4927680"/>
            <a:chExt cx="7444800" cy="1305000"/>
          </a:xfrm>
        </p:grpSpPr>
        <p:sp>
          <p:nvSpPr>
            <p:cNvPr id="677" name=""/>
            <p:cNvSpPr/>
            <p:nvPr/>
          </p:nvSpPr>
          <p:spPr>
            <a:xfrm>
              <a:off x="671400" y="49276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 other w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9040" y="5332320"/>
              <a:ext cx="742716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terminal start symbols of all alternatives of a production must be pairwise disj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must always be able to select one of the alternatives by looking at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lookahead tok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63C-13DA-4BEC-A219-C15FDBA815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95880" y="10796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7840" y="1509840"/>
            <a:ext cx="48578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"else" Stat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008000" y="2004840"/>
            <a:ext cx="4935600" cy="1025640"/>
            <a:chOff x="1008000" y="2004840"/>
            <a:chExt cx="4935600" cy="1025640"/>
          </a:xfrm>
        </p:grpSpPr>
        <p:sp>
          <p:nvSpPr>
            <p:cNvPr id="683" name=""/>
            <p:cNvSpPr/>
            <p:nvPr/>
          </p:nvSpPr>
          <p:spPr>
            <a:xfrm>
              <a:off x="1008000" y="200484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tract common start sequ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77840" y="2297160"/>
              <a:ext cx="48657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"else"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003320" y="2970360"/>
            <a:ext cx="4978080" cy="599040"/>
            <a:chOff x="1003320" y="2970360"/>
            <a:chExt cx="4978080" cy="599040"/>
          </a:xfrm>
        </p:grpSpPr>
        <p:sp>
          <p:nvSpPr>
            <p:cNvPr id="686" name=""/>
            <p:cNvSpPr/>
            <p:nvPr/>
          </p:nvSpPr>
          <p:spPr>
            <a:xfrm>
              <a:off x="1003320" y="297036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 or in EB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0920" y="3262320"/>
              <a:ext cx="49204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 "else" Statement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93360" y="3759120"/>
            <a:ext cx="6887880" cy="1125360"/>
            <a:chOff x="693360" y="3759120"/>
            <a:chExt cx="6887880" cy="1125360"/>
          </a:xfrm>
        </p:grpSpPr>
        <p:sp>
          <p:nvSpPr>
            <p:cNvPr id="689" name=""/>
            <p:cNvSpPr/>
            <p:nvPr/>
          </p:nvSpPr>
          <p:spPr>
            <a:xfrm>
              <a:off x="693360" y="3759120"/>
              <a:ext cx="688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ometimes nonterminal symbols must be inlined before facto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77840" y="4151160"/>
              <a:ext cx="48643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 ActualParameters 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 "." iden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004400" y="4862520"/>
            <a:ext cx="4950360" cy="812160"/>
            <a:chOff x="1004400" y="4862520"/>
            <a:chExt cx="4950360" cy="812160"/>
          </a:xfrm>
        </p:grpSpPr>
        <p:sp>
          <p:nvSpPr>
            <p:cNvPr id="692" name=""/>
            <p:cNvSpPr/>
            <p:nvPr/>
          </p:nvSpPr>
          <p:spPr>
            <a:xfrm>
              <a:off x="1004400" y="4862520"/>
              <a:ext cx="26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Design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77840" y="5154480"/>
              <a:ext cx="487692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ent { "." ident 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 ActualParameters 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005120" y="5629320"/>
            <a:ext cx="4938480" cy="1025280"/>
            <a:chOff x="1005120" y="5629320"/>
            <a:chExt cx="4938480" cy="1025280"/>
          </a:xfrm>
        </p:grpSpPr>
        <p:sp>
          <p:nvSpPr>
            <p:cNvPr id="695" name=""/>
            <p:cNvSpPr/>
            <p:nvPr/>
          </p:nvSpPr>
          <p:spPr>
            <a:xfrm>
              <a:off x="1005120" y="562932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n factor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77840" y="5921280"/>
              <a:ext cx="48657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." ident }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[ ActualParameters ] ")"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041-3B97-47A9-B460-074295E874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eft 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1120" y="1257480"/>
            <a:ext cx="42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eft recursion is always an LL(1) confli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89000" y="2004840"/>
            <a:ext cx="298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 = ident | IdentList ","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99120" y="16495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701280" y="2398680"/>
            <a:ext cx="2747160" cy="1302120"/>
            <a:chOff x="701280" y="2398680"/>
            <a:chExt cx="2747160" cy="1302120"/>
          </a:xfrm>
        </p:grpSpPr>
        <p:sp>
          <p:nvSpPr>
            <p:cNvPr id="702" name=""/>
            <p:cNvSpPr/>
            <p:nvPr/>
          </p:nvSpPr>
          <p:spPr>
            <a:xfrm>
              <a:off x="701280" y="2398680"/>
              <a:ext cx="27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es the following phr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9560" y="2754360"/>
              <a:ext cx="1899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02360" y="3757680"/>
            <a:ext cx="3336120" cy="713520"/>
            <a:chOff x="702360" y="3757680"/>
            <a:chExt cx="3336120" cy="713520"/>
          </a:xfrm>
        </p:grpSpPr>
        <p:sp>
          <p:nvSpPr>
            <p:cNvPr id="705" name=""/>
            <p:cNvSpPr/>
            <p:nvPr/>
          </p:nvSpPr>
          <p:spPr>
            <a:xfrm>
              <a:off x="702360" y="3757680"/>
              <a:ext cx="30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always be replaced by it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03400" y="4164120"/>
              <a:ext cx="2935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= ident { "," iden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D87-C506-4D90-BB27-C4EDDFCCF3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07040" y="1359000"/>
            <a:ext cx="52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BNF options and iterations are hidden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104840" y="3911760"/>
            <a:ext cx="4318200" cy="609480"/>
            <a:chOff x="1104840" y="3911760"/>
            <a:chExt cx="4318200" cy="609480"/>
          </a:xfrm>
        </p:grpSpPr>
        <p:sp>
          <p:nvSpPr>
            <p:cNvPr id="710" name=""/>
            <p:cNvSpPr/>
            <p:nvPr/>
          </p:nvSpPr>
          <p:spPr>
            <a:xfrm>
              <a:off x="1104840" y="391176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49480" y="3917880"/>
              <a:ext cx="409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[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A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A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104840" y="4838760"/>
            <a:ext cx="4318200" cy="393480"/>
            <a:chOff x="1104840" y="4838760"/>
            <a:chExt cx="4318200" cy="393480"/>
          </a:xfrm>
        </p:grpSpPr>
        <p:sp>
          <p:nvSpPr>
            <p:cNvPr id="713" name=""/>
            <p:cNvSpPr/>
            <p:nvPr/>
          </p:nvSpPr>
          <p:spPr>
            <a:xfrm>
              <a:off x="1104840" y="4838760"/>
              <a:ext cx="4318200" cy="39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9480" y="4870440"/>
              <a:ext cx="41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| 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A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1083600" y="186048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625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[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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arbitrary EBNF expres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709920" y="2463840"/>
            <a:ext cx="4713120" cy="1104840"/>
            <a:chOff x="709920" y="2463840"/>
            <a:chExt cx="4713120" cy="1104840"/>
          </a:xfrm>
        </p:grpSpPr>
        <p:sp>
          <p:nvSpPr>
            <p:cNvPr id="717" name=""/>
            <p:cNvSpPr/>
            <p:nvPr/>
          </p:nvSpPr>
          <p:spPr>
            <a:xfrm>
              <a:off x="1104840" y="295920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50920" y="2965320"/>
              <a:ext cx="387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[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{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9920" y="246384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8C4-FC0E-4FF4-BFC5-890AD646C6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moving 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27280" y="1293840"/>
            <a:ext cx="21636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[ ident "." ]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42680" y="1649520"/>
            <a:ext cx="42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is the conflict and how can it be remov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094040" y="2106720"/>
            <a:ext cx="2628360" cy="756720"/>
            <a:chOff x="1094040" y="2106720"/>
            <a:chExt cx="2628360" cy="756720"/>
          </a:xfrm>
        </p:grpSpPr>
        <p:sp>
          <p:nvSpPr>
            <p:cNvPr id="724" name=""/>
            <p:cNvSpPr/>
            <p:nvPr/>
          </p:nvSpPr>
          <p:spPr>
            <a:xfrm>
              <a:off x="1132200" y="2106720"/>
              <a:ext cx="21636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ame = ident [ "." ident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4040" y="2526120"/>
              <a:ext cx="26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this production LL(1) now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1141200" y="2876400"/>
            <a:ext cx="48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have to check if First("." ident)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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Name) =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42680" y="3719520"/>
            <a:ext cx="4210200" cy="946800"/>
            <a:chOff x="742680" y="3719520"/>
            <a:chExt cx="4210200" cy="946800"/>
          </a:xfrm>
        </p:grpSpPr>
        <p:sp>
          <p:nvSpPr>
            <p:cNvPr id="728" name=""/>
            <p:cNvSpPr/>
            <p:nvPr/>
          </p:nvSpPr>
          <p:spPr>
            <a:xfrm>
              <a:off x="825480" y="3719520"/>
              <a:ext cx="29865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eclarations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clarations = D { ";" 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80" y="4329000"/>
              <a:ext cx="421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re is the conflict and how can it be remov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092960" y="4748040"/>
            <a:ext cx="3382920" cy="967680"/>
            <a:chOff x="1092960" y="4748040"/>
            <a:chExt cx="3382920" cy="967680"/>
          </a:xfrm>
        </p:grpSpPr>
        <p:sp>
          <p:nvSpPr>
            <p:cNvPr id="731" name=""/>
            <p:cNvSpPr/>
            <p:nvPr/>
          </p:nvSpPr>
          <p:spPr>
            <a:xfrm>
              <a:off x="1092960" y="474804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claration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55240" y="5078520"/>
              <a:ext cx="27486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{ ";" D }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58840" y="537840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;" D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";" Statements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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144800" y="5802480"/>
            <a:ext cx="5113800" cy="662760"/>
            <a:chOff x="1144800" y="5802480"/>
            <a:chExt cx="5113800" cy="662760"/>
          </a:xfrm>
        </p:grpSpPr>
        <p:sp>
          <p:nvSpPr>
            <p:cNvPr id="735" name=""/>
            <p:cNvSpPr/>
            <p:nvPr/>
          </p:nvSpPr>
          <p:spPr>
            <a:xfrm>
              <a:off x="1155240" y="5802480"/>
              <a:ext cx="27486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";" { D ";" }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44800" y="6127920"/>
              <a:ext cx="51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still have to check if First(D ";"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Statements) =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851040" y="1981080"/>
            <a:ext cx="6705360" cy="13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51040" y="4724280"/>
            <a:ext cx="6705360" cy="18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A1C-CA6F-4B05-BBF1-CCFE33FED4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ush-Down Automaton (PDA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40" y="13208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2600" y="1636560"/>
            <a:ext cx="582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ows transitions with terminal symbols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nonterminal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s a stack to remember the visited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9560" y="2476440"/>
            <a:ext cx="5918760" cy="2375280"/>
            <a:chOff x="709560" y="2476440"/>
            <a:chExt cx="5918760" cy="2375280"/>
          </a:xfrm>
        </p:grpSpPr>
        <p:sp>
          <p:nvSpPr>
            <p:cNvPr id="66" name=""/>
            <p:cNvSpPr/>
            <p:nvPr/>
          </p:nvSpPr>
          <p:spPr>
            <a:xfrm>
              <a:off x="851040" y="4584600"/>
              <a:ext cx="520560" cy="2538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560" y="24764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3520" y="2881080"/>
              <a:ext cx="13845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x | "(" E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90720" y="354312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57480" y="3670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3480" y="341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39880" y="3543120"/>
              <a:ext cx="2541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46000" y="3084480"/>
              <a:ext cx="2108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 recogn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go back 1 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ontinue from there with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04120" y="35287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27280" y="414000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04840" y="3797280"/>
              <a:ext cx="0" cy="77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7440" y="4267080"/>
              <a:ext cx="59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93840" y="396072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03520" y="4140000"/>
              <a:ext cx="25416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94040" y="426708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1920" y="39988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70280" y="426708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8160" y="398592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2360" y="4152600"/>
              <a:ext cx="2541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6600" y="41385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4800" y="38336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85960" y="454464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21160" y="3416040"/>
              <a:ext cx="25416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7640" y="337644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read 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21160" y="3771720"/>
              <a:ext cx="2541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97280" y="3732120"/>
              <a:ext cx="10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reduce 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374920" y="3454200"/>
              <a:ext cx="254160" cy="190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866960" y="4394160"/>
            <a:ext cx="4762440" cy="1003680"/>
            <a:chOff x="1866960" y="4394160"/>
            <a:chExt cx="4762440" cy="1003680"/>
          </a:xfrm>
        </p:grpSpPr>
        <p:sp>
          <p:nvSpPr>
            <p:cNvPr id="94" name=""/>
            <p:cNvSpPr/>
            <p:nvPr/>
          </p:nvSpPr>
          <p:spPr>
            <a:xfrm>
              <a:off x="1879560" y="469872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62320" y="4571640"/>
              <a:ext cx="253800" cy="254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6200" y="455760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49360" y="5092560"/>
              <a:ext cx="254160" cy="253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6960" y="5219640"/>
              <a:ext cx="469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54080" y="4913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5960" y="5092560"/>
              <a:ext cx="253800" cy="253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16120" y="5219640"/>
              <a:ext cx="59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54360" y="4951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92360" y="5219640"/>
              <a:ext cx="59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0600" y="49384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4800" y="5105160"/>
              <a:ext cx="254160" cy="254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79040" y="50907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6960" y="4394160"/>
              <a:ext cx="0" cy="812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1360" y="4546440"/>
              <a:ext cx="88920" cy="8510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85280" y="4697280"/>
              <a:ext cx="164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recursive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of an "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 automaton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28520" y="444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89040" y="5359320"/>
            <a:ext cx="2502000" cy="1259640"/>
            <a:chOff x="2489040" y="5359320"/>
            <a:chExt cx="2502000" cy="1259640"/>
          </a:xfrm>
        </p:grpSpPr>
        <p:sp>
          <p:nvSpPr>
            <p:cNvPr id="112" name=""/>
            <p:cNvSpPr/>
            <p:nvPr/>
          </p:nvSpPr>
          <p:spPr>
            <a:xfrm>
              <a:off x="2502000" y="566388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84400" y="5537160"/>
              <a:ext cx="254160" cy="2538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8640" y="55227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6057720"/>
              <a:ext cx="254160" cy="254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9040" y="6184800"/>
              <a:ext cx="4701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6520" y="58784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8040" y="6057720"/>
              <a:ext cx="254160" cy="254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38560" y="6184800"/>
              <a:ext cx="596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6440" y="59162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6184800"/>
              <a:ext cx="596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3040" y="59036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37240" y="6070320"/>
              <a:ext cx="253800" cy="25416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89040" y="5359320"/>
              <a:ext cx="0" cy="8125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50600" y="5408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0400" y="6311880"/>
              <a:ext cx="31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98880" y="631188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C59-6DF1-4224-A909-309B1F28EC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ngling Els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9200" y="12193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statement in C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10880" y="1687680"/>
            <a:ext cx="47811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[ "else" Statement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708120" y="2489040"/>
            <a:ext cx="4934880" cy="839160"/>
            <a:chOff x="708120" y="2489040"/>
            <a:chExt cx="4934880" cy="839160"/>
          </a:xfrm>
        </p:grpSpPr>
        <p:sp>
          <p:nvSpPr>
            <p:cNvPr id="743" name=""/>
            <p:cNvSpPr/>
            <p:nvPr/>
          </p:nvSpPr>
          <p:spPr>
            <a:xfrm>
              <a:off x="708120" y="248904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is is an LL(1) conflic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28880" y="2990880"/>
              <a:ext cx="46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else" Statement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tatement) = {"else"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707040" y="3619440"/>
            <a:ext cx="7459920" cy="2451960"/>
            <a:chOff x="707040" y="3619440"/>
            <a:chExt cx="7459920" cy="2451960"/>
          </a:xfrm>
        </p:grpSpPr>
        <p:sp>
          <p:nvSpPr>
            <p:cNvPr id="746" name=""/>
            <p:cNvSpPr/>
            <p:nvPr/>
          </p:nvSpPr>
          <p:spPr>
            <a:xfrm>
              <a:off x="707040" y="3619440"/>
              <a:ext cx="496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 is even an ambiguity which cannot be remo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1280" y="498960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2520720" y="4399920"/>
              <a:ext cx="127080" cy="11304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53080" y="45957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6200000">
              <a:off x="2603520" y="3225240"/>
              <a:ext cx="114120" cy="27050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70200 h 2705040"/>
                <a:gd name="textAreaBottom" fmla="*/ 2634840 h 27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16440" y="42022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5400000">
              <a:off x="2952720" y="4349520"/>
              <a:ext cx="126720" cy="1994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51840 h 1994040"/>
                <a:gd name="textAreaBottom" fmla="*/ 194220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22880" y="539604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 rot="5400000">
              <a:off x="2577960" y="435492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80160" y="576432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20120" y="4786200"/>
              <a:ext cx="324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can build 2 different syntax tre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BA8-2FBE-446A-A8C6-47FB554FF7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an We Ignore LL(1) Conflict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2200" y="123192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n LL(1) conflict is only a w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840" y="1623960"/>
            <a:ext cx="40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elects the first matching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50480" y="2131920"/>
            <a:ext cx="9504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994040" y="2286000"/>
            <a:ext cx="41904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86160" y="2119320"/>
            <a:ext cx="50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lookahead token i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parser selects this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051360" y="5052960"/>
            <a:ext cx="3358800" cy="1467360"/>
            <a:chOff x="3051360" y="5052960"/>
            <a:chExt cx="3358800" cy="1467360"/>
          </a:xfrm>
        </p:grpSpPr>
        <p:sp>
          <p:nvSpPr>
            <p:cNvPr id="764" name=""/>
            <p:cNvSpPr/>
            <p:nvPr/>
          </p:nvSpPr>
          <p:spPr>
            <a:xfrm>
              <a:off x="3411720" y="505296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5400000">
              <a:off x="5213160" y="4411800"/>
              <a:ext cx="127080" cy="199368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51840 h 1993680"/>
                <a:gd name="textAreaBottom" fmla="*/ 1941840 h 19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83680" y="545940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 rot="5400000">
              <a:off x="4838400" y="441828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40600" y="58276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51360" y="6183000"/>
              <a:ext cx="29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uckily this is what we want he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96240" y="2971800"/>
            <a:ext cx="6007320" cy="2016000"/>
            <a:chOff x="696240" y="2971800"/>
            <a:chExt cx="6007320" cy="2016000"/>
          </a:xfrm>
        </p:grpSpPr>
        <p:sp>
          <p:nvSpPr>
            <p:cNvPr id="771" name=""/>
            <p:cNvSpPr/>
            <p:nvPr/>
          </p:nvSpPr>
          <p:spPr>
            <a:xfrm>
              <a:off x="1036080" y="3414600"/>
              <a:ext cx="47811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 "else" Statement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292640" y="3657600"/>
              <a:ext cx="0" cy="419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54240" y="4163760"/>
              <a:ext cx="364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lookahead token is "else"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starts parsing the op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.e. the "else" belongs to the innermost "if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6240" y="2971800"/>
              <a:ext cx="25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: Dangling E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3EA-2012-43F4-BB1A-EC7C1D5AC2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Other Requirements for a Grammar</a:t>
            </a:r>
            <a:br>
              <a:rPr sz="2800"/>
            </a:b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(Preconditions for Parsing)</a:t>
            </a:r>
            <a:endParaRPr b="0" i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4720" y="144792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82080" y="181440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NTS there must be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83280" y="4826160"/>
            <a:ext cx="7529040" cy="1353600"/>
            <a:chOff x="683280" y="4826160"/>
            <a:chExt cx="7529040" cy="1353600"/>
          </a:xfrm>
        </p:grpSpPr>
        <p:sp>
          <p:nvSpPr>
            <p:cNvPr id="779" name=""/>
            <p:cNvSpPr/>
            <p:nvPr/>
          </p:nvSpPr>
          <p:spPr>
            <a:xfrm>
              <a:off x="683280" y="482616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-circul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53520" y="5200560"/>
              <a:ext cx="6958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NTS must not be derivable (directly or indirectly) into itself (A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.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60920" y="5637240"/>
              <a:ext cx="111816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| B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 | A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84360" y="5599080"/>
              <a:ext cx="379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grammar is circular because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83640" y="3124080"/>
            <a:ext cx="7449120" cy="1277640"/>
            <a:chOff x="683640" y="3124080"/>
            <a:chExt cx="7449120" cy="1277640"/>
          </a:xfrm>
        </p:grpSpPr>
        <p:sp>
          <p:nvSpPr>
            <p:cNvPr id="784" name=""/>
            <p:cNvSpPr/>
            <p:nvPr/>
          </p:nvSpPr>
          <p:spPr>
            <a:xfrm>
              <a:off x="683640" y="3124080"/>
              <a:ext cx="13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riv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93600" y="3490920"/>
              <a:ext cx="713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NTS must be derivable (directly or indirectly) into a string of 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60920" y="3859200"/>
              <a:ext cx="110880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| c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57280" y="3821040"/>
              <a:ext cx="454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not be derived into a string of terminal symbol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062360" y="2182680"/>
            <a:ext cx="105084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B C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49000" y="2157480"/>
            <a:ext cx="179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production f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635-EF2E-40DB-A4E2-C9ADC14C42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143000" y="3784680"/>
            <a:ext cx="698508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7480" y="1835280"/>
            <a:ext cx="7421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ext-Free Grammars and Push-Dow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cursive Descent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B65-93A0-41AD-BFEE-06579DA13E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oals of Syntax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9560" y="1549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34400" y="1992240"/>
            <a:ext cx="65505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hould detect as many errors as possible in a singl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hould never crash (even in the case of abstruse err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r handling should not slow down error-free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r handling should not inflate the par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706680" y="3911760"/>
            <a:ext cx="5661000" cy="1342800"/>
            <a:chOff x="706680" y="3911760"/>
            <a:chExt cx="5661000" cy="1342800"/>
          </a:xfrm>
        </p:grpSpPr>
        <p:sp>
          <p:nvSpPr>
            <p:cNvPr id="797" name=""/>
            <p:cNvSpPr/>
            <p:nvPr/>
          </p:nvSpPr>
          <p:spPr>
            <a:xfrm>
              <a:off x="706680" y="3911760"/>
              <a:ext cx="566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rror handling techniques for recursive descent par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7200" y="4329000"/>
              <a:ext cx="34678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 handling with "panic mod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 handling with "general anchors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 handling with "special anchors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DD6-701E-41DE-8E99-6EA1A40302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nic Mod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5240" y="1295280"/>
            <a:ext cx="40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parser gives up after the first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86600" y="1814400"/>
            <a:ext cx="62690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 ms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Line("-- line {0}, col {1}: {2}", laToken.line, laToken.col,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row new Exception("Panic Mode - exiting after first err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710280" y="3137040"/>
            <a:ext cx="5158800" cy="972720"/>
            <a:chOff x="710280" y="3137040"/>
            <a:chExt cx="5158800" cy="972720"/>
          </a:xfrm>
        </p:grpSpPr>
        <p:sp>
          <p:nvSpPr>
            <p:cNvPr id="803" name=""/>
            <p:cNvSpPr/>
            <p:nvPr/>
          </p:nvSpPr>
          <p:spPr>
            <a:xfrm>
              <a:off x="710280" y="313704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dvant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1400" y="3529080"/>
              <a:ext cx="510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fficient for small command languages or for interpr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710280" y="4444920"/>
            <a:ext cx="4354200" cy="729360"/>
            <a:chOff x="710280" y="4444920"/>
            <a:chExt cx="4354200" cy="729360"/>
          </a:xfrm>
        </p:grpSpPr>
        <p:sp>
          <p:nvSpPr>
            <p:cNvPr id="806" name=""/>
            <p:cNvSpPr/>
            <p:nvPr/>
          </p:nvSpPr>
          <p:spPr>
            <a:xfrm>
              <a:off x="710280" y="4444920"/>
              <a:ext cx="15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isadvant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5280" y="4836960"/>
              <a:ext cx="430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t appropriate for production-quality compil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AA9-673C-4126-A3FA-F7473258FB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 Handling with "General Anchors"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22160" y="12193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72800" y="1649520"/>
            <a:ext cx="31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pected inpu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c 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l inpu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390840" y="2196360"/>
            <a:ext cx="13968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1160" y="269244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covery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synchronize the remaining input with the gramm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0760" y="3173400"/>
            <a:ext cx="6862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Find "anchor tokens" with which the parser can continue after the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at are the tokens which the parser can continue with in the above situ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ccessor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which was expected at the error pos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ccessor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chors at this position are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71840" y="4964040"/>
            <a:ext cx="65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kip input tokens until an achor is f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skipped here, but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an anchor; the parser can continue with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73640" y="5764320"/>
            <a:ext cx="70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rive the parser to the position in the grammar from where it can contin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A57-FBED-46A3-8CAE-E21B1A435B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uting Ancho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04880" y="1270080"/>
            <a:ext cx="73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very parsing method of a nonterminal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gets the current successors of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93320" y="2157480"/>
            <a:ext cx="24001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itArray su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96960" y="2144880"/>
            <a:ext cx="321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u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ccessors of all NTS, that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urrently i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738360" y="3325680"/>
            <a:ext cx="5336640" cy="2212560"/>
            <a:chOff x="738360" y="3325680"/>
            <a:chExt cx="5336640" cy="2212560"/>
          </a:xfrm>
        </p:grpSpPr>
        <p:sp>
          <p:nvSpPr>
            <p:cNvPr id="821" name=""/>
            <p:cNvSpPr/>
            <p:nvPr/>
          </p:nvSpPr>
          <p:spPr>
            <a:xfrm>
              <a:off x="120420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48800" y="4249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0564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5748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95600" y="405756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4632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257120" y="4140360"/>
              <a:ext cx="88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48800" y="3862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09880" y="3862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e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49440" y="447660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5280" y="447660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49440" y="447660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84280" y="45291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70120" y="45291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1695600" y="443196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3632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81280" y="424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377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8924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527720" y="405756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7844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089240" y="4140360"/>
              <a:ext cx="12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80920" y="3862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42000" y="3862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e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8732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2764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36320" y="463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80920" y="4637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38480" y="463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89240" y="452772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27720" y="44449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78440" y="452772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089240" y="4527720"/>
              <a:ext cx="88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81560" y="48639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67400" y="48639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81560" y="486396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16400" y="49165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02240" y="49165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4527720" y="481932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8360" y="3325680"/>
              <a:ext cx="5336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pending on the current context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denote different s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24640" y="5167440"/>
              <a:ext cx="1398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45960" y="5167440"/>
              <a:ext cx="174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732240" y="5865840"/>
            <a:ext cx="492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u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lways contai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the successor of the start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F49-54EA-4C1F-8EAF-F6CEA2A838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andling Terminal Symb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22960" y="1725480"/>
            <a:ext cx="1699560" cy="33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...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06960" y="1719360"/>
            <a:ext cx="40237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ux</a:t>
            </a:r>
            <a:r>
              <a:rPr b="0" lang="de-AT" sz="1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...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7000" y="134460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10400" y="13446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3979440" y="2070000"/>
            <a:ext cx="3687120" cy="894600"/>
            <a:chOff x="3979440" y="2070000"/>
            <a:chExt cx="3687120" cy="894600"/>
          </a:xfrm>
        </p:grpSpPr>
        <p:sp>
          <p:nvSpPr>
            <p:cNvPr id="870" name=""/>
            <p:cNvSpPr/>
            <p:nvPr/>
          </p:nvSpPr>
          <p:spPr>
            <a:xfrm rot="5400000">
              <a:off x="5854680" y="786960"/>
              <a:ext cx="114480" cy="267984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69840 h 2679840"/>
                <a:gd name="textAreaBottom" fmla="*/ 2610000 h 26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39960" y="2157480"/>
              <a:ext cx="31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precomputed at compil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5400000">
              <a:off x="4965480" y="1587600"/>
              <a:ext cx="114480" cy="196848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51120 h 1968480"/>
                <a:gd name="textAreaBottom" fmla="*/ 1917360 h 19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79440" y="2627280"/>
              <a:ext cx="259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st be computed at run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3159360" y="3173400"/>
            <a:ext cx="4080960" cy="307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expected, BitArray sux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811080" y="3632040"/>
            <a:ext cx="8129160" cy="2974320"/>
            <a:chOff x="811080" y="3632040"/>
            <a:chExt cx="8129160" cy="2974320"/>
          </a:xfrm>
        </p:grpSpPr>
        <p:sp>
          <p:nvSpPr>
            <p:cNvPr id="876" name=""/>
            <p:cNvSpPr/>
            <p:nvPr/>
          </p:nvSpPr>
          <p:spPr>
            <a:xfrm>
              <a:off x="811080" y="36320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45640" y="4087800"/>
              <a:ext cx="9428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63320" y="4075200"/>
              <a:ext cx="239976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, Add(sux, fs1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, Add(sux, fs2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, su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64400" y="5446800"/>
              <a:ext cx="3629520" cy="1159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itArray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a, BitArray b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itArray c = (BitArray) a.Clon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[b] = true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c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400720" y="4457880"/>
              <a:ext cx="519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79600" y="4329000"/>
              <a:ext cx="2960640" cy="520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itArray fs1 = new BitArray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s1[b] = true; fs1[c] = tr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64840" y="4811760"/>
              <a:ext cx="286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uted at the beginning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1576800" y="213984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S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63D-61F0-498D-A084-B7B0DA19C6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andling Nonterminal Symb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23320" y="1725480"/>
            <a:ext cx="1719360" cy="33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...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0560" y="1719360"/>
            <a:ext cx="347508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ux</a:t>
            </a:r>
            <a:r>
              <a:rPr b="0" lang="de-AT" sz="1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...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47000" y="134460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10400" y="13446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47720" y="2666880"/>
            <a:ext cx="6580800" cy="2557800"/>
            <a:chOff x="747720" y="2666880"/>
            <a:chExt cx="6580800" cy="2557800"/>
          </a:xfrm>
        </p:grpSpPr>
        <p:sp>
          <p:nvSpPr>
            <p:cNvPr id="890" name=""/>
            <p:cNvSpPr/>
            <p:nvPr/>
          </p:nvSpPr>
          <p:spPr>
            <a:xfrm>
              <a:off x="747720" y="2666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20440" y="3110040"/>
              <a:ext cx="962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63320" y="3033720"/>
              <a:ext cx="239976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, Add(sux, fs3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Add(sux, fs4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, su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63320" y="4278240"/>
              <a:ext cx="239976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, Add(sux, fs5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, su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423040" y="3416400"/>
              <a:ext cx="761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6680" y="3236760"/>
              <a:ext cx="113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s3 = {b, c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876560" y="3645000"/>
              <a:ext cx="1307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96320" y="34653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s4 = {c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5423040" y="4660920"/>
              <a:ext cx="761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95960" y="448164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s5 = {b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811800" y="5764320"/>
            <a:ext cx="66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ing method for the start symbol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called 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(fs0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s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CB2-BABC-43FF-86F2-8E5845FA64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ush-Down Automaton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4080" y="2336760"/>
            <a:ext cx="520560" cy="254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3760" y="129528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0520" y="1422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6520" y="1166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43280" y="1295280"/>
            <a:ext cx="25380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7160" y="12812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30320" y="189216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08240" y="154944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20840" y="20192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6880" y="17128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06560" y="189216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20192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5320" y="1751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73320" y="20192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11560" y="17384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95760" y="1905120"/>
            <a:ext cx="25380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9640" y="1890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77840" y="15858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89000" y="229716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82960" y="245124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2324160"/>
            <a:ext cx="254160" cy="25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29600" y="2309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844720"/>
            <a:ext cx="253800" cy="254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0000" y="2971800"/>
            <a:ext cx="470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57480" y="26654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844720"/>
            <a:ext cx="254160" cy="254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2971800"/>
            <a:ext cx="596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7400" y="2703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95760" y="2971800"/>
            <a:ext cx="596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33640" y="26906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17840" y="2857680"/>
            <a:ext cx="254160" cy="25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82080" y="284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70000" y="2146320"/>
            <a:ext cx="0" cy="81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1560" y="2195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79840" y="3098880"/>
            <a:ext cx="0" cy="190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51680" y="318600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0000" y="3581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an be simplifi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295960"/>
            <a:ext cx="520920" cy="253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6360" y="425448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7312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9480" y="41259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5880" y="4254480"/>
            <a:ext cx="25380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9760" y="4240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20840" y="450864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33440" y="4978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6120" y="46846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85136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978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7920" y="47102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86280" y="4978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4160" y="4697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4863960"/>
            <a:ext cx="25416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72600" y="48499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90440" y="4545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01960" y="525636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30040" y="45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070000" y="4508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51166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54160" y="4367160"/>
            <a:ext cx="36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eds a stack in order to find its way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rough the visited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30320" y="485136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6"/>
            <a:endCxn id="188" idx="4"/>
          </p:cNvCxnSpPr>
          <p:nvPr/>
        </p:nvCxnSpPr>
        <p:spPr>
          <a:xfrm flipH="1">
            <a:off x="2056680" y="4978080"/>
            <a:ext cx="127800" cy="127800"/>
          </a:xfrm>
          <a:prstGeom prst="curvedConnector5">
            <a:avLst>
              <a:gd name="adj1" fmla="val -96045"/>
              <a:gd name="adj2" fmla="val 103672"/>
              <a:gd name="adj3" fmla="val -960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D7B-21D6-4232-AD01-5A3BED2456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kipping Invalid Input 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68160" y="127008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s are detected in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heck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988920" y="1700280"/>
            <a:ext cx="62294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expected,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itArray su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expected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Token.names[expected] + " expected",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u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667440" y="2971800"/>
            <a:ext cx="8012520" cy="2223360"/>
            <a:chOff x="667440" y="2971800"/>
            <a:chExt cx="8012520" cy="2223360"/>
          </a:xfrm>
        </p:grpSpPr>
        <p:sp>
          <p:nvSpPr>
            <p:cNvPr id="905" name=""/>
            <p:cNvSpPr/>
            <p:nvPr/>
          </p:nvSpPr>
          <p:spPr>
            <a:xfrm>
              <a:off x="667440" y="2971800"/>
              <a:ext cx="801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fter printing an error message input tokens are skipped until an anchor occ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88920" y="3402000"/>
              <a:ext cx="623592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,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itArray su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"-- line {0}, col {1}: {2}", laToken.line, laToken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while (!sux[la]) Scan(); 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/ while (la 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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ux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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88920" y="4888080"/>
              <a:ext cx="62359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int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0;  // number of syntax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8AA-F5BF-4234-9D47-B115E875AC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chronizing With the Gramma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4360" y="1244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96760" y="1674720"/>
            <a:ext cx="971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B 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c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89920" y="2398680"/>
            <a:ext cx="2399760" cy="222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Add(sux, fs1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Add(sux, fs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su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Add(sux, fs3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Add(sux, fs4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su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174480" y="3884760"/>
            <a:ext cx="4808520" cy="337320"/>
            <a:chOff x="3174480" y="3884760"/>
            <a:chExt cx="4808520" cy="337320"/>
          </a:xfrm>
        </p:grpSpPr>
        <p:sp>
          <p:nvSpPr>
            <p:cNvPr id="913" name=""/>
            <p:cNvSpPr/>
            <p:nvPr/>
          </p:nvSpPr>
          <p:spPr>
            <a:xfrm flipH="1">
              <a:off x="3174480" y="4076640"/>
              <a:ext cx="736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07520" y="3884760"/>
              <a:ext cx="39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error is detected here; anchors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725640" y="4349880"/>
            <a:ext cx="4905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skipped;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=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ch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continues: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eck(d, su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tects an error again; anchors =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thing is skipped, becaus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=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ch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returns from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(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do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eck(e, su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overy succeed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227480" y="1357200"/>
            <a:ext cx="4563000" cy="1817640"/>
            <a:chOff x="4227480" y="1357200"/>
            <a:chExt cx="4563000" cy="1817640"/>
          </a:xfrm>
        </p:grpSpPr>
        <p:sp>
          <p:nvSpPr>
            <p:cNvPr id="917" name=""/>
            <p:cNvSpPr/>
            <p:nvPr/>
          </p:nvSpPr>
          <p:spPr>
            <a:xfrm>
              <a:off x="5535000" y="220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52520" y="2208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57440" y="220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575320" y="21081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5899320" y="203184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6210360" y="21081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575320" y="210816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52880" y="1814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249160" y="181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62000" y="181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295960" y="17208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5899320" y="16444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502320" y="17208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295600" y="1708200"/>
              <a:ext cx="12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52880" y="1427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21560" y="1427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35000" y="264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49160" y="264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46040" y="264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62000" y="264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15440" y="26463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27480" y="257652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16520" y="2933640"/>
              <a:ext cx="190440" cy="241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83360" y="210816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75320" y="2463840"/>
              <a:ext cx="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23560" y="1357200"/>
              <a:ext cx="1195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11680" y="1712880"/>
              <a:ext cx="1378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92360" y="6043680"/>
            <a:ext cx="71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fter the error the parser "jolts ahead" until it gets to a point in the grammar wher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und anchor token is val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CCE-F910-47D8-8F78-D8BC867C2A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uppressing Spurious Error Messag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20720" y="1255680"/>
            <a:ext cx="559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uring error recovery the parser produces spurious error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08120" y="18288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lved by a simple heu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9440" y="2271600"/>
            <a:ext cx="5554440" cy="824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less than 3 tokens were recognized correctly since the last err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assumes that the new error is a spurious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purious errors are not repor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785880" y="3452760"/>
            <a:ext cx="6532560" cy="3170520"/>
            <a:chOff x="785880" y="3452760"/>
            <a:chExt cx="6532560" cy="3170520"/>
          </a:xfrm>
        </p:grpSpPr>
        <p:sp>
          <p:nvSpPr>
            <p:cNvPr id="950" name=""/>
            <p:cNvSpPr/>
            <p:nvPr/>
          </p:nvSpPr>
          <p:spPr>
            <a:xfrm>
              <a:off x="785880" y="3452760"/>
              <a:ext cx="651816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int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Di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3;  // next error should be repor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85880" y="3821040"/>
              <a:ext cx="653256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++; 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one more token recogn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85880" y="4824360"/>
              <a:ext cx="6514920" cy="1798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, 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 &gt;= 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"-- line {0}, col {1}: {2}", laToken.line, laToken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!sux[la]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 = 0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// counting is restar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C2C-642B-4AEA-9F6F-BF84EA394E4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andling Alternativ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8240" y="1440000"/>
            <a:ext cx="1207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37240" y="1428840"/>
            <a:ext cx="33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arbitrary EBNF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9800" y="2055960"/>
            <a:ext cx="6639480" cy="222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the error check is already done here so that the parser can synchroniz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the starts of the alternatives in case of an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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A", sux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la matches one of the alternatives or is a legal successor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// no error check here; any errors have already been rep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0240" y="4957920"/>
            <a:ext cx="53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n be precomputed at compil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x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st be computed at ru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B92-63D1-479A-9EE7-C076DC22570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andling EBNF Options and Ite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7320" y="11685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36720" y="1655640"/>
            <a:ext cx="10555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[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703600" y="1547640"/>
            <a:ext cx="521172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error check already done here, so that the parser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synchronize with the start of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in case of an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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...", sux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la matches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or is a successor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96960" y="3835440"/>
            <a:ext cx="7176600" cy="2365920"/>
            <a:chOff x="696960" y="3835440"/>
            <a:chExt cx="7176600" cy="2365920"/>
          </a:xfrm>
        </p:grpSpPr>
        <p:sp>
          <p:nvSpPr>
            <p:cNvPr id="963" name=""/>
            <p:cNvSpPr/>
            <p:nvPr/>
          </p:nvSpPr>
          <p:spPr>
            <a:xfrm>
              <a:off x="696960" y="383544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37080" y="4297320"/>
              <a:ext cx="10738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{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96400" y="4189320"/>
              <a:ext cx="5177160" cy="201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/ the loop is entered even if la 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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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) 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e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orrect cas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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ux) break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orrect cas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Error("...", sux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error 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e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823-716D-42AC-9CB5-EEF32335619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41600" y="1255680"/>
            <a:ext cx="1476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B | b {c d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[b]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29360" y="1890720"/>
            <a:ext cx="4197960" cy="414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la != a &amp;&amp; la !=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A", Add(sux, fs1));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fs1 = {a, b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a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 B(su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 == b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c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d, Add(sux, fs2));  // fs2 = {c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sux[la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c expected", Add(sux, fs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920480" y="1890720"/>
            <a:ext cx="419760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la != b &amp;&amp; la != 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B", Add(sux, fs3)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// fs3 = {b, d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b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d, su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33C-6CDA-494B-8F2D-BB1FB94DEA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ssess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22880" y="19940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53120" y="24242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stematically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22880" y="32004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52400" y="3630600"/>
            <a:ext cx="281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ows down error-free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flates the par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0360" y="1320840"/>
            <a:ext cx="37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 handling with general anc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38F-7614-4FCF-8641-4732901BF1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 Handling With Special Ancho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4080" y="116856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 handling is only done at particularly "safe"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8760" y="1509840"/>
            <a:ext cx="80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.e. at positions that start with keywords which do not occur at any other position in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87240" y="2030400"/>
            <a:ext cx="4745160" cy="1495080"/>
            <a:chOff x="687240" y="2030400"/>
            <a:chExt cx="4745160" cy="1495080"/>
          </a:xfrm>
        </p:grpSpPr>
        <p:sp>
          <p:nvSpPr>
            <p:cNvPr id="980" name=""/>
            <p:cNvSpPr/>
            <p:nvPr/>
          </p:nvSpPr>
          <p:spPr>
            <a:xfrm>
              <a:off x="687240" y="2119320"/>
              <a:ext cx="370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tart of Statem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tart of Declarati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8520" y="2944800"/>
              <a:ext cx="453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blem: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occur at both position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not a safe anchor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mit it from the anchor 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51240" y="2400480"/>
              <a:ext cx="1346040" cy="279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52760" y="2641680"/>
              <a:ext cx="1917720" cy="2919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43400" y="203040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chor s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759120" y="2285640"/>
              <a:ext cx="571680" cy="16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4241880" y="2311200"/>
              <a:ext cx="152280" cy="330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746640" y="5815080"/>
            <a:ext cx="614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successor sets have to be passed to parsing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chor sets can be computed at compil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fter an error the parser "jolts ahead" to the next synchronization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707760" y="3822840"/>
            <a:ext cx="6237720" cy="1853640"/>
            <a:chOff x="707760" y="3822840"/>
            <a:chExt cx="6237720" cy="1853640"/>
          </a:xfrm>
        </p:grpSpPr>
        <p:sp>
          <p:nvSpPr>
            <p:cNvPr id="989" name=""/>
            <p:cNvSpPr/>
            <p:nvPr/>
          </p:nvSpPr>
          <p:spPr>
            <a:xfrm>
              <a:off x="707760" y="3822840"/>
              <a:ext cx="579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de that has to be inserted at the synchronization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11080" y="4303800"/>
              <a:ext cx="613440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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expectedSymbol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("...");  // no successor sets; no skipping of tokens in Error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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expectedSymbol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eof})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2336760" y="4381560"/>
              <a:ext cx="25416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8600" y="4227480"/>
              <a:ext cx="337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chor set at this synchronization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28120" y="5307120"/>
              <a:ext cx="33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order not to get into an endless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36960" y="52196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02C-88A1-4B1F-81D0-90EC70F4775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69600" y="116856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chronization at the start of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5560" y="1585800"/>
            <a:ext cx="4303080" cy="3077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emen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!firstStat[la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start of statem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while (!firstStat[la] &amp;&amp; la != Token.EOF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IF) {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PAR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itions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PA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ELSE) { Scan(); Statement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 == Token.WHIL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362200" y="1598760"/>
            <a:ext cx="3396240" cy="946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BitArray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rst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new Bit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rstStat[Token.WHILE]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rstStat[Token.IF]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16560" y="2768760"/>
            <a:ext cx="88920" cy="1460520"/>
          </a:xfrm>
          <a:custGeom>
            <a:avLst/>
            <a:gdLst>
              <a:gd name="textAreaLeft" fmla="*/ 0 w 88920"/>
              <a:gd name="textAreaRight" fmla="*/ 32040 w 88920"/>
              <a:gd name="textAreaTop" fmla="*/ 37800 h 1460520"/>
              <a:gd name="textAreaBottom" fmla="*/ 1422720 h 14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712120" y="2967120"/>
            <a:ext cx="183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rest of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mains un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as if there w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error hand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646200" y="4673520"/>
            <a:ext cx="6549120" cy="1965240"/>
            <a:chOff x="646200" y="4673520"/>
            <a:chExt cx="6549120" cy="1965240"/>
          </a:xfrm>
        </p:grpSpPr>
        <p:sp>
          <p:nvSpPr>
            <p:cNvPr id="1002" name=""/>
            <p:cNvSpPr/>
            <p:nvPr/>
          </p:nvSpPr>
          <p:spPr>
            <a:xfrm>
              <a:off x="646200" y="4673520"/>
              <a:ext cx="310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 Synchronization in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Erro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5840" y="5052960"/>
              <a:ext cx="645948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tring ms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 &gt;= 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"-- line {0}, col {1}: {2}", laToken.line, laToken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5520" y="5992920"/>
              <a:ext cx="271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euristics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rrDi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 applied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031480" y="6286680"/>
              <a:ext cx="1079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DDF-3EDE-4CBE-9D6E-5D426F6EBB9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of a Recove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5560" y="1230480"/>
            <a:ext cx="4303080" cy="2864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emen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!firstStat[la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start of statem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while (!firstStat[la] &amp;&amp; la != Token.EOF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IF) {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PA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itio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PA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ELSE) { Scan(); Statement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41880" y="1230480"/>
            <a:ext cx="330192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expecte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expected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64920" y="4081320"/>
            <a:ext cx="32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neous input: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a &gt; b then max =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17840" y="4794120"/>
            <a:ext cx="7173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(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irstStat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(LPAR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error message:  ( 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dition(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ognizes a &gt;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(RPAR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error message:  ) 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ement(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N does not match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rror, but no error messag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N is skipped; synchronization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if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irstSta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84360" y="4443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59440" y="44434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87320" y="4800600"/>
            <a:ext cx="43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380960" y="4584600"/>
            <a:ext cx="0" cy="19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41880" y="2297160"/>
            <a:ext cx="331632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ms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Dist &gt;= 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Line(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Dis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336-2D42-44E5-B9B8-6A5A549AC08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a PDA Work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77760" y="2705040"/>
            <a:ext cx="520920" cy="254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440" y="166356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84200" y="1790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0560" y="1535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66960" y="1663560"/>
            <a:ext cx="25380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0840" y="164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31920" y="191772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44520" y="23875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57200" y="20937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30600" y="226044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0760" y="23875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2119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97360" y="23875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5240" y="21067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19440" y="2273400"/>
            <a:ext cx="25416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3680" y="225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01880" y="195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13040" y="266544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120" y="1967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81080" y="19177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19320" y="25257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41400" y="226044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6"/>
            <a:endCxn id="212" idx="4"/>
          </p:cNvCxnSpPr>
          <p:nvPr/>
        </p:nvCxnSpPr>
        <p:spPr>
          <a:xfrm flipH="1">
            <a:off x="1967760" y="2387160"/>
            <a:ext cx="127800" cy="127800"/>
          </a:xfrm>
          <a:prstGeom prst="curvedConnector5">
            <a:avLst>
              <a:gd name="adj1" fmla="val -96045"/>
              <a:gd name="adj2" fmla="val 103672"/>
              <a:gd name="adj3" fmla="val -960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31440" y="312408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Visited states are stored in a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66760" y="3922560"/>
            <a:ext cx="17812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 x 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x 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2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5760" y="11556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 is </a:t>
            </a: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((x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21640" y="36050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2280" y="36050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maining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7160" y="1712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53720" y="1712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41120" y="2309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30320" y="2309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6560" y="2322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81480" y="3706920"/>
            <a:ext cx="876600" cy="318960"/>
            <a:chOff x="5181480" y="3706920"/>
            <a:chExt cx="876600" cy="318960"/>
          </a:xfrm>
        </p:grpSpPr>
        <p:sp>
          <p:nvSpPr>
            <p:cNvPr id="225" name=""/>
            <p:cNvSpPr/>
            <p:nvPr/>
          </p:nvSpPr>
          <p:spPr>
            <a:xfrm>
              <a:off x="5181480" y="3772080"/>
              <a:ext cx="2541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120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35640" y="3898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3920" y="3772080"/>
              <a:ext cx="2541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364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48320" y="3706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705720" y="3706920"/>
            <a:ext cx="1013400" cy="352440"/>
            <a:chOff x="6705720" y="3706920"/>
            <a:chExt cx="1013400" cy="352440"/>
          </a:xfrm>
        </p:grpSpPr>
        <p:sp>
          <p:nvSpPr>
            <p:cNvPr id="232" name=""/>
            <p:cNvSpPr/>
            <p:nvPr/>
          </p:nvSpPr>
          <p:spPr>
            <a:xfrm>
              <a:off x="6705720" y="38988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8040" y="3706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61040" y="3772080"/>
              <a:ext cx="254160" cy="25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26720" y="37828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Times New Roman"/>
                </a:rPr>
                <a:t>E/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4816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70680" y="3706920"/>
            <a:ext cx="622080" cy="318960"/>
            <a:chOff x="6070680" y="3706920"/>
            <a:chExt cx="622080" cy="318960"/>
          </a:xfrm>
        </p:grpSpPr>
        <p:sp>
          <p:nvSpPr>
            <p:cNvPr id="238" name=""/>
            <p:cNvSpPr/>
            <p:nvPr/>
          </p:nvSpPr>
          <p:spPr>
            <a:xfrm>
              <a:off x="6070680" y="3898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8960" y="377208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3868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83360" y="3706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566040" y="4025880"/>
            <a:ext cx="749160" cy="482760"/>
            <a:chOff x="6566040" y="4025880"/>
            <a:chExt cx="749160" cy="482760"/>
          </a:xfrm>
        </p:grpSpPr>
        <p:sp>
          <p:nvSpPr>
            <p:cNvPr id="243" name=""/>
            <p:cNvSpPr/>
            <p:nvPr/>
          </p:nvSpPr>
          <p:spPr>
            <a:xfrm>
              <a:off x="6578640" y="438156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61040" y="4254480"/>
              <a:ext cx="25416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60760" y="4303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5440" y="4189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66040" y="40258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327800" y="4189320"/>
            <a:ext cx="1013760" cy="352800"/>
            <a:chOff x="7327800" y="4189320"/>
            <a:chExt cx="1013760" cy="352800"/>
          </a:xfrm>
        </p:grpSpPr>
        <p:sp>
          <p:nvSpPr>
            <p:cNvPr id="249" name=""/>
            <p:cNvSpPr/>
            <p:nvPr/>
          </p:nvSpPr>
          <p:spPr>
            <a:xfrm>
              <a:off x="7327800" y="43815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40480" y="418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83480" y="4254480"/>
              <a:ext cx="2541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49160" y="42656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Times New Roman"/>
                </a:rPr>
                <a:t>E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0600" y="4303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680160" y="4761000"/>
            <a:ext cx="1013760" cy="352440"/>
            <a:chOff x="6680160" y="4761000"/>
            <a:chExt cx="1013760" cy="352440"/>
          </a:xfrm>
        </p:grpSpPr>
        <p:sp>
          <p:nvSpPr>
            <p:cNvPr id="255" name=""/>
            <p:cNvSpPr/>
            <p:nvPr/>
          </p:nvSpPr>
          <p:spPr>
            <a:xfrm>
              <a:off x="6680160" y="495288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92840" y="4761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35840" y="4826160"/>
              <a:ext cx="253800" cy="25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01520" y="483696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Times New Roman"/>
                </a:rPr>
                <a:t>E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22600" y="4875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931000" y="4025880"/>
            <a:ext cx="736560" cy="1054080"/>
            <a:chOff x="5931000" y="4025880"/>
            <a:chExt cx="736560" cy="1054080"/>
          </a:xfrm>
        </p:grpSpPr>
        <p:sp>
          <p:nvSpPr>
            <p:cNvPr id="261" name=""/>
            <p:cNvSpPr/>
            <p:nvPr/>
          </p:nvSpPr>
          <p:spPr>
            <a:xfrm>
              <a:off x="5931000" y="49528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13400" y="4826160"/>
              <a:ext cx="2541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13120" y="4875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7800" y="4761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31000" y="4025880"/>
              <a:ext cx="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054760" y="4025880"/>
            <a:ext cx="520560" cy="724680"/>
            <a:chOff x="5054760" y="4025880"/>
            <a:chExt cx="520560" cy="724680"/>
          </a:xfrm>
        </p:grpSpPr>
        <p:sp>
          <p:nvSpPr>
            <p:cNvPr id="267" name=""/>
            <p:cNvSpPr/>
            <p:nvPr/>
          </p:nvSpPr>
          <p:spPr>
            <a:xfrm>
              <a:off x="5054760" y="4483080"/>
              <a:ext cx="520560" cy="254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9680" y="444348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08560" y="40258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57880" y="4138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87320" y="3606840"/>
            <a:ext cx="4076640" cy="29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8F3-2224-453E-8118-28DD1E6697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Synchronization at the Start of an Iteration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08480" y="11811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54800" y="1687680"/>
            <a:ext cx="2381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 = "{" { Statement 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09200" y="245124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ndard pattern in this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062000" y="2944800"/>
            <a:ext cx="233244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firstStat[la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010160" y="4570560"/>
            <a:ext cx="654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next token does not matc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loop is not execu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chronization point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never reac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7EA-4E19-46C3-9925-2914B8366A7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Synchronization at the Start of an Iteration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08480" y="11811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054800" y="1687680"/>
            <a:ext cx="2381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 = "{" { Statement 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05240" y="2184480"/>
            <a:ext cx="54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Better to synchronize at the beginning of the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11680" y="2614680"/>
            <a:ext cx="5096160" cy="265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First(Statement)) Statement()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correct c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{rbrace, eof}) break;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correct cas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lse {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// erro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start of Statem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o Scan(); while (la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First(Statement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{rbrace, eof}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706680" y="5524560"/>
            <a:ext cx="4460400" cy="1188720"/>
            <a:chOff x="706680" y="5524560"/>
            <a:chExt cx="4460400" cy="1188720"/>
          </a:xfrm>
        </p:grpSpPr>
        <p:sp>
          <p:nvSpPr>
            <p:cNvPr id="1028" name=""/>
            <p:cNvSpPr/>
            <p:nvPr/>
          </p:nvSpPr>
          <p:spPr>
            <a:xfrm>
              <a:off x="706680" y="5524560"/>
              <a:ext cx="44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 synchronization in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Statement()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any 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53360" y="5979960"/>
              <a:ext cx="271800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atement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Token.IF) { Scan();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732-A9B0-4DDD-92C4-1BB817909DA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ssess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2880" y="19940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2760" y="2424240"/>
            <a:ext cx="346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not slow down error-free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not inflate the par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2880" y="3581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49880" y="401148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eds experience and "tunin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0720" y="1320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 handling with special anc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B9F-D15B-4FCE-8EE7-0B8E9A77529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Limitations of Context-Free Grammars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0000" y="12574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FGs cannot express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ontext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0160" y="161136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8520" y="3122640"/>
            <a:ext cx="668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3333cc"/>
                </a:solidFill>
                <a:latin typeface="Times New Roman"/>
              </a:rPr>
              <a:t>The operands of an expression must have compatible typ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s are specified in the declarations, which belong to the context of the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8160" y="1967040"/>
            <a:ext cx="555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3333cc"/>
                </a:solidFill>
                <a:latin typeface="Times New Roman"/>
              </a:rPr>
              <a:t>Every name must be declared before it is use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declaration belongs to the context of the use; the statement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3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y be right or wrong, depending on its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22160" y="4051440"/>
            <a:ext cx="3062880" cy="960120"/>
            <a:chOff x="722160" y="4051440"/>
            <a:chExt cx="3062880" cy="960120"/>
          </a:xfrm>
        </p:grpSpPr>
        <p:sp>
          <p:nvSpPr>
            <p:cNvPr id="278" name=""/>
            <p:cNvSpPr/>
            <p:nvPr/>
          </p:nvSpPr>
          <p:spPr>
            <a:xfrm>
              <a:off x="722160" y="4051440"/>
              <a:ext cx="18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os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3120" y="4430880"/>
              <a:ext cx="3031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600" spc="-1" strike="noStrike">
                  <a:solidFill>
                    <a:srgbClr val="ff0000"/>
                  </a:solidFill>
                  <a:latin typeface="Times New Roman"/>
                </a:rPr>
                <a:t>Use context-sensitive grammar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o complic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55280" y="5052960"/>
            <a:ext cx="6567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380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ff0000"/>
                </a:solidFill>
                <a:latin typeface="Times New Roman"/>
              </a:rPr>
              <a:t>Check context conditions during </a:t>
            </a:r>
            <a:r>
              <a:rPr b="1" i="1" lang="de-AT" sz="1600" spc="-1" strike="noStrike" u="sng">
                <a:solidFill>
                  <a:srgbClr val="ff0000"/>
                </a:solidFill>
                <a:uFillTx/>
                <a:latin typeface="Times New Roman"/>
              </a:rPr>
              <a:t>semantic analysi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.e. the syntax allows sentences for which the context conditions do not hol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t x = "three"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tactically correc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ally wrong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error is detected during semantic analysis (not during syntax analysi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C27-7F80-4C96-AB00-ADFC23CE6C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77760" y="2629080"/>
            <a:ext cx="69976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7760" y="2222640"/>
            <a:ext cx="6997680" cy="406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text Condi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5600" y="1257480"/>
            <a:ext cx="60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emantic constraints that are specified for every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5040" y="173844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 in Z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39240" y="2284560"/>
            <a:ext cx="30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Designator "=" Expr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61560" y="2665440"/>
            <a:ext cx="670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a variable, an array element or an object fie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assignment compatible with 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39240" y="3594240"/>
            <a:ext cx="7036200" cy="1054080"/>
            <a:chOff x="939240" y="3594240"/>
            <a:chExt cx="7036200" cy="1054080"/>
          </a:xfrm>
        </p:grpSpPr>
        <p:sp>
          <p:nvSpPr>
            <p:cNvPr id="289" name=""/>
            <p:cNvSpPr/>
            <p:nvPr/>
          </p:nvSpPr>
          <p:spPr>
            <a:xfrm>
              <a:off x="977760" y="4000680"/>
              <a:ext cx="699768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77760" y="3594240"/>
              <a:ext cx="6997680" cy="406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39240" y="3656160"/>
              <a:ext cx="270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= "new" ident "[" Expr "]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55440" y="4037040"/>
              <a:ext cx="275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denote a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type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44640" y="4991040"/>
            <a:ext cx="7030800" cy="1056960"/>
            <a:chOff x="944640" y="4991040"/>
            <a:chExt cx="7030800" cy="1056960"/>
          </a:xfrm>
        </p:grpSpPr>
        <p:sp>
          <p:nvSpPr>
            <p:cNvPr id="294" name=""/>
            <p:cNvSpPr/>
            <p:nvPr/>
          </p:nvSpPr>
          <p:spPr>
            <a:xfrm>
              <a:off x="977760" y="5397480"/>
              <a:ext cx="699768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77760" y="4991040"/>
              <a:ext cx="6997680" cy="406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44640" y="5052960"/>
              <a:ext cx="3151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Designator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[" Expr "]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1920" y="5433840"/>
              <a:ext cx="41796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type of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Designator</a:t>
              </a:r>
              <a:r>
                <a:rPr b="0" i="1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st be an array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type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0C9-FD7F-4B5E-903A-4A3F7AC191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11560" y="1930320"/>
            <a:ext cx="2755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7480" y="1930320"/>
            <a:ext cx="2755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Regular versus Context-free Grammars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6200" y="13460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gular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32760" y="134604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400" y="2043000"/>
            <a:ext cx="9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Us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60800" y="20430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98560" y="2043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61400" y="2654280"/>
            <a:ext cx="7404840" cy="2209680"/>
            <a:chOff x="761400" y="2654280"/>
            <a:chExt cx="7404840" cy="2209680"/>
          </a:xfrm>
        </p:grpSpPr>
        <p:sp>
          <p:nvSpPr>
            <p:cNvPr id="307" name=""/>
            <p:cNvSpPr/>
            <p:nvPr/>
          </p:nvSpPr>
          <p:spPr>
            <a:xfrm>
              <a:off x="5410080" y="2654280"/>
              <a:ext cx="2756160" cy="220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11560" y="2654280"/>
              <a:ext cx="2755800" cy="220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400" y="269064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Recogized 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2160" y="269064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no stac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10720" y="269064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PD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stac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36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862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385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908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434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957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80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006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529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052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19200" y="3693960"/>
              <a:ext cx="6289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D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sta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19440" y="345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57560" y="3059280"/>
              <a:ext cx="108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input 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706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229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52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278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801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324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850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373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896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422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56240" y="3693960"/>
              <a:ext cx="6289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D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sta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56480" y="345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94240" y="3059280"/>
              <a:ext cx="108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input 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7068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2296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5240" y="4419720"/>
              <a:ext cx="15264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2788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8016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32440" y="4419720"/>
              <a:ext cx="15264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8508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3736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89640" y="4419720"/>
              <a:ext cx="15264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4228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9080" y="4216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7560" y="4532400"/>
              <a:ext cx="54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61400" y="4978440"/>
            <a:ext cx="7417440" cy="609480"/>
            <a:chOff x="761400" y="4978440"/>
            <a:chExt cx="7417440" cy="609480"/>
          </a:xfrm>
        </p:grpSpPr>
        <p:sp>
          <p:nvSpPr>
            <p:cNvPr id="351" name=""/>
            <p:cNvSpPr/>
            <p:nvPr/>
          </p:nvSpPr>
          <p:spPr>
            <a:xfrm>
              <a:off x="5423040" y="4978440"/>
              <a:ext cx="275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11560" y="4978440"/>
              <a:ext cx="275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400" y="5002200"/>
              <a:ext cx="122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84360" y="5027760"/>
              <a:ext cx="107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|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96120" y="503388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61760" y="5713560"/>
            <a:ext cx="7429680" cy="610920"/>
            <a:chOff x="761760" y="5713560"/>
            <a:chExt cx="7429680" cy="610920"/>
          </a:xfrm>
        </p:grpSpPr>
        <p:sp>
          <p:nvSpPr>
            <p:cNvPr id="357" name=""/>
            <p:cNvSpPr/>
            <p:nvPr/>
          </p:nvSpPr>
          <p:spPr>
            <a:xfrm>
              <a:off x="5435640" y="5715000"/>
              <a:ext cx="275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1560" y="5715000"/>
              <a:ext cx="275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1760" y="571356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Probl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0120" y="571356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sted language constru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01520" y="5713560"/>
              <a:ext cx="243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ext-sensitive constru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type checks, 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460-8546-476A-9995-053CF4A21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43000" y="2921040"/>
            <a:ext cx="698508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7480" y="1835280"/>
            <a:ext cx="7421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ext-Free Grammars and Push-Dow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Recursive Descent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B6A-6709-40FD-B32B-C6280CC0BB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2-08T16:12:11Z</dcterms:modified>
  <cp:revision>504</cp:revision>
  <dc:subject/>
  <dc:title>Javascript-Anweisungen</dc:title>
</cp:coreProperties>
</file>