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72465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B8AD-B43E-411C-8853-860124C0C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2425-0EF2-4948-8659-BE35F973C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1013-412D-4A04-8D1D-7048A56CC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1881-502A-4841-9C90-EF05B496C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0C15-6F99-413E-BC07-C03024B7D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901B-6F6D-4EB0-B62F-925D30D41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993E-6A75-4818-AD7F-B1CAD158D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ACF3-ADE2-4ADE-BF6A-3209D4019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6858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F978-0C8E-4CE3-AA13-9ED382EC0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50BE-83B6-4826-88B0-52510782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3746-3CC5-4B8B-AA57-7EBA86CA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21CF-BB3C-459F-B1D6-14EC553A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9B1D9-9FE9-4B53-9269-4336E77A052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21560" y="533520"/>
            <a:ext cx="83664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760" y="1835280"/>
            <a:ext cx="454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de-AT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3200" spc="-1" strike="noStrike">
                <a:solidFill>
                  <a:srgbClr val="ff0000"/>
                </a:solidFill>
                <a:latin typeface="Times New Roman"/>
              </a:rPr>
              <a:t>Semantic Processing</a:t>
            </a:r>
            <a:br>
              <a:rPr sz="3200"/>
            </a:br>
            <a:r>
              <a:rPr b="0" lang="de-AT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3200" spc="-1" strike="noStrike">
                <a:solidFill>
                  <a:srgbClr val="ff0000"/>
                </a:solidFill>
                <a:latin typeface="Times New Roman"/>
              </a:rPr>
              <a:t>and Attribute Gramm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73B8-CB16-4B52-9681-BE61D3003DA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xample: Sales Statistic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93360" y="1244520"/>
            <a:ext cx="65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ATGs can also be used in areas other than compiler constru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30080" y="1725480"/>
            <a:ext cx="352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xample: given a file with sales numb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085040" y="2131920"/>
            <a:ext cx="2870280" cy="946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il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{ Article 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rticl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Code { Amount } "END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d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numb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mou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numb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055760" y="2144880"/>
            <a:ext cx="438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Whenever the input is syntacticlly structu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TGs are a good notation to describe its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723960" y="3440160"/>
            <a:ext cx="3120840" cy="2800440"/>
            <a:chOff x="723960" y="3440160"/>
            <a:chExt cx="3120840" cy="2800440"/>
          </a:xfrm>
        </p:grpSpPr>
        <p:sp>
          <p:nvSpPr>
            <p:cNvPr id="183" name=""/>
            <p:cNvSpPr/>
            <p:nvPr/>
          </p:nvSpPr>
          <p:spPr>
            <a:xfrm>
              <a:off x="726120" y="3440160"/>
              <a:ext cx="169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nput for example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90440" y="3795840"/>
              <a:ext cx="2754360" cy="946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3451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2  5  3  7  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3452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4  8  1 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3453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1  1 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3960" y="4938840"/>
              <a:ext cx="143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Desired output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090440" y="5294160"/>
              <a:ext cx="2752920" cy="946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3451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3452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3453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1CD8-E78A-4873-BA5B-A15A9BF1E9B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ATG for the Sales Statistic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23240" y="1128600"/>
            <a:ext cx="5348520" cy="2949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57120"/>
                <a:tab algn="l" pos="2693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Fil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(. int code, amount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57120"/>
                <a:tab algn="l" pos="2693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 Article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&lt;</a:t>
            </a:r>
            <a:r>
              <a:rPr b="0" lang="de-AT" sz="1400" spc="-1" strike="noStrike">
                <a:solidFill>
                  <a:srgbClr val="3333cc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code, </a:t>
            </a:r>
            <a:r>
              <a:rPr b="0" lang="de-AT" sz="1400" spc="-1" strike="noStrike">
                <a:solidFill>
                  <a:srgbClr val="3333cc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amount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(. </a:t>
            </a:r>
            <a:r>
              <a:rPr b="0" i="1" lang="de-AT" sz="1400" spc="-1" strike="noStrike">
                <a:solidFill>
                  <a:srgbClr val="ff0000"/>
                </a:solidFill>
                <a:latin typeface="Arial"/>
              </a:rPr>
              <a:t>Write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(code + " " + amount)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57120"/>
                <a:tab algn="l" pos="2693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190440"/>
                <a:tab algn="l" pos="357120"/>
                <a:tab algn="l" pos="2693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57120"/>
                <a:tab algn="l" pos="2693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Article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&lt;</a:t>
            </a:r>
            <a:r>
              <a:rPr b="0" lang="de-AT" sz="1400" spc="-1" strike="noStrike">
                <a:solidFill>
                  <a:srgbClr val="3333cc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nt code, </a:t>
            </a:r>
            <a:r>
              <a:rPr b="0" lang="de-AT" sz="1400" spc="-1" strike="noStrike">
                <a:solidFill>
                  <a:srgbClr val="3333cc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nt amoun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57120"/>
                <a:tab algn="l" pos="2693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&lt;</a:t>
            </a:r>
            <a:r>
              <a:rPr b="0" lang="de-AT" sz="1400" spc="-1" strike="noStrike">
                <a:solidFill>
                  <a:srgbClr val="3333cc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cod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57120"/>
                <a:tab algn="l" pos="2693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(. int x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57120"/>
                <a:tab algn="l" pos="2693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&lt;</a:t>
            </a:r>
            <a:r>
              <a:rPr b="0" lang="de-AT" sz="1400" spc="-1" strike="noStrike">
                <a:solidFill>
                  <a:srgbClr val="3333cc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x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(. amount += x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57120"/>
                <a:tab algn="l" pos="2693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57120"/>
                <a:tab algn="l" pos="2693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END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190440"/>
                <a:tab algn="l" pos="357120"/>
                <a:tab algn="l" pos="2693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57120"/>
                <a:tab algn="l" pos="2693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&lt;</a:t>
            </a:r>
            <a:r>
              <a:rPr b="0" lang="de-AT" sz="1400" spc="-1" strike="noStrike">
                <a:solidFill>
                  <a:srgbClr val="3333cc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nt x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57120"/>
                <a:tab algn="l" pos="2693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numbe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(. x = token.val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57120"/>
                <a:tab algn="l" pos="2693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646560" y="4075200"/>
            <a:ext cx="7119000" cy="2410920"/>
            <a:chOff x="646560" y="4075200"/>
            <a:chExt cx="7119000" cy="2410920"/>
          </a:xfrm>
        </p:grpSpPr>
        <p:sp>
          <p:nvSpPr>
            <p:cNvPr id="190" name=""/>
            <p:cNvSpPr/>
            <p:nvPr/>
          </p:nvSpPr>
          <p:spPr>
            <a:xfrm>
              <a:off x="712080" y="4363920"/>
              <a:ext cx="2916360" cy="15858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ic 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File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int code, amoun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while (la == number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rticle(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out code, out numbe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de-AT" sz="1400" spc="-1" strike="noStrike">
                  <a:solidFill>
                    <a:srgbClr val="ff0000"/>
                  </a:solidFill>
                  <a:latin typeface="Arial"/>
                </a:rPr>
                <a:t>Write(code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 + " " + amount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692520" y="4363920"/>
              <a:ext cx="4021200" cy="15858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ic 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Article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out int code, out int amoun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Value(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out code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while (la == number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int x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Value(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out x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); 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amount += x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heck(end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11720" y="6029280"/>
              <a:ext cx="4960080" cy="307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ic 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Value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out int x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) { Check(number); 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x = token.val;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46560" y="4075200"/>
              <a:ext cx="1118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Parserc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44040" y="5935680"/>
              <a:ext cx="172152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erminal symbo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number, end, eo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6F34-5BFB-43F9-BE70-07806D0019D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xample: Image Description Languag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320840" y="2311560"/>
            <a:ext cx="63360" cy="63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68480" y="1892160"/>
            <a:ext cx="63360" cy="6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352520" y="1924200"/>
            <a:ext cx="64764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809720" y="2241720"/>
            <a:ext cx="63360" cy="63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1841040" y="1924200"/>
            <a:ext cx="15876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949400" y="2616120"/>
            <a:ext cx="63720" cy="6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841400" y="2273400"/>
            <a:ext cx="1396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1346040" y="2343240"/>
            <a:ext cx="6350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984400" y="1204920"/>
            <a:ext cx="1280880" cy="1817280"/>
            <a:chOff x="2984400" y="1204920"/>
            <a:chExt cx="1280880" cy="1817280"/>
          </a:xfrm>
        </p:grpSpPr>
        <p:sp>
          <p:nvSpPr>
            <p:cNvPr id="205" name=""/>
            <p:cNvSpPr/>
            <p:nvPr/>
          </p:nvSpPr>
          <p:spPr>
            <a:xfrm>
              <a:off x="2984400" y="1204920"/>
              <a:ext cx="12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described by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094920" y="1649520"/>
              <a:ext cx="936720" cy="1372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OL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10,40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50,90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40,45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50,0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951480" y="2347920"/>
            <a:ext cx="6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(10,4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89920" y="2652840"/>
            <a:ext cx="5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(50,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53280" y="2157480"/>
            <a:ext cx="6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(40,4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815120" y="1662120"/>
            <a:ext cx="6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(50,9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5130720" y="1204920"/>
            <a:ext cx="3361680" cy="964800"/>
            <a:chOff x="5130720" y="1204920"/>
            <a:chExt cx="3361680" cy="964800"/>
          </a:xfrm>
        </p:grpSpPr>
        <p:sp>
          <p:nvSpPr>
            <p:cNvPr id="212" name=""/>
            <p:cNvSpPr/>
            <p:nvPr/>
          </p:nvSpPr>
          <p:spPr>
            <a:xfrm>
              <a:off x="5130720" y="1204920"/>
              <a:ext cx="1236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input syntax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222520" y="1649520"/>
              <a:ext cx="3269880" cy="520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olygon = "POLY" Point {Point} "END"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oint = "(" number "," number ")"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796680" y="3403440"/>
            <a:ext cx="7773120" cy="3256200"/>
            <a:chOff x="796680" y="3403440"/>
            <a:chExt cx="7773120" cy="3256200"/>
          </a:xfrm>
        </p:grpSpPr>
        <p:sp>
          <p:nvSpPr>
            <p:cNvPr id="215" name=""/>
            <p:cNvSpPr/>
            <p:nvPr/>
          </p:nvSpPr>
          <p:spPr>
            <a:xfrm>
              <a:off x="796680" y="3403440"/>
              <a:ext cx="640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We want a program that reads the input and draws the polyg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78400" y="3859200"/>
              <a:ext cx="3323160" cy="28004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Polygon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. Pt p, q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POLY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oint&lt;</a:t>
              </a: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&gt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. Turtle.start(p)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{ "," Point&lt;</a:t>
              </a: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q&gt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. Turtle.move(q)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END"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. Turtle.move(p)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19044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</a:t>
              </a: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&gt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. Pt p; int x, y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(" numbe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. x = t.val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," numbe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. y = t.val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)"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. p = new Pt(x, y)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563000" y="3871800"/>
              <a:ext cx="4006800" cy="111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Aft>
                  <a:spcPts val="400"/>
                </a:spcAft>
                <a:tabLst>
                  <a:tab algn="l" pos="0"/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We use "Turtle Graphics" for draw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urtle.start(p);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ets the turtle (pen) to point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urtle.move(q);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moves the turtle to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drawing 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9209-A586-4B97-8785-19389C9E682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xample: </a:t>
            </a:r>
            <a:r>
              <a:rPr b="0" i="1" lang="de-AT" sz="2400" spc="-1" strike="noStrike">
                <a:solidFill>
                  <a:srgbClr val="3333cc"/>
                </a:solidFill>
                <a:latin typeface="Times New Roman"/>
              </a:rPr>
              <a:t>Transform Infix to Postfix Expressions</a:t>
            </a:r>
            <a:endParaRPr b="0" i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48800" y="1166760"/>
            <a:ext cx="6739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90440"/>
                <a:tab algn="l" pos="124452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rithmetic expressions in infix notation are to be transformed to postfix no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124452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3 + 4 * 2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MT Symbol"/>
                <a:ea typeface="MT Symbol"/>
              </a:rPr>
              <a:t>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3 4 2 * 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124452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3 + 4) * 2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MT Symbol"/>
                <a:ea typeface="MT Symbol"/>
              </a:rPr>
              <a:t>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3 4 + 2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41320" y="2373480"/>
            <a:ext cx="3046680" cy="3290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24452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Exp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24452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24452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 "+" Term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"+")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24452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  "-" Term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"-")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24452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24452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24452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24452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a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24452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 "*" Facto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"*")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24452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  "/" Facto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"/")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24452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24452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24452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Facto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24452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numbe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Write(token.va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)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24452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(" Expr ")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415760" y="2639880"/>
            <a:ext cx="3211560" cy="1826640"/>
            <a:chOff x="4415760" y="2639880"/>
            <a:chExt cx="3211560" cy="1826640"/>
          </a:xfrm>
        </p:grpSpPr>
        <p:sp>
          <p:nvSpPr>
            <p:cNvPr id="222" name=""/>
            <p:cNvSpPr/>
            <p:nvPr/>
          </p:nvSpPr>
          <p:spPr>
            <a:xfrm>
              <a:off x="4608000" y="4253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415760" y="3808440"/>
              <a:ext cx="506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ac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4660920" y="4025880"/>
              <a:ext cx="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484240" y="4253040"/>
              <a:ext cx="10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5537160" y="2882520"/>
              <a:ext cx="0" cy="13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890680" y="4253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698440" y="3808440"/>
              <a:ext cx="506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ac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5943600" y="4025880"/>
              <a:ext cx="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56200" y="425304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6908760" y="3505320"/>
              <a:ext cx="0" cy="69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313040" y="4253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120800" y="3808440"/>
              <a:ext cx="506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ac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7365960" y="4025880"/>
              <a:ext cx="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5943600" y="3632040"/>
              <a:ext cx="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702840" y="3287880"/>
              <a:ext cx="41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e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7378560" y="3632040"/>
              <a:ext cx="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6908760" y="3085920"/>
              <a:ext cx="0" cy="17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5943600" y="3632040"/>
              <a:ext cx="143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369040" y="2639880"/>
              <a:ext cx="367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xp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4660920" y="3530160"/>
              <a:ext cx="0" cy="26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42400" y="3287880"/>
              <a:ext cx="41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e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4660920" y="3085920"/>
              <a:ext cx="0" cy="17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660920" y="3086280"/>
              <a:ext cx="224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4686480" y="4176720"/>
            <a:ext cx="79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ff0000"/>
                </a:solidFill>
                <a:latin typeface="Times New Roman"/>
              </a:rPr>
              <a:t>Write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969160" y="4176720"/>
            <a:ext cx="79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ff0000"/>
                </a:solidFill>
                <a:latin typeface="Times New Roman"/>
              </a:rPr>
              <a:t>Write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378920" y="4176720"/>
            <a:ext cx="79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ff0000"/>
                </a:solidFill>
                <a:latin typeface="Times New Roman"/>
              </a:rPr>
              <a:t>Write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378920" y="3427560"/>
            <a:ext cx="79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ff0000"/>
                </a:solidFill>
                <a:latin typeface="Times New Roman"/>
              </a:rPr>
              <a:t>Write 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34680" y="2906640"/>
            <a:ext cx="80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ff0000"/>
                </a:solidFill>
                <a:latin typeface="Times New Roman"/>
              </a:rPr>
              <a:t>Write 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98AF-DC86-4B54-B4AC-65E451C2039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12080" y="1835280"/>
            <a:ext cx="683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0000"/>
                </a:solidFill>
                <a:latin typeface="Times New Roman"/>
              </a:rPr>
              <a:t>Attribute Grammars According to Knu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BA8D-D395-4AA8-AFCC-AD9B4578411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Idea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21080" y="1308240"/>
            <a:ext cx="61045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ATGs so far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: procedural descriptions (translation algorithm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very production is processed from left to r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n doing so, attributes are computed and semantic actions are execu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518040" y="2413080"/>
            <a:ext cx="4545360" cy="1999440"/>
            <a:chOff x="518040" y="2413080"/>
            <a:chExt cx="4545360" cy="1999440"/>
          </a:xfrm>
        </p:grpSpPr>
        <p:sp>
          <p:nvSpPr>
            <p:cNvPr id="255" name=""/>
            <p:cNvSpPr/>
            <p:nvPr/>
          </p:nvSpPr>
          <p:spPr>
            <a:xfrm>
              <a:off x="518040" y="2413080"/>
              <a:ext cx="454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ATGs according to Donald Knuth (1968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25480" y="3225960"/>
              <a:ext cx="457200" cy="330120"/>
            </a:xfrm>
            <a:prstGeom prst="ca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874960" y="3630600"/>
              <a:ext cx="203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25760" y="363060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925720" y="39416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971800" y="3816360"/>
              <a:ext cx="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703600" y="3281400"/>
              <a:ext cx="203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2590920" y="3492360"/>
              <a:ext cx="139680" cy="13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832120" y="3492360"/>
              <a:ext cx="139680" cy="13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281400" y="3319560"/>
              <a:ext cx="203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332160" y="363060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378240" y="3505320"/>
              <a:ext cx="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2857680" y="3143160"/>
              <a:ext cx="209520" cy="13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162240" y="3143160"/>
              <a:ext cx="209520" cy="13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021120" y="2957400"/>
              <a:ext cx="203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47920" y="3365640"/>
              <a:ext cx="104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536120" y="2830680"/>
              <a:ext cx="801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can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par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400480" y="4075200"/>
              <a:ext cx="106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syntax tre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3607560" y="2602080"/>
            <a:ext cx="3614040" cy="1810440"/>
            <a:chOff x="3607560" y="2602080"/>
            <a:chExt cx="3614040" cy="1810440"/>
          </a:xfrm>
        </p:grpSpPr>
        <p:sp>
          <p:nvSpPr>
            <p:cNvPr id="274" name=""/>
            <p:cNvSpPr/>
            <p:nvPr/>
          </p:nvSpPr>
          <p:spPr>
            <a:xfrm>
              <a:off x="5478480" y="3630600"/>
              <a:ext cx="203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129280" y="363060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29240" y="39416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575320" y="3816360"/>
              <a:ext cx="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307120" y="3281400"/>
              <a:ext cx="203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5194440" y="3492360"/>
              <a:ext cx="139680" cy="13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435640" y="3492360"/>
              <a:ext cx="139680" cy="13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884920" y="3319560"/>
              <a:ext cx="203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935680" y="363060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981760" y="3505320"/>
              <a:ext cx="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5460840" y="3143160"/>
              <a:ext cx="209880" cy="13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765760" y="3143160"/>
              <a:ext cx="209520" cy="13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624640" y="2957400"/>
              <a:ext cx="203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619440" y="3365640"/>
              <a:ext cx="140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607560" y="3059280"/>
              <a:ext cx="1174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ttribu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670720" y="3765600"/>
              <a:ext cx="6984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505480" y="3422520"/>
              <a:ext cx="6984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95880" y="3435480"/>
              <a:ext cx="6984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203880" y="3435480"/>
              <a:ext cx="6984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835600" y="3086280"/>
              <a:ext cx="6984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937120" y="3086280"/>
              <a:ext cx="6984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039000" y="3086280"/>
              <a:ext cx="6984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623840" y="4075200"/>
              <a:ext cx="210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"decorated" syntax tre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6121440" y="2869920"/>
              <a:ext cx="190440" cy="190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260760" y="2602080"/>
              <a:ext cx="960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attribu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580320" y="4648320"/>
            <a:ext cx="5923080" cy="1978920"/>
            <a:chOff x="580320" y="4648320"/>
            <a:chExt cx="5923080" cy="1978920"/>
          </a:xfrm>
        </p:grpSpPr>
        <p:sp>
          <p:nvSpPr>
            <p:cNvPr id="300" name=""/>
            <p:cNvSpPr/>
            <p:nvPr/>
          </p:nvSpPr>
          <p:spPr>
            <a:xfrm>
              <a:off x="770400" y="4648320"/>
              <a:ext cx="5002560" cy="91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Nonterminal symbols have attribu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tatic properties (do not change after their evaluatio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xamples: type of an expression, address of a variable, 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0320" y="5715000"/>
              <a:ext cx="5923080" cy="91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Attribut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 syntax tree is traversed (possibly several times up and down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until all attributes have been comput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D20D-610D-47DF-A0AE-B4DA95CF059B}" type="slidenum">
              <a:t>15</a:t>
            </a:fld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Attribute Evaluation Rule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17480" y="1295280"/>
            <a:ext cx="642420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For every production they define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 input attributes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of all symbols on the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right-hand sid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of the p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 output attributes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of the symbol on the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left-hand sid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of the p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ny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context conditions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if necess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19120" y="2577960"/>
            <a:ext cx="142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913680" y="304632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roduction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696400" y="3044880"/>
            <a:ext cx="1609560" cy="37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MT Symbol"/>
                <a:ea typeface="MT Symbol"/>
              </a:rPr>
              <a:t>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MT Symbol"/>
                <a:ea typeface="MT Symbol"/>
              </a:rPr>
              <a:t>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MT Symbol"/>
                <a:ea typeface="MT Symbol"/>
              </a:rPr>
              <a:t>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4678920" y="2797200"/>
            <a:ext cx="3567240" cy="2214360"/>
            <a:chOff x="4678920" y="2797200"/>
            <a:chExt cx="3567240" cy="2214360"/>
          </a:xfrm>
        </p:grpSpPr>
        <p:sp>
          <p:nvSpPr>
            <p:cNvPr id="308" name=""/>
            <p:cNvSpPr/>
            <p:nvPr/>
          </p:nvSpPr>
          <p:spPr>
            <a:xfrm>
              <a:off x="4775040" y="3086280"/>
              <a:ext cx="1575000" cy="100296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59320" y="2971800"/>
              <a:ext cx="190440" cy="203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522760" y="31734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091120" y="37576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954760" y="37576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5181480" y="3403080"/>
              <a:ext cx="34308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 flipV="1">
              <a:off x="5613480" y="3403080"/>
              <a:ext cx="34272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407920" y="2979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549760" y="2971800"/>
              <a:ext cx="190800" cy="2030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598360" y="2979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413320" y="279720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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616360" y="280980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0000"/>
                  </a:solidFill>
                  <a:latin typeface="MT Symbol"/>
                  <a:ea typeface="MT Symbol"/>
                </a:rPr>
                <a:t>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978440" y="4000680"/>
              <a:ext cx="190440" cy="2030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027400" y="40086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168880" y="4000680"/>
              <a:ext cx="190440" cy="203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17120" y="4008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829480" y="4000680"/>
              <a:ext cx="190440" cy="2030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877720" y="4008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19920" y="4000680"/>
              <a:ext cx="190440" cy="203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068520" y="4008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045040" y="42195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0000"/>
                  </a:solidFill>
                  <a:latin typeface="MT Symbol"/>
                  <a:ea typeface="MT Symbol"/>
                </a:rPr>
                <a:t>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248080" y="42321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895720" y="42195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0000"/>
                  </a:solidFill>
                  <a:latin typeface="MT Symbol"/>
                  <a:ea typeface="MT Symbol"/>
                </a:rPr>
                <a:t>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99120" y="42321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476040" y="2995560"/>
              <a:ext cx="1770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production 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represents a s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of the syntax tre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678920" y="4430880"/>
              <a:ext cx="2524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We must define all attribu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at leave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(i.e.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919800" y="5103720"/>
            <a:ext cx="3065760" cy="1101600"/>
            <a:chOff x="919800" y="5103720"/>
            <a:chExt cx="3065760" cy="1101600"/>
          </a:xfrm>
        </p:grpSpPr>
        <p:sp>
          <p:nvSpPr>
            <p:cNvPr id="335" name=""/>
            <p:cNvSpPr/>
            <p:nvPr/>
          </p:nvSpPr>
          <p:spPr>
            <a:xfrm>
              <a:off x="919800" y="5103720"/>
              <a:ext cx="30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ttribute evaluation rules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) e.g.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186560" y="5472000"/>
              <a:ext cx="1303920" cy="73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 = a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 = d + foo(a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 = d + f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4674240" y="5116680"/>
            <a:ext cx="2602440" cy="662400"/>
            <a:chOff x="4674240" y="5116680"/>
            <a:chExt cx="2602440" cy="662400"/>
          </a:xfrm>
        </p:grpSpPr>
        <p:sp>
          <p:nvSpPr>
            <p:cNvPr id="338" name=""/>
            <p:cNvSpPr/>
            <p:nvPr/>
          </p:nvSpPr>
          <p:spPr>
            <a:xfrm>
              <a:off x="4674240" y="5116680"/>
              <a:ext cx="260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ontext condition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) e.g.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961880" y="5472000"/>
              <a:ext cx="63792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d &gt;= 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D603-6463-4429-BDDA-A5D3D1DA5A9D}" type="slidenum">
              <a:t>16</a:t>
            </a:fld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xample: </a:t>
            </a:r>
            <a:r>
              <a:rPr b="0" i="1" lang="de-AT" sz="2400" spc="-1" strike="noStrike">
                <a:solidFill>
                  <a:srgbClr val="3333cc"/>
                </a:solidFill>
                <a:latin typeface="Times New Roman"/>
              </a:rPr>
              <a:t>Computing the Value of a Hex Number</a:t>
            </a:r>
            <a:endParaRPr b="0" i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16760" y="1333440"/>
            <a:ext cx="53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(must be in BNF so that we can build a syntax tre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058400" y="1814400"/>
            <a:ext cx="3815640" cy="946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Number = Digits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decimal 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Number = Digits "H"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hexadecimal 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igits = hex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hex ... 0..9, A..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igits = Digits he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709920" y="2971800"/>
            <a:ext cx="1696680" cy="1854360"/>
            <a:chOff x="709920" y="2971800"/>
            <a:chExt cx="1696680" cy="1854360"/>
          </a:xfrm>
        </p:grpSpPr>
        <p:sp>
          <p:nvSpPr>
            <p:cNvPr id="344" name=""/>
            <p:cNvSpPr/>
            <p:nvPr/>
          </p:nvSpPr>
          <p:spPr>
            <a:xfrm>
              <a:off x="709920" y="2971800"/>
              <a:ext cx="118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Attribu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038960" y="3452760"/>
              <a:ext cx="81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Numb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704600" y="3622680"/>
              <a:ext cx="43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v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038960" y="3897360"/>
              <a:ext cx="62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Digi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542960" y="4067280"/>
              <a:ext cx="86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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ase </a:t>
              </a:r>
              <a:r>
                <a:rPr b="0" lang="de-AT" sz="12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v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038960" y="4379760"/>
              <a:ext cx="46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h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399680" y="4549680"/>
              <a:ext cx="43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v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3642840" y="2971800"/>
            <a:ext cx="4935960" cy="3721680"/>
            <a:chOff x="3642840" y="2971800"/>
            <a:chExt cx="4935960" cy="3721680"/>
          </a:xfrm>
        </p:grpSpPr>
        <p:sp>
          <p:nvSpPr>
            <p:cNvPr id="352" name=""/>
            <p:cNvSpPr/>
            <p:nvPr/>
          </p:nvSpPr>
          <p:spPr>
            <a:xfrm>
              <a:off x="3642840" y="2971800"/>
              <a:ext cx="129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Syntax tre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093640" y="2995560"/>
              <a:ext cx="163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or the input: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1B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56240" y="5180040"/>
              <a:ext cx="67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Digi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390560" y="5240160"/>
              <a:ext cx="33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394160" y="5410080"/>
              <a:ext cx="34308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810680" y="5240160"/>
              <a:ext cx="19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v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737240" y="5410080"/>
              <a:ext cx="34272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204880" y="51800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h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725080" y="5240160"/>
              <a:ext cx="19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v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651640" y="5410080"/>
              <a:ext cx="34272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4127400" y="4686480"/>
              <a:ext cx="52092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889520" y="4686480"/>
              <a:ext cx="52056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454640" y="4354560"/>
              <a:ext cx="67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Digi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088960" y="4414680"/>
              <a:ext cx="33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092560" y="4584600"/>
              <a:ext cx="34308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509080" y="4414680"/>
              <a:ext cx="19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v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35640" y="4584600"/>
              <a:ext cx="34272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069600" y="4354560"/>
              <a:ext cx="47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"H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4902120" y="3873600"/>
              <a:ext cx="52092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676840" y="3873600"/>
              <a:ext cx="52092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03720" y="3529080"/>
              <a:ext cx="8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Numb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978880" y="3589200"/>
              <a:ext cx="19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v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905440" y="3759120"/>
              <a:ext cx="34308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871440" y="5865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h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391640" y="5925960"/>
              <a:ext cx="19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v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317840" y="6095880"/>
              <a:ext cx="34308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089240" y="5486400"/>
              <a:ext cx="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948120" y="6386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294520" y="638640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158160" y="638640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89240" y="6159600"/>
              <a:ext cx="0" cy="253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423040" y="5460840"/>
              <a:ext cx="0" cy="952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299280" y="4635360"/>
              <a:ext cx="0" cy="17780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113240" y="4329000"/>
              <a:ext cx="14655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ttributes ha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not yet bee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valuated so f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8B7A-DE80-4C66-8ACB-F65665340ED6}" type="slidenum">
              <a:t>17</a:t>
            </a:fld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2070000" y="1778040"/>
            <a:ext cx="4013280" cy="558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070000" y="1320840"/>
            <a:ext cx="401328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070000" y="5448240"/>
            <a:ext cx="4013280" cy="1028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070000" y="4991040"/>
            <a:ext cx="401328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Attribute Evaluation Rule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170800" y="1393920"/>
            <a:ext cx="238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Number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val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= Digits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MT Symbol"/>
                <a:ea typeface="MT Symbol"/>
              </a:rPr>
              <a:t>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base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val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062080" y="1814400"/>
            <a:ext cx="207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igits.base = 1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Number.val = Digits.va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247840" y="5038560"/>
            <a:ext cx="3162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Digits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MT Symbol"/>
                <a:ea typeface="MT Symbol"/>
              </a:rPr>
              <a:t>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base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val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= Digits1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MT Symbol"/>
                <a:ea typeface="MT Symbol"/>
              </a:rPr>
              <a:t>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base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val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he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val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053800" y="5459400"/>
            <a:ext cx="381096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igits1.base = Digits.bas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igits.val = Digits1.val * Digits.base + hex.va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 u="sng">
                <a:solidFill>
                  <a:srgbClr val="000000"/>
                </a:solidFill>
                <a:uFillTx/>
                <a:latin typeface="Arial"/>
              </a:rPr>
              <a:t>CC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igits.base == 10  &amp;&amp;  0 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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hex.val 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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igits.base == 16  &amp;&amp;  0 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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hex.val 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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070000" y="2908440"/>
            <a:ext cx="4013280" cy="558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070000" y="2451240"/>
            <a:ext cx="401328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170800" y="2523960"/>
            <a:ext cx="2730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Number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val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= Digits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MT Symbol"/>
                <a:ea typeface="MT Symbol"/>
              </a:rPr>
              <a:t>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base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val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"H"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62080" y="2944800"/>
            <a:ext cx="207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igits.base = 16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Number.val = Digits.va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070000" y="4038480"/>
            <a:ext cx="4013280" cy="825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070000" y="3581280"/>
            <a:ext cx="401328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69360" y="3629160"/>
            <a:ext cx="1991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Digits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MT Symbol"/>
                <a:ea typeface="MT Symbol"/>
              </a:rPr>
              <a:t>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base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val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= he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val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087280" y="4049640"/>
            <a:ext cx="358668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igits.val = hex.va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 u="sng">
                <a:solidFill>
                  <a:srgbClr val="000000"/>
                </a:solidFill>
                <a:uFillTx/>
                <a:latin typeface="Arial"/>
              </a:rPr>
              <a:t>CC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igits.base == 10  &amp;&amp;  0 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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hex.val 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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igits.base == 16  &amp;&amp;  0 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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hex.val 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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47280" y="1382760"/>
            <a:ext cx="130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Production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47280" y="2525760"/>
            <a:ext cx="130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Production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7280" y="3643200"/>
            <a:ext cx="130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Production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47280" y="5040360"/>
            <a:ext cx="130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Production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812A-EACD-46EE-BDDF-88B84C4782F2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Attributation of the Tre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93000" y="1308240"/>
            <a:ext cx="57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Scanner fills the attribute values of the terminal symb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216080" y="364320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Dig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850400" y="3703680"/>
            <a:ext cx="33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854360" y="3873600"/>
            <a:ext cx="34272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70520" y="370368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197080" y="3873600"/>
            <a:ext cx="3430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664720" y="364320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h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184920" y="370368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111480" y="3873600"/>
            <a:ext cx="3430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1587600" y="3149640"/>
            <a:ext cx="520560" cy="52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349360" y="3149640"/>
            <a:ext cx="520920" cy="52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914840" y="281772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Dig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548800" y="2878200"/>
            <a:ext cx="33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552760" y="3048120"/>
            <a:ext cx="34272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969280" y="287820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895480" y="3048120"/>
            <a:ext cx="3430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529800" y="2817720"/>
            <a:ext cx="47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"H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2362320" y="2336400"/>
            <a:ext cx="520560" cy="52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137040" y="2336760"/>
            <a:ext cx="520560" cy="52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563920" y="1992240"/>
            <a:ext cx="8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439080" y="205272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365640" y="2222640"/>
            <a:ext cx="34272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331280" y="432900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h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851480" y="438948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778040" y="4559400"/>
            <a:ext cx="34272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549440" y="394956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407960" y="48499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754360" y="48499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618360" y="48499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549440" y="4622760"/>
            <a:ext cx="0" cy="2541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882880" y="3924360"/>
            <a:ext cx="0" cy="952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59120" y="3098880"/>
            <a:ext cx="0" cy="17780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890000" y="45925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184560" y="38941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3CCC-210E-4529-AF4A-5C3419FDA31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emantic Processing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69600" y="1332000"/>
            <a:ext cx="519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parser checks only the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yntactic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correctness of a pr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7760" y="1917720"/>
            <a:ext cx="30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Tasks of semantic 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48000" y="2513160"/>
            <a:ext cx="456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Symbol table handling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Maintaining information about declared names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Maintaining information about types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Maintaining scop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8360" y="3656160"/>
            <a:ext cx="2817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Checking context conditions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coping rules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ype chec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9440" y="4621320"/>
            <a:ext cx="369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Invocation of code generation rout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8880" y="5624640"/>
            <a:ext cx="398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emantic actions are integrated into the pars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nd are described with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attribute gramm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2A67-2DC8-4747-B86C-641478095D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Attributation of the Tree (cont.)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95520" y="1308240"/>
            <a:ext cx="318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The tree is traversed top-d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216080" y="416412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Dig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850400" y="4224240"/>
            <a:ext cx="33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854360" y="4394160"/>
            <a:ext cx="34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270520" y="422424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197080" y="4394160"/>
            <a:ext cx="34308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664720" y="416412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h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184920" y="422424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111480" y="4394160"/>
            <a:ext cx="34308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1587600" y="3669840"/>
            <a:ext cx="520560" cy="52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349360" y="3670200"/>
            <a:ext cx="520920" cy="52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914840" y="333864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Dig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548800" y="3398760"/>
            <a:ext cx="33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552760" y="3568680"/>
            <a:ext cx="34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969280" y="339876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3568680"/>
            <a:ext cx="34308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529800" y="3338640"/>
            <a:ext cx="47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"H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2362320" y="2857680"/>
            <a:ext cx="520560" cy="52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137040" y="2857680"/>
            <a:ext cx="520560" cy="52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563920" y="2513160"/>
            <a:ext cx="8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439080" y="257328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365640" y="2743200"/>
            <a:ext cx="34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331280" y="484992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h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851480" y="491004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778040" y="5079960"/>
            <a:ext cx="34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549440" y="447048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407960" y="53704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754360" y="53704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618360" y="5370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549440" y="5143680"/>
            <a:ext cx="0" cy="253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882880" y="4444920"/>
            <a:ext cx="0" cy="952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759120" y="3619440"/>
            <a:ext cx="0" cy="17780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890000" y="51134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184560" y="44146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47000" y="1649520"/>
            <a:ext cx="734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or every production we check which attribute evaluation rules are ready to be execu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727280" y="2514600"/>
            <a:ext cx="2450880" cy="1384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432320" y="3137040"/>
            <a:ext cx="4013280" cy="558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432320" y="2679840"/>
            <a:ext cx="401328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532760" y="2752560"/>
            <a:ext cx="2730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Number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val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= Digits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MT Symbol"/>
                <a:ea typeface="MT Symbol"/>
              </a:rPr>
              <a:t>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base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val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"H"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424400" y="3173400"/>
            <a:ext cx="207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Digits.base = 16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Number.val = Digits.va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355640" y="2335320"/>
            <a:ext cx="130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Production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625840" y="35892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524F-76C1-4C29-9777-59478170F0C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Attributation of the Tree (cont.)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216080" y="416412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Dig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850400" y="4224240"/>
            <a:ext cx="33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854360" y="4394160"/>
            <a:ext cx="34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270520" y="422424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197080" y="4394160"/>
            <a:ext cx="34308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664720" y="416412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h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184920" y="422424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111480" y="4394160"/>
            <a:ext cx="34308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1587600" y="3669840"/>
            <a:ext cx="520560" cy="52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349360" y="3670200"/>
            <a:ext cx="520920" cy="52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914840" y="333864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Dig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548800" y="3398760"/>
            <a:ext cx="33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552760" y="3568680"/>
            <a:ext cx="34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969280" y="339876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895480" y="3568680"/>
            <a:ext cx="34308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529800" y="3338640"/>
            <a:ext cx="47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"H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2362320" y="2857680"/>
            <a:ext cx="520560" cy="52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37040" y="2857680"/>
            <a:ext cx="520560" cy="52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563920" y="2513160"/>
            <a:ext cx="8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439080" y="257328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365640" y="2743200"/>
            <a:ext cx="34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331280" y="484992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h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851480" y="491004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778040" y="5079960"/>
            <a:ext cx="34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549440" y="447048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407960" y="53704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754360" y="53704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618360" y="5370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549440" y="5143680"/>
            <a:ext cx="0" cy="253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882880" y="4444920"/>
            <a:ext cx="0" cy="952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759120" y="3619440"/>
            <a:ext cx="0" cy="17780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890000" y="51134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184560" y="44146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155600" y="3340080"/>
            <a:ext cx="2451240" cy="1384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355640" y="2957400"/>
            <a:ext cx="130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Production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625840" y="35892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444920" y="3746520"/>
            <a:ext cx="401328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444920" y="3289320"/>
            <a:ext cx="401328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622760" y="3336840"/>
            <a:ext cx="3162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Digits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MT Symbol"/>
                <a:ea typeface="MT Symbol"/>
              </a:rPr>
              <a:t>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base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val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= Digits1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MT Symbol"/>
                <a:ea typeface="MT Symbol"/>
              </a:rPr>
              <a:t>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base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val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he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val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428720" y="3757680"/>
            <a:ext cx="381096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Digits1.base = Digits.bas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igits.val = Digits1.val * Digits.base + hex.va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 u="sng">
                <a:solidFill>
                  <a:srgbClr val="000000"/>
                </a:solidFill>
                <a:uFillTx/>
                <a:latin typeface="Arial"/>
              </a:rPr>
              <a:t>CC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Digits.base == 10  &amp;&amp;  0 </a:t>
            </a:r>
            <a:r>
              <a:rPr b="0" lang="de-AT" sz="1400" spc="-1" strike="noStrike">
                <a:solidFill>
                  <a:srgbClr val="ff0000"/>
                </a:solidFill>
                <a:latin typeface="MT Symbol"/>
                <a:ea typeface="MT Symbol"/>
              </a:rPr>
              <a:t>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 hex.val </a:t>
            </a:r>
            <a:r>
              <a:rPr b="0" lang="de-AT" sz="1400" spc="-1" strike="noStrike">
                <a:solidFill>
                  <a:srgbClr val="ff0000"/>
                </a:solidFill>
                <a:latin typeface="MT Symbol"/>
                <a:ea typeface="MT Symbol"/>
              </a:rPr>
              <a:t>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 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||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Digits.base == 16  &amp;&amp;  0 </a:t>
            </a:r>
            <a:r>
              <a:rPr b="0" lang="de-AT" sz="1400" spc="-1" strike="noStrike">
                <a:solidFill>
                  <a:srgbClr val="ff0000"/>
                </a:solidFill>
                <a:latin typeface="MT Symbol"/>
                <a:ea typeface="MT Symbol"/>
              </a:rPr>
              <a:t>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 hex.val </a:t>
            </a:r>
            <a:r>
              <a:rPr b="0" lang="de-AT" sz="1400" spc="-1" strike="noStrike">
                <a:solidFill>
                  <a:srgbClr val="ff0000"/>
                </a:solidFill>
                <a:latin typeface="MT Symbol"/>
                <a:ea typeface="MT Symbol"/>
              </a:rPr>
              <a:t>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 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927440" y="44146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2095200" y="3784680"/>
            <a:ext cx="609480" cy="45720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95520" y="1308240"/>
            <a:ext cx="318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The tree is traversed top-d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47000" y="1649520"/>
            <a:ext cx="734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or every production we check which attribute evaluation rules are ready to be execu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DC79-1644-463D-BAB6-39C9708AF28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Attributation of the Tree (cont.)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216080" y="416412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Dig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850400" y="4224240"/>
            <a:ext cx="33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854360" y="4394160"/>
            <a:ext cx="34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270520" y="422424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197080" y="4394160"/>
            <a:ext cx="34308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664720" y="416412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h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184920" y="422424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111480" y="4394160"/>
            <a:ext cx="34308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1587600" y="3669840"/>
            <a:ext cx="520560" cy="52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349360" y="3670200"/>
            <a:ext cx="520920" cy="52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914840" y="333864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Dig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548800" y="3398760"/>
            <a:ext cx="33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552760" y="3568680"/>
            <a:ext cx="34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969280" y="339876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895480" y="3568680"/>
            <a:ext cx="34308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529800" y="3338640"/>
            <a:ext cx="47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"H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2362320" y="2857680"/>
            <a:ext cx="520560" cy="52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137040" y="2857680"/>
            <a:ext cx="520560" cy="52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563920" y="2513160"/>
            <a:ext cx="8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439080" y="257328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365640" y="2743200"/>
            <a:ext cx="34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331280" y="484992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h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851480" y="491004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778040" y="5079960"/>
            <a:ext cx="34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549440" y="447048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407960" y="53704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754360" y="53704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618360" y="5370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549440" y="5143680"/>
            <a:ext cx="0" cy="253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882880" y="4444920"/>
            <a:ext cx="0" cy="952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759120" y="3619440"/>
            <a:ext cx="0" cy="17780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890000" y="51134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184560" y="44146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155600" y="4114800"/>
            <a:ext cx="1511280" cy="1257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355640" y="3871800"/>
            <a:ext cx="130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Production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625840" y="35892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927440" y="44146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2057400" y="4622760"/>
            <a:ext cx="317520" cy="39384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444920" y="4635360"/>
            <a:ext cx="4013280" cy="825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444920" y="4178160"/>
            <a:ext cx="401328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44280" y="4226040"/>
            <a:ext cx="1991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Digits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MT Symbol"/>
                <a:ea typeface="MT Symbol"/>
              </a:rPr>
              <a:t>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base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val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= he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val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462200" y="4646520"/>
            <a:ext cx="358668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Digits.val = hex.va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 u="sng">
                <a:solidFill>
                  <a:srgbClr val="000000"/>
                </a:solidFill>
                <a:uFillTx/>
                <a:latin typeface="Arial"/>
              </a:rPr>
              <a:t>CC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Digits.base == 10  &amp;&amp;  0 </a:t>
            </a:r>
            <a:r>
              <a:rPr b="0" lang="de-AT" sz="1400" spc="-1" strike="noStrike">
                <a:solidFill>
                  <a:srgbClr val="ff0000"/>
                </a:solidFill>
                <a:latin typeface="MT Symbol"/>
                <a:ea typeface="MT Symbol"/>
              </a:rPr>
              <a:t>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 hex.val </a:t>
            </a:r>
            <a:r>
              <a:rPr b="0" lang="de-AT" sz="1400" spc="-1" strike="noStrike">
                <a:solidFill>
                  <a:srgbClr val="ff0000"/>
                </a:solidFill>
                <a:latin typeface="MT Symbol"/>
                <a:ea typeface="MT Symbol"/>
              </a:rPr>
              <a:t>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 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||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Digits.base == 16  &amp;&amp;  0 </a:t>
            </a:r>
            <a:r>
              <a:rPr b="0" lang="de-AT" sz="1400" spc="-1" strike="noStrike">
                <a:solidFill>
                  <a:srgbClr val="ff0000"/>
                </a:solidFill>
                <a:latin typeface="MT Symbol"/>
                <a:ea typeface="MT Symbol"/>
              </a:rPr>
              <a:t>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 hex.val </a:t>
            </a:r>
            <a:r>
              <a:rPr b="0" lang="de-AT" sz="1400" spc="-1" strike="noStrike">
                <a:solidFill>
                  <a:srgbClr val="ff0000"/>
                </a:solidFill>
                <a:latin typeface="MT Symbol"/>
                <a:ea typeface="MT Symbol"/>
              </a:rPr>
              <a:t>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 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334240" y="44146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95520" y="1308240"/>
            <a:ext cx="318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The tree is traversed top-d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47000" y="1649520"/>
            <a:ext cx="734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or every production we check which attribute evaluation rules are ready to be execu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D7D0-AB70-4949-AAB0-799A6FC6170D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Attributation of the Tree (cont.)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216080" y="416412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Dig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50400" y="4224240"/>
            <a:ext cx="33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854360" y="4394160"/>
            <a:ext cx="34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270520" y="422424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197080" y="4394160"/>
            <a:ext cx="34308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664720" y="416412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h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184920" y="422424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111480" y="4394160"/>
            <a:ext cx="34308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1587600" y="3669840"/>
            <a:ext cx="520560" cy="52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349360" y="3670200"/>
            <a:ext cx="520920" cy="52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914840" y="333864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Dig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548800" y="3398760"/>
            <a:ext cx="33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552760" y="3568680"/>
            <a:ext cx="34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969280" y="339876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895480" y="3568680"/>
            <a:ext cx="34308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529800" y="3338640"/>
            <a:ext cx="47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"H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2362320" y="2857680"/>
            <a:ext cx="520560" cy="52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137040" y="2857680"/>
            <a:ext cx="520560" cy="52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563920" y="2513160"/>
            <a:ext cx="8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439080" y="257328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365640" y="2743200"/>
            <a:ext cx="34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331280" y="484992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h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851480" y="491004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778040" y="5079960"/>
            <a:ext cx="34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549440" y="447048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407960" y="53704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754360" y="53704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618360" y="5370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549440" y="5143680"/>
            <a:ext cx="0" cy="253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882880" y="4444920"/>
            <a:ext cx="0" cy="952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759120" y="3619440"/>
            <a:ext cx="0" cy="17780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890000" y="51134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184560" y="44146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625840" y="35892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927440" y="44146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2489040" y="3848040"/>
            <a:ext cx="520920" cy="49536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334240" y="44146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155600" y="3340080"/>
            <a:ext cx="2451240" cy="1384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355640" y="2957400"/>
            <a:ext cx="130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Production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444920" y="3746520"/>
            <a:ext cx="401328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444920" y="3289320"/>
            <a:ext cx="401328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622760" y="3336840"/>
            <a:ext cx="3162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Digits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MT Symbol"/>
                <a:ea typeface="MT Symbol"/>
              </a:rPr>
              <a:t>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base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val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= Digits1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MT Symbol"/>
                <a:ea typeface="MT Symbol"/>
              </a:rPr>
              <a:t>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base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val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he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val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428720" y="3757680"/>
            <a:ext cx="381096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igits1.base = Digits.bas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Digits.val = Digits1.val * Digits.base + hex.va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 u="sng">
                <a:solidFill>
                  <a:srgbClr val="000000"/>
                </a:solidFill>
                <a:uFillTx/>
                <a:latin typeface="Arial"/>
              </a:rPr>
              <a:t>CC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igits.base == 10  &amp;&amp;  0 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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hex.val 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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igits.base == 16  &amp;&amp;  0 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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hex.val 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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 flipV="1">
            <a:off x="3124080" y="3847680"/>
            <a:ext cx="152640" cy="38124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968920" y="35892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95160" y="1308240"/>
            <a:ext cx="328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The tree is traversed bottom-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47000" y="1649520"/>
            <a:ext cx="734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or every production we check which attribute evaluation rules are ready to be execu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2966-0D37-425F-9B23-78272C0EC0D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Attributation of the Tree (cont.)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216080" y="416412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Dig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850400" y="4224240"/>
            <a:ext cx="33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854360" y="4394160"/>
            <a:ext cx="34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270520" y="422424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97080" y="4394160"/>
            <a:ext cx="34308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64720" y="416412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h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184920" y="422424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111480" y="4394160"/>
            <a:ext cx="34308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V="1">
            <a:off x="1587600" y="3669840"/>
            <a:ext cx="520560" cy="52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349360" y="3670200"/>
            <a:ext cx="520920" cy="52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914840" y="333864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Dig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548800" y="3398760"/>
            <a:ext cx="33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552760" y="3568680"/>
            <a:ext cx="34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969280" y="339876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895480" y="3568680"/>
            <a:ext cx="34308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529800" y="3338640"/>
            <a:ext cx="47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"H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2362320" y="2857680"/>
            <a:ext cx="520560" cy="52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137040" y="2857680"/>
            <a:ext cx="520560" cy="52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563920" y="2513160"/>
            <a:ext cx="8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439080" y="257328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365640" y="2743200"/>
            <a:ext cx="34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331280" y="484992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h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851480" y="491004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778040" y="5079960"/>
            <a:ext cx="34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549440" y="447048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407960" y="53704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754360" y="53704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618360" y="5370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549440" y="5143680"/>
            <a:ext cx="0" cy="253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882880" y="4444920"/>
            <a:ext cx="0" cy="952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759120" y="3619440"/>
            <a:ext cx="0" cy="17780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890000" y="51134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184560" y="44146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625840" y="35892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927440" y="44146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3187800" y="2971440"/>
            <a:ext cx="342720" cy="50796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334240" y="44146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968920" y="35892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727280" y="2514600"/>
            <a:ext cx="2450880" cy="1384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432320" y="3137040"/>
            <a:ext cx="4013280" cy="558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432320" y="2679840"/>
            <a:ext cx="401328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532760" y="2752560"/>
            <a:ext cx="2730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Number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val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= Digits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MT Symbol"/>
                <a:ea typeface="MT Symbol"/>
              </a:rPr>
              <a:t>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base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val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"H"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424400" y="3173400"/>
            <a:ext cx="207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igits.base = 16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Number.val = Digits.va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355640" y="2335320"/>
            <a:ext cx="130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Production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451320" y="27637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65720" y="5989680"/>
            <a:ext cx="607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All attributes have been computed </a:t>
            </a:r>
            <a:r>
              <a:rPr b="1" lang="de-AT" sz="1800" spc="-1" strike="noStrike">
                <a:solidFill>
                  <a:srgbClr val="000000"/>
                </a:solidFill>
                <a:latin typeface="MT Symbol"/>
                <a:ea typeface="MT Symbol"/>
              </a:rPr>
              <a:t></a:t>
            </a: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 end of the tree traver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95160" y="1308240"/>
            <a:ext cx="328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The tree is traversed bottom-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47000" y="1649520"/>
            <a:ext cx="734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or every production we check which attribute evaluation rules are ready to be execu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1544-C104-4A05-A0CA-2884C5B74266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Definition of ATGs According to Knuth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822960" y="1219320"/>
            <a:ext cx="21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Attribute Gramm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939960" y="1700280"/>
            <a:ext cx="219528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TG = (CFG, A, R, C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893880" y="2106720"/>
            <a:ext cx="3457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FG ...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ontext-free gramm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 ...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et of 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 ...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et of attribute evaluation ru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C ...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et of context cond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5051520" y="1219320"/>
            <a:ext cx="2530440" cy="1954800"/>
            <a:chOff x="5051520" y="1219320"/>
            <a:chExt cx="2530440" cy="1954800"/>
          </a:xfrm>
        </p:grpSpPr>
        <p:sp>
          <p:nvSpPr>
            <p:cNvPr id="678" name=""/>
            <p:cNvSpPr/>
            <p:nvPr/>
          </p:nvSpPr>
          <p:spPr>
            <a:xfrm>
              <a:off x="5051520" y="1219320"/>
              <a:ext cx="246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Context-free Gramm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169960" y="1700280"/>
              <a:ext cx="1721520" cy="337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FG = (T, N, P, 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119560" y="2106720"/>
              <a:ext cx="24624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 ...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erminal symbo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N ...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nonterminal symbo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P ...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produ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 ...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tart symb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722520" y="3340080"/>
            <a:ext cx="5051880" cy="1101960"/>
            <a:chOff x="722520" y="3340080"/>
            <a:chExt cx="5051880" cy="1101960"/>
          </a:xfrm>
        </p:grpSpPr>
        <p:sp>
          <p:nvSpPr>
            <p:cNvPr id="682" name=""/>
            <p:cNvSpPr/>
            <p:nvPr/>
          </p:nvSpPr>
          <p:spPr>
            <a:xfrm>
              <a:off x="722520" y="3340080"/>
              <a:ext cx="118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Attribu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45560" y="3618000"/>
              <a:ext cx="50288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190440"/>
                  <a:tab algn="l" pos="762120"/>
                  <a:tab algn="l" pos="1054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(X) ...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ttributes of the symbol X (written as X.a, X.b, ...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90440"/>
                  <a:tab algn="l" pos="762120"/>
                  <a:tab algn="l" pos="1054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S(X) ...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output attributes of X (synthesize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90440"/>
                  <a:tab algn="l" pos="762120"/>
                  <a:tab algn="l" pos="1054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I(X) ...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nput attributes of X (inherite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721080" y="4470480"/>
            <a:ext cx="5902200" cy="1101600"/>
            <a:chOff x="721080" y="4470480"/>
            <a:chExt cx="5902200" cy="1101600"/>
          </a:xfrm>
        </p:grpSpPr>
        <p:sp>
          <p:nvSpPr>
            <p:cNvPr id="685" name=""/>
            <p:cNvSpPr/>
            <p:nvPr/>
          </p:nvSpPr>
          <p:spPr>
            <a:xfrm>
              <a:off x="721080" y="4470480"/>
              <a:ext cx="271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Attribute evaluation ru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47360" y="4748040"/>
              <a:ext cx="5875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190440"/>
                  <a:tab algn="l" pos="762120"/>
                  <a:tab algn="l" pos="1054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R(p) ...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ttribute evaluation rules for production p: X0 = X1 ... X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90440"/>
                  <a:tab algn="l" pos="762120"/>
                  <a:tab algn="l" pos="1054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R(p) = {Xi.a = f(Xj.b, ..., Xk.c)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90440"/>
                  <a:tab algn="l" pos="762120"/>
                  <a:tab algn="l" pos="1054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or all AS of the left-hand side and all AI of the right-hand side of 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722520" y="5549760"/>
            <a:ext cx="6360480" cy="1101960"/>
            <a:chOff x="722520" y="5549760"/>
            <a:chExt cx="6360480" cy="1101960"/>
          </a:xfrm>
        </p:grpSpPr>
        <p:sp>
          <p:nvSpPr>
            <p:cNvPr id="688" name=""/>
            <p:cNvSpPr/>
            <p:nvPr/>
          </p:nvSpPr>
          <p:spPr>
            <a:xfrm>
              <a:off x="722520" y="5549760"/>
              <a:ext cx="201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Context condi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51320" y="5827680"/>
              <a:ext cx="6331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190440"/>
                  <a:tab algn="l" pos="762120"/>
                  <a:tab algn="l" pos="1054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C(p) ...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ontext conditions of production p: X0 = X1 ... X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90440"/>
                  <a:tab algn="l" pos="762120"/>
                  <a:tab algn="l" pos="1054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n the form of a Boolean expression B(Xi.a, ..., Xj.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90440"/>
                  <a:tab algn="l" pos="762120"/>
                  <a:tab algn="l" pos="1054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heck the "static semantics", i.e. whether the input is semantically corr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825480" y="1257480"/>
            <a:ext cx="3797280" cy="19555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FEEA-56D5-4044-BD8E-2A7F8B1A7FE5}" type="slidenum">
              <a:t>25</a:t>
            </a:fld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omplete ATG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35120" y="135900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038960" y="1789200"/>
            <a:ext cx="6459480" cy="79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n ATG is called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if for all produ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: X = Y1 ... Y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following condition holds: all AS(X) and all AI(Yi) are computed in R(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9AF9-1642-4AFE-9BE6-8B1C59748E4C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Well-defined ATGs (WAGs)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35120" y="120636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042920" y="1636560"/>
            <a:ext cx="6767280" cy="824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n ATG is called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well-defined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(WA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f the ATG is complete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f the relations between attributes are non-circular in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every possible syntax tr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797400" y="2500200"/>
            <a:ext cx="5959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n other word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We can find an attribute evaluation order for every possible syntax tr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4422960" y="3668760"/>
            <a:ext cx="2310840" cy="2059560"/>
            <a:chOff x="4422960" y="3668760"/>
            <a:chExt cx="2310840" cy="2059560"/>
          </a:xfrm>
        </p:grpSpPr>
        <p:sp>
          <p:nvSpPr>
            <p:cNvPr id="699" name=""/>
            <p:cNvSpPr/>
            <p:nvPr/>
          </p:nvSpPr>
          <p:spPr>
            <a:xfrm>
              <a:off x="5459040" y="366876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887360" y="439272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992200" y="439272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076000" y="4562640"/>
              <a:ext cx="25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</a:t>
              </a: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de-AT" sz="12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5003640" y="3911400"/>
              <a:ext cx="470160" cy="46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H="1" flipV="1">
              <a:off x="5574960" y="3911400"/>
              <a:ext cx="469800" cy="46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142680" y="4562640"/>
              <a:ext cx="25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</a:t>
              </a: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de-AT" sz="12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V="1">
              <a:off x="6350040" y="4152960"/>
              <a:ext cx="0" cy="355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5130360" y="4152960"/>
              <a:ext cx="12193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30720" y="4152960"/>
              <a:ext cx="0" cy="342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V="1">
              <a:off x="5270400" y="4254480"/>
              <a:ext cx="0" cy="254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270400" y="4254480"/>
              <a:ext cx="9399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210360" y="4254480"/>
              <a:ext cx="0" cy="266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722480" y="49896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892400" y="5159520"/>
              <a:ext cx="13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</a:t>
              </a: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4800600" y="4610160"/>
              <a:ext cx="7632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210360" y="4775040"/>
              <a:ext cx="0" cy="203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210360" y="4978440"/>
              <a:ext cx="152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V="1">
              <a:off x="6362640" y="4749480"/>
              <a:ext cx="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4978440" y="4749840"/>
              <a:ext cx="139680" cy="380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143680" y="4775040"/>
              <a:ext cx="0" cy="203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143680" y="4978440"/>
              <a:ext cx="152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5295960" y="4749480"/>
              <a:ext cx="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422960" y="5391000"/>
              <a:ext cx="2310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ircular </a:t>
              </a:r>
              <a:r>
                <a:rPr b="0" lang="de-AT" sz="16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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not well-defin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797400" y="5916600"/>
            <a:ext cx="720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hecking for well-definedness is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NP complet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(can only be done in exponential time)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However, there are subclasses of WAG for which this check can be simplifi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735120" y="3352680"/>
            <a:ext cx="2565720" cy="2367720"/>
            <a:chOff x="735120" y="3352680"/>
            <a:chExt cx="2565720" cy="2367720"/>
          </a:xfrm>
        </p:grpSpPr>
        <p:sp>
          <p:nvSpPr>
            <p:cNvPr id="725" name=""/>
            <p:cNvSpPr/>
            <p:nvPr/>
          </p:nvSpPr>
          <p:spPr>
            <a:xfrm>
              <a:off x="735120" y="3352680"/>
              <a:ext cx="10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360160" y="366876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788480" y="439272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893320" y="439272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977120" y="4562640"/>
              <a:ext cx="25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</a:t>
              </a: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de-AT" sz="12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V="1">
              <a:off x="1905120" y="3911400"/>
              <a:ext cx="469800" cy="46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 flipV="1">
              <a:off x="2476080" y="3911400"/>
              <a:ext cx="469800" cy="46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043800" y="4562640"/>
              <a:ext cx="25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</a:t>
              </a: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de-AT" sz="12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V="1">
              <a:off x="3251160" y="4152960"/>
              <a:ext cx="0" cy="355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>
              <a:off x="2031480" y="4152960"/>
              <a:ext cx="12193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031840" y="4152960"/>
              <a:ext cx="0" cy="342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2171880" y="4254480"/>
              <a:ext cx="0" cy="254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171880" y="4254480"/>
              <a:ext cx="939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111480" y="4254480"/>
              <a:ext cx="0" cy="266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306080" y="49896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477080" y="5159520"/>
              <a:ext cx="12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</a:t>
              </a: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233440" y="498960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03720" y="5159520"/>
              <a:ext cx="107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1422360" y="4610160"/>
              <a:ext cx="35568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841400" y="4610160"/>
              <a:ext cx="35568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 flipV="1">
              <a:off x="2184120" y="4736880"/>
              <a:ext cx="291960" cy="406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111480" y="4775040"/>
              <a:ext cx="0" cy="203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111480" y="4978440"/>
              <a:ext cx="152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V="1">
              <a:off x="3263760" y="4749480"/>
              <a:ext cx="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1574280" y="4749840"/>
              <a:ext cx="444600" cy="406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639080" y="5383080"/>
              <a:ext cx="120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well-defin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FA24-8042-4AE6-9D8F-D738A2B495E5}" type="slidenum">
              <a:t>27</a:t>
            </a:fld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Ordered ATGs (OAGs)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35120" y="120636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848520" y="1636560"/>
            <a:ext cx="764712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n ATG is called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ordered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(OAG), if a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fixed attribute evaluation order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can be specif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every production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regardless of its context in the syntax tr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70040" y="2309760"/>
            <a:ext cx="6816240" cy="11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400"/>
              </a:spcAft>
              <a:tabLst>
                <a:tab algn="l" pos="0"/>
                <a:tab algn="l" pos="19044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ttributation code of a production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can be specified by the following opera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omp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xecute attribute evaluation rule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from R(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up 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go to the father in the syntax tr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down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go to son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in the syntax tr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735120" y="3683160"/>
            <a:ext cx="4754160" cy="2454480"/>
            <a:chOff x="735120" y="3683160"/>
            <a:chExt cx="4754160" cy="2454480"/>
          </a:xfrm>
        </p:grpSpPr>
        <p:sp>
          <p:nvSpPr>
            <p:cNvPr id="756" name=""/>
            <p:cNvSpPr/>
            <p:nvPr/>
          </p:nvSpPr>
          <p:spPr>
            <a:xfrm>
              <a:off x="735120" y="3683160"/>
              <a:ext cx="10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775880" y="420228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014560" y="4359240"/>
              <a:ext cx="876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</a:t>
              </a: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a1 </a:t>
              </a:r>
              <a:r>
                <a:rPr b="0" lang="de-AT" sz="12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</a:t>
              </a: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a2</a:t>
              </a:r>
              <a:r>
                <a:rPr b="0" lang="de-AT" sz="12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a3 </a:t>
              </a:r>
              <a:r>
                <a:rPr b="0" lang="de-AT" sz="12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a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204200" y="495144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405440" y="5108400"/>
              <a:ext cx="41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</a:t>
              </a: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b1</a:t>
              </a:r>
              <a:r>
                <a:rPr b="0" lang="de-AT" sz="12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b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347200" y="495144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549520" y="5108400"/>
              <a:ext cx="40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</a:t>
              </a: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r>
                <a:rPr b="0" lang="de-AT" sz="12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c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V="1">
              <a:off x="1270080" y="4457520"/>
              <a:ext cx="546120" cy="49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 flipV="1">
              <a:off x="1879200" y="4457520"/>
              <a:ext cx="546120" cy="49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006640" y="4076640"/>
              <a:ext cx="0" cy="2412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>
              <a:off x="1536840" y="4533840"/>
              <a:ext cx="482400" cy="533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V="1">
              <a:off x="1816200" y="4546440"/>
              <a:ext cx="736560" cy="508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24160" y="4546440"/>
              <a:ext cx="279360" cy="533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 flipV="1">
              <a:off x="2832120" y="4559400"/>
              <a:ext cx="38160" cy="520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V="1">
              <a:off x="2857680" y="4140000"/>
              <a:ext cx="0" cy="2156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511280" y="5308560"/>
              <a:ext cx="0" cy="2034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511280" y="5511960"/>
              <a:ext cx="2286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>
              <a:off x="1739880" y="5283000"/>
              <a:ext cx="0" cy="2286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641680" y="5308560"/>
              <a:ext cx="0" cy="2034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349360" y="4152960"/>
              <a:ext cx="2286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V="1">
              <a:off x="2870280" y="5283000"/>
              <a:ext cx="0" cy="2286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577960" y="4152960"/>
              <a:ext cx="0" cy="2030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2336760" y="4152600"/>
              <a:ext cx="0" cy="2286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641680" y="5511960"/>
              <a:ext cx="2286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822480" y="3986280"/>
              <a:ext cx="166680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Attributation c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mp (b1 = a1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down</a:t>
              </a:r>
              <a:r>
                <a:rPr b="0" lang="de-AT" sz="14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mp (a3 = b2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u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mp (c1 = a2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down</a:t>
              </a:r>
              <a:r>
                <a:rPr b="0" lang="de-AT" sz="1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mp (a4 = c2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u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B6A6-ACC5-4C5F-8049-27B55F152922}" type="slidenum">
              <a:t>28</a:t>
            </a:fld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ounter-Exampl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95520" y="1206360"/>
            <a:ext cx="27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ATG which is not orde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775880" y="19162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014560" y="2073240"/>
            <a:ext cx="87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MT Symbol"/>
                <a:ea typeface="MT Symbol"/>
              </a:rPr>
              <a:t></a:t>
            </a: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a1 </a:t>
            </a:r>
            <a:r>
              <a:rPr b="0" lang="de-AT" sz="1200" spc="-1" strike="noStrike">
                <a:solidFill>
                  <a:srgbClr val="000000"/>
                </a:solidFill>
                <a:latin typeface="MT Symbol"/>
                <a:ea typeface="MT Symbol"/>
              </a:rPr>
              <a:t></a:t>
            </a: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a2</a:t>
            </a:r>
            <a:r>
              <a:rPr b="0" lang="de-AT" sz="1200" spc="-1" strike="noStrike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a3 </a:t>
            </a:r>
            <a:r>
              <a:rPr b="0" lang="de-AT" sz="1200" spc="-1" strike="noStrike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a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204200" y="26654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405440" y="2822400"/>
            <a:ext cx="41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MT Symbol"/>
                <a:ea typeface="MT Symbol"/>
              </a:rPr>
              <a:t></a:t>
            </a: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b1</a:t>
            </a:r>
            <a:r>
              <a:rPr b="0" lang="de-AT" sz="1200" spc="-1" strike="noStrike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347200" y="26654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549520" y="2822400"/>
            <a:ext cx="40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MT Symbol"/>
                <a:ea typeface="MT Symbol"/>
              </a:rPr>
              <a:t></a:t>
            </a: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c1</a:t>
            </a:r>
            <a:r>
              <a:rPr b="0" lang="de-AT" sz="1200" spc="-1" strike="noStrike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1270080" y="2171520"/>
            <a:ext cx="546120" cy="49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H="1" flipV="1">
            <a:off x="1879200" y="2171520"/>
            <a:ext cx="546120" cy="49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2006640" y="1790640"/>
            <a:ext cx="0" cy="241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1536840" y="2247840"/>
            <a:ext cx="48240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V="1">
            <a:off x="1816200" y="2260440"/>
            <a:ext cx="736560" cy="508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324160" y="2260440"/>
            <a:ext cx="27936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H="1" flipV="1">
            <a:off x="2832120" y="2273400"/>
            <a:ext cx="38160" cy="520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2857680" y="1854000"/>
            <a:ext cx="0" cy="215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511280" y="3022560"/>
            <a:ext cx="0" cy="2034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511280" y="322596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1739880" y="2997000"/>
            <a:ext cx="0" cy="2286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641680" y="3022560"/>
            <a:ext cx="0" cy="2034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349360" y="186696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V="1">
            <a:off x="2870280" y="2997000"/>
            <a:ext cx="0" cy="2286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2577960" y="1866960"/>
            <a:ext cx="0" cy="2030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V="1">
            <a:off x="2336760" y="1866600"/>
            <a:ext cx="0" cy="22860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641680" y="322596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218960" y="3414600"/>
            <a:ext cx="1666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Attributation 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mp (b1 = a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own</a:t>
            </a:r>
            <a:r>
              <a:rPr b="0" lang="de-AT" sz="1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mp (a3 = b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mp (c1 = a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own</a:t>
            </a:r>
            <a:r>
              <a:rPr b="0" lang="de-AT" sz="1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mp (a4 = c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7" name=""/>
          <p:cNvGrpSpPr/>
          <p:nvPr/>
        </p:nvGrpSpPr>
        <p:grpSpPr>
          <a:xfrm>
            <a:off x="782640" y="1663200"/>
            <a:ext cx="5784840" cy="4273200"/>
            <a:chOff x="782640" y="1663200"/>
            <a:chExt cx="5784840" cy="4273200"/>
          </a:xfrm>
        </p:grpSpPr>
        <p:sp>
          <p:nvSpPr>
            <p:cNvPr id="808" name=""/>
            <p:cNvSpPr/>
            <p:nvPr/>
          </p:nvSpPr>
          <p:spPr>
            <a:xfrm>
              <a:off x="4925520" y="191628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164200" y="2073240"/>
              <a:ext cx="876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</a:t>
              </a: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a1 </a:t>
              </a:r>
              <a:r>
                <a:rPr b="0" lang="de-AT" sz="12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</a:t>
              </a: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a2</a:t>
              </a:r>
              <a:r>
                <a:rPr b="0" lang="de-AT" sz="12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a3 </a:t>
              </a:r>
              <a:r>
                <a:rPr b="0" lang="de-AT" sz="12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a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353840" y="266544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54720" y="2822400"/>
              <a:ext cx="41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</a:t>
              </a: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b1</a:t>
              </a:r>
              <a:r>
                <a:rPr b="0" lang="de-AT" sz="12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b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496840" y="266544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698800" y="2822400"/>
              <a:ext cx="40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</a:t>
              </a: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r>
                <a:rPr b="0" lang="de-AT" sz="12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c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>
              <a:off x="4419720" y="2171520"/>
              <a:ext cx="546120" cy="49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 flipV="1">
              <a:off x="5028840" y="2171520"/>
              <a:ext cx="546120" cy="49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473800" y="1714680"/>
              <a:ext cx="0" cy="3171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4686480" y="2247840"/>
              <a:ext cx="482400" cy="533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4965840" y="2260440"/>
              <a:ext cx="736560" cy="508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473800" y="2260440"/>
              <a:ext cx="279360" cy="533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 flipV="1">
              <a:off x="5981760" y="2273400"/>
              <a:ext cx="38160" cy="520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5740560" y="1663200"/>
              <a:ext cx="0" cy="3430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660920" y="3022560"/>
              <a:ext cx="0" cy="2034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660920" y="3225960"/>
              <a:ext cx="2286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4889520" y="2997000"/>
              <a:ext cx="0" cy="2286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791320" y="3022560"/>
              <a:ext cx="0" cy="2034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207040" y="1866960"/>
              <a:ext cx="79992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V="1">
              <a:off x="6019920" y="2997000"/>
              <a:ext cx="0" cy="2286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006960" y="1866960"/>
              <a:ext cx="0" cy="2030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V="1">
              <a:off x="5207040" y="1866600"/>
              <a:ext cx="0" cy="2286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791320" y="3225960"/>
              <a:ext cx="2286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368600" y="3414600"/>
              <a:ext cx="166680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Attributation c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mp (c1 = a2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down</a:t>
              </a:r>
              <a:r>
                <a:rPr b="0" lang="de-AT" sz="1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mp (a4 = c2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u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mp (b1 = a1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down</a:t>
              </a:r>
              <a:r>
                <a:rPr b="0" lang="de-AT" sz="14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mp (a3 = b2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u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82640" y="5599080"/>
              <a:ext cx="57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 attributation order depends on where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occurs in the syntax tre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3" name=""/>
          <p:cNvSpPr/>
          <p:nvPr/>
        </p:nvSpPr>
        <p:spPr>
          <a:xfrm>
            <a:off x="783720" y="6107040"/>
            <a:ext cx="617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hecking whether a grammar is an OAG can be done in polynomial ti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4E12-2C0D-4ADE-9CC8-34E7FD7A76A6}" type="slidenum">
              <a:t>29</a:t>
            </a:fld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emantic Action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2920" y="1371600"/>
            <a:ext cx="28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So far: </a:t>
            </a:r>
            <a:r>
              <a:rPr b="1" i="1" lang="de-AT" sz="18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 of the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06200" y="1941480"/>
            <a:ext cx="218340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xpr = Term { "+" Term 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78400" y="1928880"/>
            <a:ext cx="444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parser checks if the input is syntactically correc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82920" y="3124080"/>
            <a:ext cx="7449480" cy="2097720"/>
            <a:chOff x="682920" y="3124080"/>
            <a:chExt cx="7449480" cy="2097720"/>
          </a:xfrm>
        </p:grpSpPr>
        <p:sp>
          <p:nvSpPr>
            <p:cNvPr id="56" name=""/>
            <p:cNvSpPr/>
            <p:nvPr/>
          </p:nvSpPr>
          <p:spPr>
            <a:xfrm>
              <a:off x="682920" y="3124080"/>
              <a:ext cx="513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Now: </a:t>
              </a:r>
              <a:r>
                <a:rPr b="1" i="1" lang="de-AT" sz="1800" spc="-1" strike="noStrike">
                  <a:solidFill>
                    <a:srgbClr val="000000"/>
                  </a:solidFill>
                  <a:latin typeface="Times New Roman"/>
                </a:rPr>
                <a:t>translation</a:t>
              </a: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 of the input (semantic processing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06560" y="4062240"/>
              <a:ext cx="3306960" cy="1159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081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xpr =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081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erm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(. int n = 1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081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{ "+" Term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(. n++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081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(. Console.WriteLine(n)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081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983880" y="3516480"/>
              <a:ext cx="419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.g.: we want to count the terms in the expres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338360" y="4087800"/>
              <a:ext cx="3794040" cy="111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ff0000"/>
                  </a:solidFill>
                  <a:latin typeface="Times New Roman"/>
                </a:rPr>
                <a:t>semantic a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rbitrary Java statements between (. and .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re executed by the parser at the position</a:t>
              </a:r>
              <a:br>
                <a:rPr sz="1600"/>
              </a:b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where they occur in the gramm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988920" y="5472000"/>
            <a:ext cx="2108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90440"/>
                <a:tab algn="l" pos="67320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"translation" he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67320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+2+3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MT Symbol"/>
                <a:ea typeface="MT Symbol"/>
              </a:rPr>
              <a:t>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67320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47+1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MT Symbol"/>
                <a:ea typeface="MT Symbol"/>
              </a:rPr>
              <a:t>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67320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909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MT Symbol"/>
                <a:ea typeface="MT Symbol"/>
              </a:rPr>
              <a:t>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68AE-2137-4A39-8F97-B8F72C5278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L-Attributed ATGs (LAGs)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735120" y="120636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852120" y="1636560"/>
            <a:ext cx="771120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n ATG is called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L-attributed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(LAG) if all attributes in the syntax tree can be avalu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n a single sweep (down and up, left to right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772920" y="2309760"/>
            <a:ext cx="790884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400"/>
              </a:spcAft>
              <a:tabLst>
                <a:tab algn="l" pos="0"/>
                <a:tab algn="l" pos="19044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n other word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f the attributes can be computed during syntax analysi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or LAGs it is not even necessary to build a syntax tree (corresponds to our procedural ATG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8" name=""/>
          <p:cNvGrpSpPr/>
          <p:nvPr/>
        </p:nvGrpSpPr>
        <p:grpSpPr>
          <a:xfrm>
            <a:off x="735120" y="3683160"/>
            <a:ext cx="7843320" cy="2412720"/>
            <a:chOff x="735120" y="3683160"/>
            <a:chExt cx="7843320" cy="2412720"/>
          </a:xfrm>
        </p:grpSpPr>
        <p:sp>
          <p:nvSpPr>
            <p:cNvPr id="839" name=""/>
            <p:cNvSpPr/>
            <p:nvPr/>
          </p:nvSpPr>
          <p:spPr>
            <a:xfrm>
              <a:off x="735120" y="3683160"/>
              <a:ext cx="10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499840" y="40496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701800" y="4206960"/>
              <a:ext cx="438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</a:t>
              </a: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a1 </a:t>
              </a:r>
              <a:r>
                <a:rPr b="0" lang="de-AT" sz="12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a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928160" y="479916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129040" y="4956120"/>
              <a:ext cx="41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</a:t>
              </a: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b1</a:t>
              </a:r>
              <a:r>
                <a:rPr b="0" lang="de-AT" sz="12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b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071160" y="479916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273120" y="4956120"/>
              <a:ext cx="40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</a:t>
              </a: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r>
                <a:rPr b="0" lang="de-AT" sz="12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c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V="1">
              <a:off x="1994040" y="4305240"/>
              <a:ext cx="546120" cy="49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 flipV="1">
              <a:off x="2603160" y="4305240"/>
              <a:ext cx="546120" cy="49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730600" y="3924360"/>
              <a:ext cx="0" cy="241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2260080" y="4381560"/>
              <a:ext cx="482760" cy="533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 flipV="1">
              <a:off x="3060720" y="4381200"/>
              <a:ext cx="533520" cy="546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V="1">
              <a:off x="3035160" y="3936960"/>
              <a:ext cx="0" cy="216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365640" y="5156280"/>
              <a:ext cx="0" cy="203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V="1">
              <a:off x="3594240" y="5130360"/>
              <a:ext cx="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365640" y="5359320"/>
              <a:ext cx="228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356840" y="553572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557720" y="5692680"/>
              <a:ext cx="41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</a:t>
              </a: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d1</a:t>
              </a:r>
              <a:r>
                <a:rPr b="0" lang="de-AT" sz="12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d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500200" y="553572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701800" y="5692680"/>
              <a:ext cx="40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</a:t>
              </a: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e1</a:t>
              </a:r>
              <a:r>
                <a:rPr b="0" lang="de-AT" sz="12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e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V="1">
              <a:off x="1422360" y="5041800"/>
              <a:ext cx="546120" cy="49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 flipV="1">
              <a:off x="2031480" y="5041800"/>
              <a:ext cx="546120" cy="49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>
              <a:off x="1688760" y="5118120"/>
              <a:ext cx="482760" cy="533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 flipV="1">
              <a:off x="2489040" y="5130720"/>
              <a:ext cx="533520" cy="533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663560" y="5892840"/>
              <a:ext cx="0" cy="203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663560" y="6095880"/>
              <a:ext cx="228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V="1">
              <a:off x="1892160" y="5866920"/>
              <a:ext cx="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793960" y="5892840"/>
              <a:ext cx="0" cy="203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V="1">
              <a:off x="3022560" y="5866920"/>
              <a:ext cx="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793960" y="6095880"/>
              <a:ext cx="228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V="1">
              <a:off x="1955880" y="5447880"/>
              <a:ext cx="164880" cy="190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120760" y="5448240"/>
              <a:ext cx="457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577960" y="5448240"/>
              <a:ext cx="203400" cy="216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V="1">
              <a:off x="2502000" y="4724280"/>
              <a:ext cx="164880" cy="190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666880" y="4724280"/>
              <a:ext cx="457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137040" y="4724280"/>
              <a:ext cx="203040" cy="216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511520" y="4392720"/>
              <a:ext cx="4066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nformation from the front of a pro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an be propagated backwards but not vice vers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2853-A066-48EE-A540-3129345FD6B1}" type="slidenum">
              <a:t>30</a:t>
            </a:fld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Relations Between Classes of ATG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214640" y="1595520"/>
            <a:ext cx="32108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ATG  </a:t>
            </a:r>
            <a:r>
              <a:rPr b="1" lang="de-AT" sz="1800" spc="-1" strike="noStrike">
                <a:solidFill>
                  <a:srgbClr val="000000"/>
                </a:solidFill>
                <a:latin typeface="MT Symbol"/>
                <a:ea typeface="MT Symbol"/>
              </a:rPr>
              <a:t></a:t>
            </a: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  WAG  </a:t>
            </a:r>
            <a:r>
              <a:rPr b="1" lang="de-AT" sz="1800" spc="-1" strike="noStrike">
                <a:solidFill>
                  <a:srgbClr val="000000"/>
                </a:solidFill>
                <a:latin typeface="MT Symbol"/>
                <a:ea typeface="MT Symbol"/>
              </a:rPr>
              <a:t></a:t>
            </a: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  OAG  </a:t>
            </a:r>
            <a:r>
              <a:rPr b="1" lang="de-AT" sz="1800" spc="-1" strike="noStrike">
                <a:solidFill>
                  <a:srgbClr val="000000"/>
                </a:solidFill>
                <a:latin typeface="MT Symbol"/>
                <a:ea typeface="MT Symbol"/>
              </a:rPr>
              <a:t></a:t>
            </a: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  L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056600" y="2373480"/>
            <a:ext cx="257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n other wo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very LAG is orde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very OAG is well-defi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866160" y="3541680"/>
            <a:ext cx="337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WAG is more powerful than O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OAG is more powerful than L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52FD-E8DD-4F4D-9948-F85CE1F6046C}" type="slidenum">
              <a:t>31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Attribute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2560" y="1257480"/>
            <a:ext cx="617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Syntax symbols can return values (sort of output paramete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3600" y="1833480"/>
            <a:ext cx="138636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erm 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&lt;</a:t>
            </a:r>
            <a:r>
              <a:rPr b="0" lang="de-AT" sz="1400" spc="-1" strike="noStrike">
                <a:solidFill>
                  <a:srgbClr val="3333cc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nt va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356920" y="1814400"/>
            <a:ext cx="443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Term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returns its numeric value as an output attrib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82200" y="2565360"/>
            <a:ext cx="4719240" cy="2072520"/>
            <a:chOff x="682200" y="2565360"/>
            <a:chExt cx="4719240" cy="2072520"/>
          </a:xfrm>
        </p:grpSpPr>
        <p:sp>
          <p:nvSpPr>
            <p:cNvPr id="66" name=""/>
            <p:cNvSpPr/>
            <p:nvPr/>
          </p:nvSpPr>
          <p:spPr>
            <a:xfrm>
              <a:off x="682200" y="2565360"/>
              <a:ext cx="471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Attributes are useful in the translation proc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971280" y="2995560"/>
              <a:ext cx="408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.g.: we want to compute the value of a numb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05840" y="3478320"/>
              <a:ext cx="4259160" cy="1159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7953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xpr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(. int sum, val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7953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erm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&lt;</a:t>
              </a:r>
              <a:r>
                <a:rPr b="0" lang="de-AT" sz="1400" spc="-1" strike="noStrike">
                  <a:solidFill>
                    <a:srgbClr val="3333cc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sum&gt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7953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{ "+" Term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&lt;</a:t>
              </a:r>
              <a:r>
                <a:rPr b="0" lang="de-AT" sz="1400" spc="-1" strike="noStrike">
                  <a:solidFill>
                    <a:srgbClr val="3333cc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val&gt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(. sum += val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7953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(. Console.WriteLine(sum)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7953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937440" y="4875120"/>
            <a:ext cx="2306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90440"/>
                <a:tab algn="l" pos="8636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"translation" he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8636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+2+3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MT Symbol"/>
                <a:ea typeface="MT Symbol"/>
              </a:rPr>
              <a:t>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8636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47+1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MT Symbol"/>
                <a:ea typeface="MT Symbol"/>
              </a:rPr>
              <a:t>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8636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909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MT Symbol"/>
                <a:ea typeface="MT Symbol"/>
              </a:rPr>
              <a:t>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9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07D6-3062-422E-9B11-DE7880FF85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Input Attribute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95880" y="1346040"/>
            <a:ext cx="5212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Nonterminal symbols can have also input attribu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parameters that are passed from the "calling" produ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92520" y="2125800"/>
            <a:ext cx="187236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xpr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&lt;</a:t>
            </a:r>
            <a:r>
              <a:rPr b="0" lang="de-AT" sz="1400" spc="-1" strike="noStrike">
                <a:solidFill>
                  <a:srgbClr val="3333cc"/>
                </a:solidFill>
                <a:latin typeface="MT Symbol"/>
                <a:ea typeface="MT Symbol"/>
              </a:rPr>
              <a:t>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bool printHex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81320" y="2097000"/>
            <a:ext cx="459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printHex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rint the result of the addition hexadecimal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otherwise decim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96960" y="2781360"/>
            <a:ext cx="6489000" cy="1885320"/>
            <a:chOff x="696960" y="2781360"/>
            <a:chExt cx="6489000" cy="1885320"/>
          </a:xfrm>
        </p:grpSpPr>
        <p:sp>
          <p:nvSpPr>
            <p:cNvPr id="75" name=""/>
            <p:cNvSpPr/>
            <p:nvPr/>
          </p:nvSpPr>
          <p:spPr>
            <a:xfrm>
              <a:off x="696960" y="2781360"/>
              <a:ext cx="10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59960" y="3294000"/>
              <a:ext cx="6426000" cy="1372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2144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xpr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&lt;</a:t>
              </a:r>
              <a:r>
                <a:rPr b="0" lang="de-AT" sz="1400" spc="-1" strike="noStrike">
                  <a:solidFill>
                    <a:srgbClr val="3333cc"/>
                  </a:solidFill>
                  <a:latin typeface="MT Symbol"/>
                  <a:ea typeface="MT Symbol"/>
                </a:rPr>
                <a:t>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bool printHex&gt;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(. int sum, val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2144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erm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&lt;</a:t>
              </a:r>
              <a:r>
                <a:rPr b="0" lang="de-AT" sz="1400" spc="-1" strike="noStrike">
                  <a:solidFill>
                    <a:srgbClr val="3333cc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sum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2144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{ "+" Term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&lt;</a:t>
              </a:r>
              <a:r>
                <a:rPr b="0" lang="de-AT" sz="1400" spc="-1" strike="noStrike">
                  <a:solidFill>
                    <a:srgbClr val="3333cc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val&gt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(. sum += val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2144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(.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if (printHex) Console.WriteLine("{0:X}", sum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2144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else Console.WriteLine("{0:D}", sum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2144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4573-0E7F-4266-83DA-2274DDABA6B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Attribute Grammar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8240" y="1255680"/>
            <a:ext cx="381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Notation for describing translation 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5720" y="1827360"/>
            <a:ext cx="186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onsist of three p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1040" y="2286000"/>
            <a:ext cx="24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Productions in EBN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55440" y="2728800"/>
            <a:ext cx="218340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xpr = Term { "+" Term 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78240" y="3289320"/>
            <a:ext cx="397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parameters of syntax symbo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79920" y="3738600"/>
            <a:ext cx="187236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&lt;</a:t>
            </a:r>
            <a:r>
              <a:rPr b="0" lang="de-AT" sz="1400" spc="-1" strike="noStrike">
                <a:solidFill>
                  <a:srgbClr val="3333cc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nt va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xpr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&lt;</a:t>
            </a:r>
            <a:r>
              <a:rPr b="0" lang="de-AT" sz="1400" spc="-1" strike="noStrike">
                <a:solidFill>
                  <a:srgbClr val="3333cc"/>
                </a:solidFill>
                <a:latin typeface="MT Symbol"/>
                <a:ea typeface="MT Symbol"/>
              </a:rPr>
              <a:t>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bool printHex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96920" y="3706920"/>
            <a:ext cx="54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output attributes (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ynthesized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):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yield the translation 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nput attributes (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inherited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):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rovide context from the ca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71040" y="4533840"/>
            <a:ext cx="20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Semantic 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44640" y="4976640"/>
            <a:ext cx="311292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  ... arbitrary Java statements ...  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03FF-66D2-4EF7-8AFF-D1D43821875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xampl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2560" y="1193760"/>
            <a:ext cx="33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ATG for processing decla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5120" y="1636560"/>
            <a:ext cx="4624200" cy="946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VarDe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;"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35120" y="2703600"/>
            <a:ext cx="4620960" cy="946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 "," i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765880" y="1636560"/>
            <a:ext cx="2590200" cy="1805760"/>
            <a:chOff x="2765880" y="1636560"/>
            <a:chExt cx="2590200" cy="1805760"/>
          </a:xfrm>
        </p:grpSpPr>
        <p:sp>
          <p:nvSpPr>
            <p:cNvPr id="92" name=""/>
            <p:cNvSpPr/>
            <p:nvPr/>
          </p:nvSpPr>
          <p:spPr>
            <a:xfrm>
              <a:off x="2772000" y="1636560"/>
              <a:ext cx="1407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(. Struct type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5880" y="2919240"/>
              <a:ext cx="259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(. Tab.insert(token.str, type)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765880" y="3135240"/>
              <a:ext cx="259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(. Tab.insert(token.str, type)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389240" y="1859040"/>
            <a:ext cx="1383480" cy="1157760"/>
            <a:chOff x="1389240" y="1859040"/>
            <a:chExt cx="1383480" cy="1157760"/>
          </a:xfrm>
        </p:grpSpPr>
        <p:sp>
          <p:nvSpPr>
            <p:cNvPr id="96" name=""/>
            <p:cNvSpPr/>
            <p:nvPr/>
          </p:nvSpPr>
          <p:spPr>
            <a:xfrm>
              <a:off x="1389240" y="185904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&lt;</a:t>
              </a:r>
              <a:r>
                <a:rPr b="0" lang="de-AT" sz="1400" spc="-1" strike="noStrike">
                  <a:solidFill>
                    <a:srgbClr val="3333cc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type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668600" y="207504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&lt;</a:t>
              </a:r>
              <a:r>
                <a:rPr b="0" lang="de-AT" sz="1400" spc="-1" strike="noStrike">
                  <a:solidFill>
                    <a:srgbClr val="3333cc"/>
                  </a:solidFill>
                  <a:latin typeface="MT Symbol"/>
                  <a:ea typeface="MT Symbol"/>
                </a:rPr>
                <a:t>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type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462680" y="2709720"/>
              <a:ext cx="1310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&lt;</a:t>
              </a:r>
              <a:r>
                <a:rPr b="0" lang="de-AT" sz="1400" spc="-1" strike="noStrike">
                  <a:solidFill>
                    <a:srgbClr val="3333cc"/>
                  </a:solidFill>
                  <a:latin typeface="MT Symbol"/>
                  <a:ea typeface="MT Symbol"/>
                </a:rPr>
                <a:t>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Struct type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683280" y="3873600"/>
            <a:ext cx="479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This is translated to parsing methods as follo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2160" y="4341960"/>
            <a:ext cx="2687760" cy="1372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VarDecl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Struct typ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ype(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out typ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List(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typ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heck(Token.SEMICOLON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29080" y="4341960"/>
            <a:ext cx="3504960" cy="2012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IdentList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Struct typ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heck(Token.IDEN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Tab.Insert(token.str, type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while (la == Token.COMMA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can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heck(Token.IDEN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Tab.Insert(token.str, type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50160" y="5904000"/>
            <a:ext cx="265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TGs are shorter and m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eadable than parsing metho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2F96-2414-4006-B654-011D9C2A9A5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xample: </a:t>
            </a:r>
            <a:r>
              <a:rPr b="0" i="1" lang="de-AT" sz="2400" spc="-1" strike="noStrike">
                <a:solidFill>
                  <a:srgbClr val="3333cc"/>
                </a:solidFill>
                <a:latin typeface="Times New Roman"/>
              </a:rPr>
              <a:t>Processing of Constant Expressions</a:t>
            </a:r>
            <a:endParaRPr b="0" i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440" y="1179360"/>
            <a:ext cx="3045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3 * (2 + 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desired result: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35120" y="2081160"/>
            <a:ext cx="3732120" cy="3130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x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 "+" Te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  "-" Te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a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 "*" Fa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  "/" Fa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a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(" Expr             ")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683800" y="2068560"/>
            <a:ext cx="1415520" cy="2923200"/>
            <a:chOff x="2683800" y="2068560"/>
            <a:chExt cx="1415520" cy="2923200"/>
          </a:xfrm>
        </p:grpSpPr>
        <p:sp>
          <p:nvSpPr>
            <p:cNvPr id="107" name=""/>
            <p:cNvSpPr/>
            <p:nvPr/>
          </p:nvSpPr>
          <p:spPr>
            <a:xfrm>
              <a:off x="2684880" y="2068560"/>
              <a:ext cx="111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(. int val1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684160" y="2513160"/>
              <a:ext cx="1415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(. val += val1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684160" y="2728800"/>
              <a:ext cx="137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(. val -= val1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684880" y="3274920"/>
              <a:ext cx="111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(. int val1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684160" y="3719520"/>
              <a:ext cx="1381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(. val *= val1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683800" y="3935520"/>
              <a:ext cx="1361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(. val /= val1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684880" y="4468680"/>
              <a:ext cx="111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(. int val1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683800" y="4684680"/>
              <a:ext cx="1312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(. val = t.val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5476320" y="4753080"/>
            <a:ext cx="142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3333cc"/>
                </a:solidFill>
                <a:latin typeface="MT Symbol"/>
                <a:ea typeface="MT Symbol"/>
              </a:rPr>
              <a:t></a:t>
            </a:r>
            <a:r>
              <a:rPr b="0" lang="de-AT" sz="1200" spc="-1" strike="noStrike">
                <a:solidFill>
                  <a:srgbClr val="3333cc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46040" y="4753080"/>
            <a:ext cx="142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3333cc"/>
                </a:solidFill>
                <a:latin typeface="MT Symbol"/>
                <a:ea typeface="MT Symbol"/>
              </a:rPr>
              <a:t></a:t>
            </a:r>
            <a:r>
              <a:rPr b="0" lang="de-AT" sz="1200" spc="-1" strike="noStrike">
                <a:solidFill>
                  <a:srgbClr val="3333c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800120" y="4753080"/>
            <a:ext cx="142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3333cc"/>
                </a:solidFill>
                <a:latin typeface="MT Symbol"/>
                <a:ea typeface="MT Symbol"/>
              </a:rPr>
              <a:t></a:t>
            </a:r>
            <a:r>
              <a:rPr b="0" lang="de-AT" sz="1200" spc="-1" strike="noStrike">
                <a:solidFill>
                  <a:srgbClr val="3333cc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46040" y="4359240"/>
            <a:ext cx="142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3333cc"/>
                </a:solidFill>
                <a:latin typeface="MT Symbol"/>
                <a:ea typeface="MT Symbol"/>
              </a:rPr>
              <a:t></a:t>
            </a:r>
            <a:r>
              <a:rPr b="0" lang="de-AT" sz="1200" spc="-1" strike="noStrike">
                <a:solidFill>
                  <a:srgbClr val="3333c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87520" y="4359240"/>
            <a:ext cx="142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3333cc"/>
                </a:solidFill>
                <a:latin typeface="MT Symbol"/>
                <a:ea typeface="MT Symbol"/>
              </a:rPr>
              <a:t></a:t>
            </a:r>
            <a:r>
              <a:rPr b="0" lang="de-AT" sz="1200" spc="-1" strike="noStrike">
                <a:solidFill>
                  <a:srgbClr val="3333cc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266960" y="3787920"/>
            <a:ext cx="142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3333cc"/>
                </a:solidFill>
                <a:latin typeface="MT Symbol"/>
                <a:ea typeface="MT Symbol"/>
              </a:rPr>
              <a:t></a:t>
            </a:r>
            <a:r>
              <a:rPr b="0" lang="de-AT" sz="12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393680" y="3191040"/>
            <a:ext cx="142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3333cc"/>
                </a:solidFill>
                <a:latin typeface="MT Symbol"/>
                <a:ea typeface="MT Symbol"/>
              </a:rPr>
              <a:t></a:t>
            </a:r>
            <a:r>
              <a:rPr b="0" lang="de-AT" sz="12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8040" y="2657520"/>
            <a:ext cx="227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3333cc"/>
                </a:solidFill>
                <a:latin typeface="MT Symbol"/>
                <a:ea typeface="MT Symbol"/>
              </a:rPr>
              <a:t></a:t>
            </a:r>
            <a:r>
              <a:rPr b="0" lang="de-AT" sz="1200" spc="-1" strike="noStrike">
                <a:solidFill>
                  <a:srgbClr val="3333cc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8040" y="2124000"/>
            <a:ext cx="227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3333cc"/>
                </a:solidFill>
                <a:latin typeface="MT Symbol"/>
                <a:ea typeface="MT Symbol"/>
              </a:rPr>
              <a:t></a:t>
            </a:r>
            <a:r>
              <a:rPr b="0" lang="de-AT" sz="1200" spc="-1" strike="noStrike">
                <a:solidFill>
                  <a:srgbClr val="3333cc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948920" y="1979640"/>
            <a:ext cx="3237120" cy="3286800"/>
            <a:chOff x="4948920" y="1979640"/>
            <a:chExt cx="3237120" cy="3286800"/>
          </a:xfrm>
        </p:grpSpPr>
        <p:sp>
          <p:nvSpPr>
            <p:cNvPr id="125" name=""/>
            <p:cNvSpPr/>
            <p:nvPr/>
          </p:nvSpPr>
          <p:spPr>
            <a:xfrm>
              <a:off x="5141160" y="5052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948920" y="4608360"/>
              <a:ext cx="506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ac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5194440" y="4825800"/>
              <a:ext cx="0" cy="17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751000" y="505296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5803920" y="2768760"/>
              <a:ext cx="0" cy="223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30360" y="50529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6083280" y="3467160"/>
              <a:ext cx="0" cy="153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424200" y="5052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231600" y="4608360"/>
              <a:ext cx="506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ac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6477120" y="4825800"/>
              <a:ext cx="0" cy="17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008480" y="5052960"/>
              <a:ext cx="10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7061040" y="3873240"/>
              <a:ext cx="0" cy="11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465320" y="5052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273080" y="4608360"/>
              <a:ext cx="506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ac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7518240" y="4825800"/>
              <a:ext cx="0" cy="17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125920" y="50529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8178840" y="3467160"/>
              <a:ext cx="0" cy="153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258600" y="4214880"/>
              <a:ext cx="41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e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6477120" y="4432320"/>
              <a:ext cx="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299720" y="4214880"/>
              <a:ext cx="41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e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7518240" y="4432320"/>
              <a:ext cx="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6477120" y="4013280"/>
              <a:ext cx="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7531200" y="4013280"/>
              <a:ext cx="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6477120" y="4013280"/>
              <a:ext cx="105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855120" y="3643200"/>
              <a:ext cx="367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xp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083280" y="3467160"/>
              <a:ext cx="2082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7061040" y="3301560"/>
              <a:ext cx="0" cy="3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03280" y="3046320"/>
              <a:ext cx="506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ac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5194440" y="2870280"/>
              <a:ext cx="0" cy="172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194440" y="2870280"/>
              <a:ext cx="185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7061040" y="2869920"/>
              <a:ext cx="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610600" y="2513160"/>
              <a:ext cx="41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e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635800" y="1979640"/>
              <a:ext cx="367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xp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5803920" y="2222280"/>
              <a:ext cx="0" cy="29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1134720" y="2087640"/>
            <a:ext cx="1506240" cy="3126240"/>
            <a:chOff x="1134720" y="2087640"/>
            <a:chExt cx="1506240" cy="3126240"/>
          </a:xfrm>
        </p:grpSpPr>
        <p:sp>
          <p:nvSpPr>
            <p:cNvPr id="160" name=""/>
            <p:cNvSpPr/>
            <p:nvPr/>
          </p:nvSpPr>
          <p:spPr>
            <a:xfrm>
              <a:off x="1134720" y="2087640"/>
              <a:ext cx="92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&lt;</a:t>
              </a:r>
              <a:r>
                <a:rPr b="0" lang="de-AT" sz="1400" spc="-1" strike="noStrike">
                  <a:solidFill>
                    <a:srgbClr val="3333cc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int val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783440" y="2519280"/>
              <a:ext cx="78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&lt;</a:t>
              </a:r>
              <a:r>
                <a:rPr b="0" lang="de-AT" sz="1400" spc="-1" strike="noStrike">
                  <a:solidFill>
                    <a:srgbClr val="3333cc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val1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783440" y="2747880"/>
              <a:ext cx="78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&lt;</a:t>
              </a:r>
              <a:r>
                <a:rPr b="0" lang="de-AT" sz="1400" spc="-1" strike="noStrike">
                  <a:solidFill>
                    <a:srgbClr val="3333cc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val1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85480" y="3294000"/>
              <a:ext cx="92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&lt;</a:t>
              </a:r>
              <a:r>
                <a:rPr b="0" lang="de-AT" sz="1400" spc="-1" strike="noStrike">
                  <a:solidFill>
                    <a:srgbClr val="3333cc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int val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859760" y="3700440"/>
              <a:ext cx="78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&lt;</a:t>
              </a:r>
              <a:r>
                <a:rPr b="0" lang="de-AT" sz="1400" spc="-1" strike="noStrike">
                  <a:solidFill>
                    <a:srgbClr val="3333cc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val1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859760" y="3929040"/>
              <a:ext cx="78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&lt;</a:t>
              </a:r>
              <a:r>
                <a:rPr b="0" lang="de-AT" sz="1400" spc="-1" strike="noStrike">
                  <a:solidFill>
                    <a:srgbClr val="3333cc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val1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99600" y="4487760"/>
              <a:ext cx="92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&lt;</a:t>
              </a:r>
              <a:r>
                <a:rPr b="0" lang="de-AT" sz="1400" spc="-1" strike="noStrike">
                  <a:solidFill>
                    <a:srgbClr val="3333cc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int val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555200" y="4906800"/>
              <a:ext cx="68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&lt;</a:t>
              </a:r>
              <a:r>
                <a:rPr b="0" lang="de-AT" sz="1400" spc="-1" strike="noStrike">
                  <a:solidFill>
                    <a:srgbClr val="3333cc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val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491480" y="3497400"/>
              <a:ext cx="68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&lt;</a:t>
              </a:r>
              <a:r>
                <a:rPr b="0" lang="de-AT" sz="1400" spc="-1" strike="noStrike">
                  <a:solidFill>
                    <a:srgbClr val="3333cc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val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389960" y="2303640"/>
              <a:ext cx="68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&lt;</a:t>
              </a:r>
              <a:r>
                <a:rPr b="0" lang="de-AT" sz="1400" spc="-1" strike="noStrike">
                  <a:solidFill>
                    <a:srgbClr val="3333cc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val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3127-BF82-4FA4-BAF3-FB52FC0EDE1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Transforming an ATG into a Parser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82440" y="1541520"/>
            <a:ext cx="323136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xpr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&lt;</a:t>
            </a:r>
            <a:r>
              <a:rPr b="0" lang="de-AT" sz="1400" spc="-1" strike="noStrike">
                <a:solidFill>
                  <a:srgbClr val="3333cc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nt val&gt;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(. int val1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&lt;</a:t>
            </a:r>
            <a:r>
              <a:rPr b="0" lang="de-AT" sz="1400" spc="-1" strike="noStrike">
                <a:solidFill>
                  <a:srgbClr val="3333cc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va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 "+" Term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&lt;</a:t>
            </a:r>
            <a:r>
              <a:rPr b="0" lang="de-AT" sz="1400" spc="-1" strike="noStrike">
                <a:solidFill>
                  <a:srgbClr val="3333cc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val1&gt;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(. val += val1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  "-" Term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&lt;</a:t>
            </a:r>
            <a:r>
              <a:rPr b="0" lang="de-AT" sz="1400" spc="-1" strike="noStrike">
                <a:solidFill>
                  <a:srgbClr val="3333cc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val1&gt;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(. val -= val1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1400" y="118116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P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80280" y="3224160"/>
            <a:ext cx="2983320" cy="3290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Expr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out int va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int val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erm(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out va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la == Token.PLUS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can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val1 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Term(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out val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val += val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 else if (la == Token.MINUS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can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erm(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out val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val -= val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 else break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1400" y="287028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Parsing 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59280" y="3460680"/>
            <a:ext cx="3868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62576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nput attribut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MT Symbol"/>
                <a:ea typeface="MT Symbol"/>
              </a:rPr>
              <a:t>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arame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62576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output atribut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MT Symbol"/>
                <a:ea typeface="MT Symbol"/>
              </a:rPr>
              <a:t>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parame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62576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emantic actions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MT Symbol"/>
                <a:ea typeface="MT Symbol"/>
              </a:rPr>
              <a:t>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mbedded Java 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003560" y="5192640"/>
            <a:ext cx="48258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erminal symbols have no input attribu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n our form of ATGs they also have no output attribute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but their value is computed from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token.str or token.val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BE76-EB58-4A62-BF8D-1ACCE80251D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2T09:29:13Z</dcterms:created>
  <dc:creator>Mössenböck</dc:creator>
  <dc:description/>
  <dc:language>en-US</dc:language>
  <cp:lastModifiedBy>ml</cp:lastModifiedBy>
  <cp:lastPrinted>2001-09-28T08:52:55Z</cp:lastPrinted>
  <dcterms:modified xsi:type="dcterms:W3CDTF">2006-02-08T16:32:28Z</dcterms:modified>
  <cp:revision>495</cp:revision>
  <dc:subject/>
  <dc:title>Javascript-Anweisungen</dc:title>
</cp:coreProperties>
</file>